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7.png" ContentType="image/png"/>
  <Override PartName="/ppt/media/image24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16B3-8FE0-4908-9335-73BD66D226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254-5318-4D76-A3EC-5519544E08FA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7481-21DB-4833-81D0-1721486193C0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переменной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4763-9276-475C-B8B4-77D99CC47620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1552-BA2D-47C9-89E9-6450C46EC0DE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- ответ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33C-D1DA-4454-9BD6-AF7E651DDA36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пояснить связь первообразной и производной, затем таблицу производных прокомментировать справа налево, потом перейти к интегр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B46-9EB6-4379-A290-6F7815E6AE0A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AEE-CE43-4AEC-86CA-81A9371D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EC0-7290-46AE-ADE9-389B8BA4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16D-F806-488A-AF80-DBFD67CB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69B-57E7-4C1B-94A3-077C4EC1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4DAC-EB94-4EC9-B5CC-14A5ADAF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9F24-F129-4B72-8523-C07F0CC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E86B-0F5C-449F-8F53-4A04A320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0E05-6041-4011-AEAA-B83E89D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AD12-DB87-42D3-8C3F-BE719547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DBFD-56D7-455F-BE39-E6903C72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4169-7FE3-4ACF-867D-C0F6302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8FB-EF8E-42B1-B677-C5573115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4A86-F45F-47D8-8A29-28294BF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F0BF-202C-4935-9D7A-6479DD28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AF6D-90E9-4244-BBAA-14B73A6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7AC9-EDE5-4196-B696-AC20E41F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EDFF-7453-4836-AC59-DE45434E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91F-FA37-4816-9D7E-4F6A9152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DF1-B484-4E95-8CD6-890D96B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F7F-5FB1-4E3D-B5EA-1A317E72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434-EC2E-41E8-ACB3-028AA0A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209-3DFE-4906-9B7A-A56829A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C06-0527-4C3B-A3C8-C68F3084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403-9CA7-405F-83DD-5A83253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7B5D-05A0-4F3E-9570-14F164AA5A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6D27-B1A4-4A0B-BFE4-E3BA7B8E034F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9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4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hyperlink" Target="http://machinelearning.ru/wiki/index.php?title=&#1048;&#1079;&#1086;&#1073;&#1088;&#1072;&#1078;&#1077;&#1085;&#1080;&#1077;:Q11.png" TargetMode="External"/><Relationship Id="rId6" Type="http://schemas.openxmlformats.org/officeDocument/2006/relationships/image" Target="../media/image107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тегральное исчис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 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851280" y="2205000"/>
                <a:ext cx="259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3924360" y="3500280"/>
                <a:ext cx="2663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χdχ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χ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2916360" y="4581360"/>
                <a:ext cx="4614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28" name="Picture 7" descr="j0212957"/>
          <p:cNvPicPr/>
          <p:nvPr/>
        </p:nvPicPr>
        <p:blipFill>
          <a:blip r:embed="rId1"/>
          <a:stretch/>
        </p:blipFill>
        <p:spPr>
          <a:xfrm flipH="1">
            <a:off x="1186920" y="5877000"/>
            <a:ext cx="505080" cy="3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j0212957"/>
          <p:cNvPicPr/>
          <p:nvPr/>
        </p:nvPicPr>
        <p:blipFill>
          <a:blip r:embed="rId2"/>
          <a:stretch/>
        </p:blipFill>
        <p:spPr>
          <a:xfrm flipH="1">
            <a:off x="684360" y="6021360"/>
            <a:ext cx="504720" cy="31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j0212957"/>
          <p:cNvPicPr/>
          <p:nvPr/>
        </p:nvPicPr>
        <p:blipFill>
          <a:blip r:embed="rId3"/>
          <a:stretch/>
        </p:blipFill>
        <p:spPr>
          <a:xfrm flipH="1">
            <a:off x="1763640" y="5877000"/>
            <a:ext cx="50328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4284720" y="566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Инвариантность !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5076720" y="2852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076720" y="4076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284720" y="5661000"/>
            <a:ext cx="2303280" cy="576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112 -0.1463 C 0.21893 -0.11968 0.22691 -0.09283 0.19167 -0.06852 C 0.15643 -0.04421 0.07813 -0.02222 -1.94444E-006 2.96296E-006 E">
                                      <p:cBhvr>
                                        <p:cTn id="30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21 -0.14259 C 0.39461 -0.10463 0.41336 -0.06643 0.35069 -0.04259 C 0.28802 -0.01875 0.14392 -0.00949 4.72222E-006 -2.59259E-006 E">
                                      <p:cBhvr>
                                        <p:cTn id="30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528 -0.16297 C 0.64913 -0.11366 0.68316 -0.06412 0.58038 -0.03704 C 0.47795 -0.00996 0.23871 -0.0051 1.66667E-006 7.40741E-007 E">
                                      <p:cBhvr>
                                        <p:cTn id="31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77058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Объект 5"/>
          <p:cNvGraphicFramePr/>
          <p:nvPr/>
        </p:nvGraphicFramePr>
        <p:xfrm>
          <a:off x="1116000" y="2349360"/>
          <a:ext cx="15908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49360"/>
                    <a:ext cx="1590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Объект 6"/>
          <p:cNvGraphicFramePr/>
          <p:nvPr/>
        </p:nvGraphicFramePr>
        <p:xfrm>
          <a:off x="1042920" y="3573360"/>
          <a:ext cx="3319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573360"/>
                    <a:ext cx="3319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1" name="Содержимое 7"/>
              <p:cNvSpPr txBox="1"/>
              <p:nvPr/>
            </p:nvSpPr>
            <p:spPr>
              <a:xfrm>
                <a:off x="5580000" y="2421000"/>
                <a:ext cx="2070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Объект 8"/>
          <p:cNvGraphicFramePr/>
          <p:nvPr/>
        </p:nvGraphicFramePr>
        <p:xfrm>
          <a:off x="826920" y="4653000"/>
          <a:ext cx="51530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653000"/>
                    <a:ext cx="515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Объект 10"/>
          <p:cNvGraphicFramePr/>
          <p:nvPr/>
        </p:nvGraphicFramePr>
        <p:xfrm>
          <a:off x="5945040" y="3789360"/>
          <a:ext cx="9306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5040" y="3789360"/>
                    <a:ext cx="93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11"/>
          <p:cNvGraphicFramePr/>
          <p:nvPr/>
        </p:nvGraphicFramePr>
        <p:xfrm>
          <a:off x="2184480" y="5715000"/>
          <a:ext cx="17985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4480" y="5715000"/>
                    <a:ext cx="1798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18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посредственное интег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905120"/>
            <a:ext cx="48448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м формулу (10)   из таблицы основных интеграл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2920" y="1734840"/>
            <a:ext cx="4249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Объект 6"/>
          <p:cNvGraphicFramePr/>
          <p:nvPr/>
        </p:nvGraphicFramePr>
        <p:xfrm>
          <a:off x="1042920" y="2349360"/>
          <a:ext cx="162720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6272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Содержимое 7"/>
          <p:cNvGraphicFramePr/>
          <p:nvPr/>
        </p:nvGraphicFramePr>
        <p:xfrm>
          <a:off x="4716360" y="2060640"/>
          <a:ext cx="410364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Содержимое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060640"/>
                    <a:ext cx="4103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Объект 8"/>
          <p:cNvGraphicFramePr/>
          <p:nvPr/>
        </p:nvGraphicFramePr>
        <p:xfrm>
          <a:off x="3924360" y="4437000"/>
          <a:ext cx="3917880" cy="114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437000"/>
                    <a:ext cx="3917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Объект 9"/>
          <p:cNvGraphicFramePr/>
          <p:nvPr/>
        </p:nvGraphicFramePr>
        <p:xfrm>
          <a:off x="1835280" y="5445000"/>
          <a:ext cx="199224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445000"/>
                    <a:ext cx="19922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36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3200"/>
            </a:br>
            <a:br>
              <a:rPr sz="28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 РАЗЛОЖЕНИЕ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основывается на применении свойства  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0560" y="1989000"/>
            <a:ext cx="4249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Содержимое 5"/>
          <p:cNvGraphicFramePr/>
          <p:nvPr/>
        </p:nvGraphicFramePr>
        <p:xfrm>
          <a:off x="6084720" y="2060640"/>
          <a:ext cx="287028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060640"/>
                    <a:ext cx="28702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Объект 6"/>
          <p:cNvGraphicFramePr/>
          <p:nvPr/>
        </p:nvGraphicFramePr>
        <p:xfrm>
          <a:off x="611280" y="2349360"/>
          <a:ext cx="148104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349360"/>
                    <a:ext cx="1481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Объект 8"/>
          <p:cNvGraphicFramePr/>
          <p:nvPr/>
        </p:nvGraphicFramePr>
        <p:xfrm>
          <a:off x="179280" y="3500280"/>
          <a:ext cx="561996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500280"/>
                    <a:ext cx="56199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9"/>
          <p:cNvGraphicFramePr/>
          <p:nvPr/>
        </p:nvGraphicFramePr>
        <p:xfrm>
          <a:off x="1042920" y="4437000"/>
          <a:ext cx="342432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437000"/>
                    <a:ext cx="3424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Прямая соединительная линия 11"/>
          <p:cNvSpPr/>
          <p:nvPr/>
        </p:nvSpPr>
        <p:spPr>
          <a:xfrm>
            <a:off x="5724360" y="2060640"/>
            <a:ext cx="61920" cy="3889440"/>
          </a:xfrm>
          <a:prstGeom prst="line">
            <a:avLst/>
          </a:prstGeom>
          <a:ln w="63360">
            <a:solidFill>
              <a:srgbClr val="26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Прямая соединительная линия 16"/>
          <p:cNvSpPr/>
          <p:nvPr/>
        </p:nvSpPr>
        <p:spPr>
          <a:xfrm>
            <a:off x="5796000" y="4221000"/>
            <a:ext cx="2952720" cy="0"/>
          </a:xfrm>
          <a:prstGeom prst="line">
            <a:avLst/>
          </a:prstGeom>
          <a:ln w="31680">
            <a:solidFill>
              <a:srgbClr val="26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2" name="Объект 19"/>
          <p:cNvGraphicFramePr/>
          <p:nvPr/>
        </p:nvGraphicFramePr>
        <p:xfrm>
          <a:off x="1116000" y="5732640"/>
          <a:ext cx="3346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Объект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5732640"/>
                    <a:ext cx="3346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9"/>
          <p:cNvSpPr/>
          <p:nvPr/>
        </p:nvSpPr>
        <p:spPr>
          <a:xfrm>
            <a:off x="4572000" y="4869000"/>
            <a:ext cx="1800360" cy="28872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5" name="Объект 21"/>
          <p:cNvGraphicFramePr/>
          <p:nvPr/>
        </p:nvGraphicFramePr>
        <p:xfrm>
          <a:off x="6588000" y="4292640"/>
          <a:ext cx="2017800" cy="140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4292640"/>
                    <a:ext cx="2017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22"/>
          <p:cNvSpPr/>
          <p:nvPr/>
        </p:nvSpPr>
        <p:spPr>
          <a:xfrm>
            <a:off x="4577040" y="61358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78" name="Объект 23"/>
          <p:cNvGraphicFramePr/>
          <p:nvPr/>
        </p:nvGraphicFramePr>
        <p:xfrm>
          <a:off x="5940360" y="5805360"/>
          <a:ext cx="1855800" cy="90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Объект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0360" y="5805360"/>
                    <a:ext cx="18558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302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й интеграл удается  "свести" к табличному за счет некоторых преобразований в выражениях под знаком дифференциала. При этом часто используются  следующие форму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Содержимое 5"/>
          <p:cNvGraphicFramePr/>
          <p:nvPr/>
        </p:nvGraphicFramePr>
        <p:xfrm>
          <a:off x="471600" y="2852640"/>
          <a:ext cx="23526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852640"/>
                    <a:ext cx="2352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6"/>
          <p:cNvGraphicFramePr/>
          <p:nvPr/>
        </p:nvGraphicFramePr>
        <p:xfrm>
          <a:off x="3125880" y="3056040"/>
          <a:ext cx="20286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3056040"/>
                    <a:ext cx="20286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7"/>
          <p:cNvGraphicFramePr/>
          <p:nvPr/>
        </p:nvGraphicFramePr>
        <p:xfrm>
          <a:off x="5011560" y="3557520"/>
          <a:ext cx="22608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1560" y="3557520"/>
                    <a:ext cx="2260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8"/>
          <p:cNvGraphicFramePr/>
          <p:nvPr/>
        </p:nvGraphicFramePr>
        <p:xfrm>
          <a:off x="295200" y="3629160"/>
          <a:ext cx="2227320" cy="97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200" y="3629160"/>
                    <a:ext cx="2227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Объект 9"/>
          <p:cNvGraphicFramePr/>
          <p:nvPr/>
        </p:nvGraphicFramePr>
        <p:xfrm>
          <a:off x="2676600" y="3629160"/>
          <a:ext cx="1950840" cy="97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3629160"/>
                    <a:ext cx="19508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Объект 10"/>
          <p:cNvGraphicFramePr/>
          <p:nvPr/>
        </p:nvGraphicFramePr>
        <p:xfrm>
          <a:off x="3564000" y="4653000"/>
          <a:ext cx="296388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653000"/>
                    <a:ext cx="2963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Объект 11"/>
          <p:cNvGraphicFramePr/>
          <p:nvPr/>
        </p:nvGraphicFramePr>
        <p:xfrm>
          <a:off x="250920" y="4738680"/>
          <a:ext cx="283032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4738680"/>
                    <a:ext cx="2830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Объект 12"/>
          <p:cNvGraphicFramePr/>
          <p:nvPr/>
        </p:nvGraphicFramePr>
        <p:xfrm>
          <a:off x="3132000" y="5500800"/>
          <a:ext cx="2367000" cy="90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5500800"/>
                    <a:ext cx="2367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Объект 13"/>
          <p:cNvGraphicFramePr/>
          <p:nvPr/>
        </p:nvGraphicFramePr>
        <p:xfrm>
          <a:off x="210960" y="5500800"/>
          <a:ext cx="2787840" cy="93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960" y="5500800"/>
                    <a:ext cx="27878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Объект 14"/>
          <p:cNvGraphicFramePr/>
          <p:nvPr/>
        </p:nvGraphicFramePr>
        <p:xfrm>
          <a:off x="5616720" y="5487840"/>
          <a:ext cx="332892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1" name="Объект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16720" y="5487840"/>
                    <a:ext cx="3328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т факт, что если известен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Объект 5"/>
          <p:cNvGraphicFramePr/>
          <p:nvPr/>
        </p:nvGraphicFramePr>
        <p:xfrm>
          <a:off x="2293920" y="2405160"/>
          <a:ext cx="34336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405160"/>
                    <a:ext cx="34336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7"/>
          <p:cNvSpPr/>
          <p:nvPr/>
        </p:nvSpPr>
        <p:spPr>
          <a:xfrm>
            <a:off x="246960" y="335772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авенство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07" name="Объект 8"/>
          <p:cNvGraphicFramePr/>
          <p:nvPr/>
        </p:nvGraphicFramePr>
        <p:xfrm>
          <a:off x="3083040" y="3219480"/>
          <a:ext cx="31255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3040" y="3219480"/>
                    <a:ext cx="3125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Прямоугольник 9"/>
          <p:cNvSpPr/>
          <p:nvPr/>
        </p:nvSpPr>
        <p:spPr>
          <a:xfrm>
            <a:off x="250920" y="4089240"/>
            <a:ext cx="828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т справедливым для любой дифференцируемой функции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0" name="Объект 10"/>
          <p:cNvGraphicFramePr/>
          <p:nvPr/>
        </p:nvGraphicFramePr>
        <p:xfrm>
          <a:off x="3084480" y="4606920"/>
          <a:ext cx="16113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4480" y="4606920"/>
                    <a:ext cx="1611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Прямоугольник 12"/>
          <p:cNvSpPr/>
          <p:nvPr/>
        </p:nvSpPr>
        <p:spPr>
          <a:xfrm>
            <a:off x="250920" y="5157720"/>
            <a:ext cx="295272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: Найти  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189000" y="615636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4" name="Объект 14"/>
          <p:cNvGraphicFramePr/>
          <p:nvPr/>
        </p:nvGraphicFramePr>
        <p:xfrm>
          <a:off x="2627280" y="5157720"/>
          <a:ext cx="135576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157720"/>
                    <a:ext cx="1355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Объект 15"/>
          <p:cNvGraphicFramePr/>
          <p:nvPr/>
        </p:nvGraphicFramePr>
        <p:xfrm>
          <a:off x="2471760" y="5715000"/>
          <a:ext cx="636732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7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71760" y="5715000"/>
                    <a:ext cx="6367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504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332000" y="2444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: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20" name="Объект 1"/>
          <p:cNvGraphicFramePr/>
          <p:nvPr/>
        </p:nvGraphicFramePr>
        <p:xfrm>
          <a:off x="3348000" y="1628640"/>
          <a:ext cx="16876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1687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Объект 2"/>
          <p:cNvGraphicFramePr/>
          <p:nvPr/>
        </p:nvGraphicFramePr>
        <p:xfrm>
          <a:off x="539640" y="3213000"/>
          <a:ext cx="3965760" cy="13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213000"/>
                    <a:ext cx="396576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Объект 3"/>
          <p:cNvGraphicFramePr/>
          <p:nvPr/>
        </p:nvGraphicFramePr>
        <p:xfrm>
          <a:off x="468360" y="4869000"/>
          <a:ext cx="382428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38242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Объект 9"/>
          <p:cNvGraphicFramePr/>
          <p:nvPr/>
        </p:nvGraphicFramePr>
        <p:xfrm>
          <a:off x="5054760" y="3986280"/>
          <a:ext cx="3787560" cy="95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4760" y="3986280"/>
                    <a:ext cx="37875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2"/>
          <p:cNvSpPr/>
          <p:nvPr/>
        </p:nvSpPr>
        <p:spPr>
          <a:xfrm>
            <a:off x="5003640" y="4076640"/>
            <a:ext cx="3889440" cy="1008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AutoShape 23"/>
          <p:cNvSpPr/>
          <p:nvPr/>
        </p:nvSpPr>
        <p:spPr>
          <a:xfrm rot="2340600">
            <a:off x="4051440" y="4392720"/>
            <a:ext cx="1058760" cy="155520"/>
          </a:xfrm>
          <a:prstGeom prst="rightArrow">
            <a:avLst>
              <a:gd name="adj1" fmla="val 50000"/>
              <a:gd name="adj2" fmla="val 62185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3710160" y="6012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31" name="Объект 13"/>
          <p:cNvGraphicFramePr/>
          <p:nvPr/>
        </p:nvGraphicFramePr>
        <p:xfrm>
          <a:off x="5149800" y="5856120"/>
          <a:ext cx="182736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9800" y="5856120"/>
                    <a:ext cx="1827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628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1"/>
          <p:cNvGraphicFramePr/>
          <p:nvPr/>
        </p:nvGraphicFramePr>
        <p:xfrm>
          <a:off x="900000" y="2492280"/>
          <a:ext cx="2278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2278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 txBox="1"/>
          <p:nvPr/>
        </p:nvSpPr>
        <p:spPr>
          <a:xfrm>
            <a:off x="5105160" y="1905120"/>
            <a:ext cx="3429000" cy="1092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03280" y="4183200"/>
            <a:ext cx="3745080" cy="1117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Объект 3"/>
              <p:cNvSpPr txBox="1"/>
              <p:nvPr/>
            </p:nvSpPr>
            <p:spPr>
              <a:xfrm>
                <a:off x="5435640" y="1916280"/>
                <a:ext cx="317664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0" name="Объект 5"/>
          <p:cNvGraphicFramePr/>
          <p:nvPr/>
        </p:nvGraphicFramePr>
        <p:xfrm>
          <a:off x="5580000" y="4292640"/>
          <a:ext cx="27590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292640"/>
                    <a:ext cx="2759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Объект 8"/>
          <p:cNvGraphicFramePr/>
          <p:nvPr/>
        </p:nvGraphicFramePr>
        <p:xfrm>
          <a:off x="2268360" y="3213000"/>
          <a:ext cx="33102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213000"/>
                    <a:ext cx="3310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AutoShape 23"/>
          <p:cNvSpPr/>
          <p:nvPr/>
        </p:nvSpPr>
        <p:spPr>
          <a:xfrm rot="2340600">
            <a:off x="4051080" y="4254120"/>
            <a:ext cx="1058760" cy="154080"/>
          </a:xfrm>
          <a:prstGeom prst="rightArrow">
            <a:avLst>
              <a:gd name="adj1" fmla="val 50000"/>
              <a:gd name="adj2" fmla="val 6276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5" name="Объект 9"/>
          <p:cNvGraphicFramePr/>
          <p:nvPr/>
        </p:nvGraphicFramePr>
        <p:xfrm>
          <a:off x="503280" y="4221000"/>
          <a:ext cx="3246480" cy="223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280" y="4221000"/>
                    <a:ext cx="324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Прямоугольник 10"/>
          <p:cNvSpPr/>
          <p:nvPr/>
        </p:nvSpPr>
        <p:spPr>
          <a:xfrm>
            <a:off x="3637800" y="5940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48" name="Объект 11"/>
          <p:cNvGraphicFramePr/>
          <p:nvPr/>
        </p:nvGraphicFramePr>
        <p:xfrm>
          <a:off x="5011560" y="5729400"/>
          <a:ext cx="2468880" cy="7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1560" y="5729400"/>
                    <a:ext cx="24688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дведение  под  знак дифференц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          некоторая первообразная для функции          . 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            некоторые числ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Объект 5"/>
          <p:cNvGraphicFramePr/>
          <p:nvPr/>
        </p:nvGraphicFramePr>
        <p:xfrm>
          <a:off x="2916360" y="1989000"/>
          <a:ext cx="104292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89000"/>
                    <a:ext cx="1042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Объект 6"/>
          <p:cNvGraphicFramePr/>
          <p:nvPr/>
        </p:nvGraphicFramePr>
        <p:xfrm>
          <a:off x="1908000" y="2492280"/>
          <a:ext cx="782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492280"/>
                    <a:ext cx="782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Объект 8"/>
          <p:cNvGraphicFramePr/>
          <p:nvPr/>
        </p:nvGraphicFramePr>
        <p:xfrm>
          <a:off x="4027320" y="2349360"/>
          <a:ext cx="438480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7320" y="2349360"/>
                    <a:ext cx="43848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Объект 9"/>
          <p:cNvGraphicFramePr/>
          <p:nvPr/>
        </p:nvGraphicFramePr>
        <p:xfrm>
          <a:off x="1476360" y="3141720"/>
          <a:ext cx="97632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3141720"/>
                    <a:ext cx="976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Объект 10"/>
          <p:cNvGraphicFramePr/>
          <p:nvPr/>
        </p:nvGraphicFramePr>
        <p:xfrm>
          <a:off x="5508720" y="3141720"/>
          <a:ext cx="1044360" cy="50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3141720"/>
                    <a:ext cx="1044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22"/>
          <p:cNvSpPr/>
          <p:nvPr/>
        </p:nvSpPr>
        <p:spPr>
          <a:xfrm>
            <a:off x="2484360" y="3770280"/>
            <a:ext cx="3959280" cy="595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002400" y="378936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астные случаи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64" name="Объект 13"/>
          <p:cNvGraphicFramePr/>
          <p:nvPr/>
        </p:nvGraphicFramePr>
        <p:xfrm>
          <a:off x="468360" y="4508640"/>
          <a:ext cx="435780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5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08640"/>
                    <a:ext cx="4357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Объект 14"/>
          <p:cNvGraphicFramePr/>
          <p:nvPr/>
        </p:nvGraphicFramePr>
        <p:xfrm>
          <a:off x="5148360" y="4581360"/>
          <a:ext cx="3676680" cy="101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7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4581360"/>
                    <a:ext cx="36766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Объект 16"/>
          <p:cNvGraphicFramePr/>
          <p:nvPr/>
        </p:nvGraphicFramePr>
        <p:xfrm>
          <a:off x="2627280" y="5661000"/>
          <a:ext cx="3186000" cy="90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9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27280" y="5661000"/>
                    <a:ext cx="318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ые методы интегрирован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на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4247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риантность 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а перемен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2268360" y="2349360"/>
                <a:ext cx="35164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о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ифференцируем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411280" y="4797360"/>
                <a:ext cx="3360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2340000" y="3933720"/>
                <a:ext cx="354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987640" y="5553000"/>
                <a:ext cx="1330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Line 10"/>
          <p:cNvSpPr/>
          <p:nvPr/>
        </p:nvSpPr>
        <p:spPr>
          <a:xfrm>
            <a:off x="3059280" y="5229360"/>
            <a:ext cx="57600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3780000" y="5229360"/>
            <a:ext cx="93636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2"/>
              <p:cNvSpPr txBox="1"/>
              <p:nvPr/>
            </p:nvSpPr>
            <p:spPr>
              <a:xfrm>
                <a:off x="4211640" y="5516640"/>
                <a:ext cx="1781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AutoShape 15"/>
          <p:cNvSpPr/>
          <p:nvPr/>
        </p:nvSpPr>
        <p:spPr>
          <a:xfrm>
            <a:off x="6084720" y="5659560"/>
            <a:ext cx="358920" cy="73080"/>
          </a:xfrm>
          <a:prstGeom prst="rightArrow">
            <a:avLst>
              <a:gd name="adj1" fmla="val 50000"/>
              <a:gd name="adj2" fmla="val 12278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6"/>
              <p:cNvSpPr txBox="1"/>
              <p:nvPr/>
            </p:nvSpPr>
            <p:spPr>
              <a:xfrm>
                <a:off x="6588000" y="5373720"/>
                <a:ext cx="21542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7"/>
              <p:cNvSpPr txBox="1"/>
              <p:nvPr/>
            </p:nvSpPr>
            <p:spPr>
              <a:xfrm>
                <a:off x="6948360" y="6093000"/>
                <a:ext cx="1897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26828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            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образ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             в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          определена в       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3419640" y="2276640"/>
                <a:ext cx="718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3851280" y="4076640"/>
                <a:ext cx="16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3132000" y="3500280"/>
                <a:ext cx="71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5148360" y="2781360"/>
                <a:ext cx="799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6516720" y="2781360"/>
                <a:ext cx="83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6156360" y="3429000"/>
                <a:ext cx="89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1692360" y="5157720"/>
                <a:ext cx="6529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68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835280" y="2413080"/>
                <a:ext cx="6243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1919160" y="4084560"/>
                <a:ext cx="53024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6047-5D5D-4C30-8D50-264FA828AE04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70a90"/>
                </a:solidFill>
                <a:latin typeface="Times New Roman"/>
              </a:rPr>
              <a:t>ИНТЕГРИРОВАНИЕ  ПОДСТАНОВК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ля нахождения  интеграла        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функцию           так, чтобы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 она возрастала или убывала на рассматриваемом промежутке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 имела производн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 был известен интег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извольная 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5651640" y="1700280"/>
          <a:ext cx="13683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1368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2268360" y="2652840"/>
          <a:ext cx="143856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652840"/>
                    <a:ext cx="14385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427640" y="2668680"/>
          <a:ext cx="2089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2668680"/>
                    <a:ext cx="2089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8"/>
          <p:cNvSpPr/>
          <p:nvPr/>
        </p:nvSpPr>
        <p:spPr>
          <a:xfrm>
            <a:off x="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3635280" y="3141720"/>
          <a:ext cx="79236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3141720"/>
                    <a:ext cx="79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0" name="Object 13"/>
          <p:cNvGraphicFramePr/>
          <p:nvPr/>
        </p:nvGraphicFramePr>
        <p:xfrm>
          <a:off x="2268360" y="5877000"/>
          <a:ext cx="446436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5877000"/>
                    <a:ext cx="4464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AA93-CA7A-4D95-97C8-A56026B99002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878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хождения интеграла                  в подынтегральном выражении выполняют за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ирая дифференцируемую функцию        так, чтобы новое подынтегральное выражение                   было легко интегрируем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971640" y="1844640"/>
          <a:ext cx="439236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43923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8"/>
          <p:cNvGraphicFramePr/>
          <p:nvPr/>
        </p:nvGraphicFramePr>
        <p:xfrm>
          <a:off x="755640" y="2637000"/>
          <a:ext cx="64764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637000"/>
                    <a:ext cx="647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7"/>
          <p:cNvGraphicFramePr/>
          <p:nvPr/>
        </p:nvGraphicFramePr>
        <p:xfrm>
          <a:off x="5710320" y="2463840"/>
          <a:ext cx="11779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0320" y="2463840"/>
                    <a:ext cx="1177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6013440" y="2924280"/>
          <a:ext cx="1295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3440" y="2924280"/>
                    <a:ext cx="1295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9"/>
          <p:cNvSpPr/>
          <p:nvPr/>
        </p:nvSpPr>
        <p:spPr>
          <a:xfrm>
            <a:off x="5576760" y="198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504800" y="2564280"/>
            <a:ext cx="44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льная постоянна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56200" y="29959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ная по отношению к функци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3205080" y="3983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  <a:ea typeface="Times New Roman"/>
              </a:rPr>
              <a:t>.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6784560" y="256536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ункция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19" name="Object 14"/>
          <p:cNvGraphicFramePr/>
          <p:nvPr/>
        </p:nvGraphicFramePr>
        <p:xfrm>
          <a:off x="5219640" y="3573360"/>
          <a:ext cx="1297080" cy="63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573360"/>
                    <a:ext cx="129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7"/>
          <p:cNvGraphicFramePr/>
          <p:nvPr/>
        </p:nvGraphicFramePr>
        <p:xfrm>
          <a:off x="1332000" y="4365720"/>
          <a:ext cx="151128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2000" y="4365720"/>
                    <a:ext cx="1511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6"/>
          <p:cNvGraphicFramePr/>
          <p:nvPr/>
        </p:nvGraphicFramePr>
        <p:xfrm>
          <a:off x="3276720" y="4365720"/>
          <a:ext cx="2158920" cy="59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4365720"/>
                    <a:ext cx="21589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18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27" name="Object 20"/>
          <p:cNvGraphicFramePr/>
          <p:nvPr/>
        </p:nvGraphicFramePr>
        <p:xfrm>
          <a:off x="6588000" y="4797360"/>
          <a:ext cx="792360" cy="56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88000" y="4797360"/>
                    <a:ext cx="7923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0" name="Object 22"/>
          <p:cNvGraphicFramePr/>
          <p:nvPr/>
        </p:nvGraphicFramePr>
        <p:xfrm>
          <a:off x="6084720" y="5229360"/>
          <a:ext cx="115128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1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5229360"/>
                    <a:ext cx="1151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B378-036C-4529-8C4F-8CB10099EFE0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79280" y="2491920"/>
            <a:ext cx="8785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справедлива форму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395280" y="1844640"/>
          <a:ext cx="316692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3166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6"/>
          <p:cNvSpPr/>
          <p:nvPr/>
        </p:nvSpPr>
        <p:spPr>
          <a:xfrm>
            <a:off x="3672000" y="1989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где 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2200" spc="-1" strike="noStrike">
                <a:solidFill>
                  <a:srgbClr val="336666"/>
                </a:solidFill>
                <a:latin typeface="Arial"/>
              </a:rPr>
              <a:t>- произвольная постоянная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0" name="Object 7"/>
          <p:cNvGraphicFramePr/>
          <p:nvPr/>
        </p:nvGraphicFramePr>
        <p:xfrm>
          <a:off x="2340000" y="2924280"/>
          <a:ext cx="37447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924280"/>
                    <a:ext cx="374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3924360" y="3500280"/>
          <a:ext cx="1584360" cy="9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500280"/>
                    <a:ext cx="15843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46" name="Object 11"/>
          <p:cNvGraphicFramePr/>
          <p:nvPr/>
        </p:nvGraphicFramePr>
        <p:xfrm>
          <a:off x="1403280" y="4292640"/>
          <a:ext cx="6624720" cy="207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292640"/>
                    <a:ext cx="66247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1420-9A1B-4249-95AA-23209D1065BC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 р и м е р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1" name="Object 4"/>
          <p:cNvGraphicFramePr/>
          <p:nvPr/>
        </p:nvGraphicFramePr>
        <p:xfrm>
          <a:off x="611280" y="1700280"/>
          <a:ext cx="828180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818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7"/>
          <p:cNvSpPr/>
          <p:nvPr/>
        </p:nvSpPr>
        <p:spPr>
          <a:xfrm>
            <a:off x="585720" y="3356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2195640" y="3141720"/>
          <a:ext cx="223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141720"/>
                    <a:ext cx="223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57" name="Object 8"/>
          <p:cNvGraphicFramePr/>
          <p:nvPr/>
        </p:nvGraphicFramePr>
        <p:xfrm>
          <a:off x="3492360" y="4076640"/>
          <a:ext cx="223200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4076640"/>
                    <a:ext cx="22320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324000" y="5084640"/>
          <a:ext cx="842472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084640"/>
                    <a:ext cx="8424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2050-4D9E-4254-A5BC-A4F3C612628F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79280" y="5084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395280" y="1844640"/>
          <a:ext cx="828036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8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539640" y="2637000"/>
          <a:ext cx="7775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637000"/>
                    <a:ext cx="7775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9"/>
          <p:cNvSpPr/>
          <p:nvPr/>
        </p:nvSpPr>
        <p:spPr>
          <a:xfrm>
            <a:off x="656640" y="4113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О т в е т: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471" name="Object 8"/>
          <p:cNvGraphicFramePr/>
          <p:nvPr/>
        </p:nvGraphicFramePr>
        <p:xfrm>
          <a:off x="2124000" y="3860640"/>
          <a:ext cx="4824360" cy="10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3860640"/>
                    <a:ext cx="48243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числении интегралов вид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6760" y="2060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подстанов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Объект 7"/>
          <p:cNvGraphicFramePr/>
          <p:nvPr/>
        </p:nvGraphicFramePr>
        <p:xfrm>
          <a:off x="684360" y="2647800"/>
          <a:ext cx="150480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7800"/>
                    <a:ext cx="15048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Объект 9"/>
          <p:cNvGraphicFramePr/>
          <p:nvPr/>
        </p:nvGraphicFramePr>
        <p:xfrm>
          <a:off x="2340000" y="2790720"/>
          <a:ext cx="51264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790720"/>
                    <a:ext cx="512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Объект 10"/>
          <p:cNvGraphicFramePr/>
          <p:nvPr/>
        </p:nvGraphicFramePr>
        <p:xfrm>
          <a:off x="3059280" y="2654280"/>
          <a:ext cx="222408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2654280"/>
                    <a:ext cx="2224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Объект 11"/>
          <p:cNvGraphicFramePr/>
          <p:nvPr/>
        </p:nvGraphicFramePr>
        <p:xfrm>
          <a:off x="2712960" y="907920"/>
          <a:ext cx="362916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907920"/>
                    <a:ext cx="36291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Line 9"/>
          <p:cNvSpPr/>
          <p:nvPr/>
        </p:nvSpPr>
        <p:spPr>
          <a:xfrm flipH="1">
            <a:off x="4746600" y="3213000"/>
            <a:ext cx="1557360" cy="6476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Прямоугольник 13"/>
          <p:cNvSpPr/>
          <p:nvPr/>
        </p:nvSpPr>
        <p:spPr>
          <a:xfrm>
            <a:off x="5651640" y="2409840"/>
            <a:ext cx="3295440" cy="12128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Объект 15"/>
              <p:cNvSpPr txBox="1"/>
              <p:nvPr/>
            </p:nvSpPr>
            <p:spPr>
              <a:xfrm>
                <a:off x="6203880" y="2548080"/>
                <a:ext cx="2192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86" name="Объект 16"/>
          <p:cNvGraphicFramePr/>
          <p:nvPr/>
        </p:nvGraphicFramePr>
        <p:xfrm>
          <a:off x="539640" y="3268800"/>
          <a:ext cx="335304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3268800"/>
                    <a:ext cx="3353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Объект 17"/>
          <p:cNvGraphicFramePr/>
          <p:nvPr/>
        </p:nvGraphicFramePr>
        <p:xfrm>
          <a:off x="468360" y="4581360"/>
          <a:ext cx="5972040" cy="121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9" name="Объект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4581360"/>
                    <a:ext cx="59720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Объект 7"/>
          <p:cNvGraphicFramePr/>
          <p:nvPr/>
        </p:nvGraphicFramePr>
        <p:xfrm>
          <a:off x="4284720" y="620640"/>
          <a:ext cx="157140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620640"/>
                    <a:ext cx="1571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Объект 8"/>
          <p:cNvGraphicFramePr/>
          <p:nvPr/>
        </p:nvGraphicFramePr>
        <p:xfrm>
          <a:off x="2376360" y="2060640"/>
          <a:ext cx="19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6360" y="2060640"/>
                    <a:ext cx="19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Объект 9"/>
          <p:cNvGraphicFramePr/>
          <p:nvPr/>
        </p:nvGraphicFramePr>
        <p:xfrm>
          <a:off x="826920" y="2852640"/>
          <a:ext cx="40690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52640"/>
                    <a:ext cx="4069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Объект 10"/>
          <p:cNvGraphicFramePr/>
          <p:nvPr/>
        </p:nvGraphicFramePr>
        <p:xfrm>
          <a:off x="365040" y="3789360"/>
          <a:ext cx="5448240" cy="121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040" y="3789360"/>
                    <a:ext cx="5448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Овальная выноска 12"/>
          <p:cNvSpPr/>
          <p:nvPr/>
        </p:nvSpPr>
        <p:spPr>
          <a:xfrm>
            <a:off x="5364000" y="2349360"/>
            <a:ext cx="3600720" cy="1511280"/>
          </a:xfrm>
          <a:prstGeom prst="wedgeEllipseCallout">
            <a:avLst>
              <a:gd name="adj1" fmla="val -122009"/>
              <a:gd name="adj2" fmla="val 63986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0" name="Объект 14"/>
          <p:cNvGraphicFramePr/>
          <p:nvPr/>
        </p:nvGraphicFramePr>
        <p:xfrm>
          <a:off x="442800" y="5124600"/>
          <a:ext cx="3338640" cy="120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800" y="5124600"/>
                    <a:ext cx="33386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TextBox 15"/>
          <p:cNvSpPr/>
          <p:nvPr/>
        </p:nvSpPr>
        <p:spPr>
          <a:xfrm>
            <a:off x="4286520" y="54450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03" name="Объект 16"/>
          <p:cNvGraphicFramePr/>
          <p:nvPr/>
        </p:nvGraphicFramePr>
        <p:xfrm>
          <a:off x="5500800" y="5072040"/>
          <a:ext cx="2989080" cy="12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5072040"/>
                    <a:ext cx="29890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6666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13" name="Объект 1"/>
          <p:cNvGraphicFramePr/>
          <p:nvPr/>
        </p:nvGraphicFramePr>
        <p:xfrm>
          <a:off x="6031080" y="2548080"/>
          <a:ext cx="2266920" cy="111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4" name="Объект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31080" y="2548080"/>
                    <a:ext cx="22669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677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грирование тригонометрических фун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7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Объект 5"/>
          <p:cNvGraphicFramePr/>
          <p:nvPr/>
        </p:nvGraphicFramePr>
        <p:xfrm>
          <a:off x="595440" y="2103480"/>
          <a:ext cx="48607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103480"/>
                    <a:ext cx="4860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Объект 6"/>
          <p:cNvGraphicFramePr/>
          <p:nvPr/>
        </p:nvGraphicFramePr>
        <p:xfrm>
          <a:off x="826920" y="2781360"/>
          <a:ext cx="11271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81360"/>
                    <a:ext cx="1127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Box 7"/>
          <p:cNvSpPr/>
          <p:nvPr/>
        </p:nvSpPr>
        <p:spPr>
          <a:xfrm>
            <a:off x="2201760" y="270828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ные чис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2" name="Содержимое 8"/>
          <p:cNvGraphicFramePr/>
          <p:nvPr/>
        </p:nvGraphicFramePr>
        <p:xfrm>
          <a:off x="6012000" y="1844640"/>
          <a:ext cx="283680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Содержимое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844640"/>
                    <a:ext cx="28368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10"/>
          <p:cNvSpPr/>
          <p:nvPr/>
        </p:nvSpPr>
        <p:spPr>
          <a:xfrm>
            <a:off x="61848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550440" y="3860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интегр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6" name="Объект 13"/>
          <p:cNvGraphicFramePr/>
          <p:nvPr/>
        </p:nvGraphicFramePr>
        <p:xfrm>
          <a:off x="2989440" y="3716280"/>
          <a:ext cx="1796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9440" y="3716280"/>
                    <a:ext cx="1796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Line 9"/>
          <p:cNvSpPr/>
          <p:nvPr/>
        </p:nvSpPr>
        <p:spPr>
          <a:xfrm flipV="1">
            <a:off x="4859280" y="2708280"/>
            <a:ext cx="1297080" cy="1441440"/>
          </a:xfrm>
          <a:prstGeom prst="line">
            <a:avLst/>
          </a:prstGeom>
          <a:ln w="3492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29" name="Объект 15"/>
          <p:cNvGraphicFramePr/>
          <p:nvPr/>
        </p:nvGraphicFramePr>
        <p:xfrm>
          <a:off x="338040" y="4437000"/>
          <a:ext cx="7547040" cy="104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040" y="4437000"/>
                    <a:ext cx="75470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Объект 16"/>
          <p:cNvGraphicFramePr/>
          <p:nvPr/>
        </p:nvGraphicFramePr>
        <p:xfrm>
          <a:off x="611280" y="5589720"/>
          <a:ext cx="6362640" cy="104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2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5589720"/>
                    <a:ext cx="6362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Объект 5"/>
          <p:cNvGraphicFramePr/>
          <p:nvPr/>
        </p:nvGraphicFramePr>
        <p:xfrm>
          <a:off x="1835280" y="476280"/>
          <a:ext cx="3135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76280"/>
                    <a:ext cx="3135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Объект 6"/>
          <p:cNvGraphicFramePr/>
          <p:nvPr/>
        </p:nvGraphicFramePr>
        <p:xfrm>
          <a:off x="6024600" y="587520"/>
          <a:ext cx="66816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4600" y="587520"/>
                    <a:ext cx="6681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Box 7"/>
          <p:cNvSpPr/>
          <p:nvPr/>
        </p:nvSpPr>
        <p:spPr>
          <a:xfrm>
            <a:off x="6660000" y="5191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етные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38" name="Объект 8"/>
          <p:cNvGraphicFramePr/>
          <p:nvPr/>
        </p:nvGraphicFramePr>
        <p:xfrm>
          <a:off x="2173320" y="1311120"/>
          <a:ext cx="41180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3320" y="1311120"/>
                    <a:ext cx="41180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Box 10"/>
          <p:cNvSpPr/>
          <p:nvPr/>
        </p:nvSpPr>
        <p:spPr>
          <a:xfrm>
            <a:off x="61848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41" name="Объект 11"/>
          <p:cNvGraphicFramePr/>
          <p:nvPr/>
        </p:nvGraphicFramePr>
        <p:xfrm>
          <a:off x="65160" y="2840040"/>
          <a:ext cx="70740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0" y="2840040"/>
                    <a:ext cx="707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Объект 12"/>
          <p:cNvGraphicFramePr/>
          <p:nvPr/>
        </p:nvGraphicFramePr>
        <p:xfrm>
          <a:off x="179280" y="3789360"/>
          <a:ext cx="702792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3789360"/>
                    <a:ext cx="7027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3"/>
          <p:cNvGraphicFramePr/>
          <p:nvPr/>
        </p:nvGraphicFramePr>
        <p:xfrm>
          <a:off x="2268360" y="2125800"/>
          <a:ext cx="1495440" cy="72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6" name="Объект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2125800"/>
                    <a:ext cx="14954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Объект 14"/>
          <p:cNvGraphicFramePr/>
          <p:nvPr/>
        </p:nvGraphicFramePr>
        <p:xfrm>
          <a:off x="201600" y="4708440"/>
          <a:ext cx="7612200" cy="69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8" name="Объект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600" y="4708440"/>
                    <a:ext cx="76122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Прямоугольная выноска 15"/>
          <p:cNvSpPr/>
          <p:nvPr/>
        </p:nvSpPr>
        <p:spPr>
          <a:xfrm>
            <a:off x="7308720" y="3213000"/>
            <a:ext cx="1511280" cy="755640"/>
          </a:xfrm>
          <a:prstGeom prst="wedgeRectCallout">
            <a:avLst>
              <a:gd name="adj1" fmla="val -66550"/>
              <a:gd name="adj2" fmla="val 141930"/>
            </a:avLst>
          </a:prstGeom>
          <a:solidFill>
            <a:srgbClr val="00b0f0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0" name="Объект 16"/>
          <p:cNvGraphicFramePr/>
          <p:nvPr/>
        </p:nvGraphicFramePr>
        <p:xfrm>
          <a:off x="7362720" y="3409920"/>
          <a:ext cx="1403280" cy="36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Объект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62720" y="3409920"/>
                    <a:ext cx="1403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Объект 17"/>
          <p:cNvGraphicFramePr/>
          <p:nvPr/>
        </p:nvGraphicFramePr>
        <p:xfrm>
          <a:off x="534960" y="5502240"/>
          <a:ext cx="587844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3" name="Объект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4960" y="5502240"/>
                    <a:ext cx="58784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640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 разности первообразны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            удовлетвор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м теоремы Лагран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684360" y="1916280"/>
                <a:ext cx="3338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образны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я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Rectangle 6"/>
          <p:cNvSpPr/>
          <p:nvPr/>
        </p:nvSpPr>
        <p:spPr>
          <a:xfrm>
            <a:off x="539640" y="1844640"/>
            <a:ext cx="3490920" cy="792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580000" y="1989000"/>
                <a:ext cx="2452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5508720" y="1952640"/>
            <a:ext cx="2592360" cy="4683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997360" y="3068640"/>
                <a:ext cx="2268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5867280" y="3068640"/>
                <a:ext cx="1978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1955880" y="3789360"/>
                <a:ext cx="6602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1281240" y="4668840"/>
                <a:ext cx="3983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5"/>
              <p:cNvSpPr txBox="1"/>
              <p:nvPr/>
            </p:nvSpPr>
            <p:spPr>
              <a:xfrm>
                <a:off x="1411200" y="5262480"/>
                <a:ext cx="3349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5508720" y="5084640"/>
                <a:ext cx="3611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Line 17"/>
          <p:cNvSpPr/>
          <p:nvPr/>
        </p:nvSpPr>
        <p:spPr>
          <a:xfrm>
            <a:off x="4932360" y="5013360"/>
            <a:ext cx="0" cy="1368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5076720" y="5587920"/>
            <a:ext cx="36036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4211640" y="2023920"/>
            <a:ext cx="1044720" cy="433440"/>
          </a:xfrm>
          <a:prstGeom prst="rightArrow">
            <a:avLst>
              <a:gd name="adj1" fmla="val 50000"/>
              <a:gd name="adj2" fmla="val 2500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Объект 5"/>
          <p:cNvGraphicFramePr/>
          <p:nvPr/>
        </p:nvGraphicFramePr>
        <p:xfrm>
          <a:off x="2050920" y="333360"/>
          <a:ext cx="450072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33360"/>
                    <a:ext cx="4500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Прямоугольник 6"/>
          <p:cNvSpPr/>
          <p:nvPr/>
        </p:nvSpPr>
        <p:spPr>
          <a:xfrm>
            <a:off x="1765440" y="1628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57" name="Объект 7"/>
          <p:cNvGraphicFramePr/>
          <p:nvPr/>
        </p:nvGraphicFramePr>
        <p:xfrm>
          <a:off x="3255840" y="1393920"/>
          <a:ext cx="42516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5840" y="1393920"/>
                    <a:ext cx="42516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Рисунок 8" descr="Изображение:Q11.png‎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249720"/>
            <a:ext cx="8999640" cy="1474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560" name="Прямоугольник 9"/>
          <p:cNvSpPr/>
          <p:nvPr/>
        </p:nvSpPr>
        <p:spPr>
          <a:xfrm>
            <a:off x="402480" y="24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Дуга 11"/>
          <p:cNvSpPr/>
          <p:nvPr/>
        </p:nvSpPr>
        <p:spPr>
          <a:xfrm rot="18030000">
            <a:off x="4201200" y="3368880"/>
            <a:ext cx="1765080" cy="1224000"/>
          </a:xfrm>
          <a:custGeom>
            <a:avLst/>
            <a:gdLst/>
            <a:ahLst/>
            <a:rect l="l" t="t" r="r" b="b"/>
            <a:pathLst>
              <a:path stroke="0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  <a:lnTo>
                  <a:pt x="882650" y="611981"/>
                </a:lnTo>
                <a:lnTo>
                  <a:pt x="682565" y="15931"/>
                </a:lnTo>
                <a:close/>
              </a:path>
              <a:path fill="none" w="1765300" h="1223962">
                <a:moveTo>
                  <a:pt x="682565" y="15931"/>
                </a:moveTo>
                <a:cubicBezTo>
                  <a:pt x="1080526" y="-48289"/>
                  <a:pt x="1490039" y="85266"/>
                  <a:pt x="1672455" y="338765"/>
                </a:cubicBezTo>
                <a:cubicBezTo>
                  <a:pt x="1924869" y="689539"/>
                  <a:pt x="1643191" y="1112108"/>
                  <a:pt x="1094299" y="1206107"/>
                </a:cubicBezTo>
                <a:cubicBezTo>
                  <a:pt x="700860" y="1273484"/>
                  <a:pt x="291798" y="1146442"/>
                  <a:pt x="102363" y="898043"/>
                </a:cubicBezTo>
                <a:cubicBezTo>
                  <a:pt x="-163621" y="549266"/>
                  <a:pt x="108875" y="119688"/>
                  <a:pt x="659400" y="19899"/>
                </a:cubicBezTo>
              </a:path>
            </a:pathLst>
          </a:cu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гонометрическая под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68360" y="1484280"/>
          <a:ext cx="8424720" cy="40323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1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4" name="Объект 7"/>
          <p:cNvGraphicFramePr/>
          <p:nvPr/>
        </p:nvGraphicFramePr>
        <p:xfrm>
          <a:off x="1835280" y="321300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1300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Объект 8"/>
          <p:cNvGraphicFramePr/>
          <p:nvPr/>
        </p:nvGraphicFramePr>
        <p:xfrm>
          <a:off x="1908000" y="4005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005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Объект 9"/>
          <p:cNvGraphicFramePr/>
          <p:nvPr/>
        </p:nvGraphicFramePr>
        <p:xfrm>
          <a:off x="1908000" y="4724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24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Объект 10"/>
          <p:cNvGraphicFramePr/>
          <p:nvPr/>
        </p:nvGraphicFramePr>
        <p:xfrm>
          <a:off x="5076720" y="3284640"/>
          <a:ext cx="191160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3284640"/>
                    <a:ext cx="1911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11"/>
          <p:cNvGraphicFramePr/>
          <p:nvPr/>
        </p:nvGraphicFramePr>
        <p:xfrm>
          <a:off x="5327640" y="4111560"/>
          <a:ext cx="169380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27640" y="4111560"/>
                    <a:ext cx="169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Объект 12"/>
          <p:cNvGraphicFramePr/>
          <p:nvPr/>
        </p:nvGraphicFramePr>
        <p:xfrm>
          <a:off x="5094360" y="4869000"/>
          <a:ext cx="216360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5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4869000"/>
                    <a:ext cx="2163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Объект 5"/>
          <p:cNvGraphicFramePr/>
          <p:nvPr/>
        </p:nvGraphicFramePr>
        <p:xfrm>
          <a:off x="1781280" y="549360"/>
          <a:ext cx="14032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549360"/>
                    <a:ext cx="14032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Объект 6"/>
          <p:cNvGraphicFramePr/>
          <p:nvPr/>
        </p:nvGraphicFramePr>
        <p:xfrm>
          <a:off x="4130640" y="476280"/>
          <a:ext cx="1911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0640" y="476280"/>
                    <a:ext cx="1911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Прямая соединительная линия 8"/>
          <p:cNvSpPr/>
          <p:nvPr/>
        </p:nvSpPr>
        <p:spPr>
          <a:xfrm>
            <a:off x="1042920" y="1916280"/>
            <a:ext cx="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Прямая соединительная линия 10"/>
          <p:cNvSpPr/>
          <p:nvPr/>
        </p:nvSpPr>
        <p:spPr>
          <a:xfrm>
            <a:off x="971640" y="3789360"/>
            <a:ext cx="374472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Прямая соединительная линия 12"/>
          <p:cNvSpPr/>
          <p:nvPr/>
        </p:nvSpPr>
        <p:spPr>
          <a:xfrm>
            <a:off x="1054080" y="1916280"/>
            <a:ext cx="3743280" cy="1873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Дуга 14"/>
          <p:cNvSpPr/>
          <p:nvPr/>
        </p:nvSpPr>
        <p:spPr>
          <a:xfrm rot="14131200">
            <a:off x="3993120" y="3530880"/>
            <a:ext cx="503280" cy="431640"/>
          </a:xfrm>
          <a:custGeom>
            <a:avLst/>
            <a:gdLst/>
            <a:ahLst/>
            <a:rect l="l" t="t" r="r" b="b"/>
            <a:pathLst>
              <a:path stroke="0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  <a:lnTo>
                  <a:pt x="251619" y="215900"/>
                </a:lnTo>
                <a:lnTo>
                  <a:pt x="321924" y="8599"/>
                </a:lnTo>
                <a:close/>
              </a:path>
              <a:path fill="none" w="503238" h="431800">
                <a:moveTo>
                  <a:pt x="321924" y="8599"/>
                </a:moveTo>
                <a:cubicBezTo>
                  <a:pt x="412771" y="31283"/>
                  <a:pt x="481108" y="95778"/>
                  <a:pt x="498800" y="175530"/>
                </a:cubicBezTo>
                <a:cubicBezTo>
                  <a:pt x="517865" y="261475"/>
                  <a:pt x="474598" y="348795"/>
                  <a:pt x="389239" y="396646"/>
                </a:cubicBezTo>
              </a:path>
            </a:pathLst>
          </a:cu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584" name="Объект 15"/>
          <p:cNvGraphicFramePr/>
          <p:nvPr/>
        </p:nvGraphicFramePr>
        <p:xfrm>
          <a:off x="3525840" y="3284640"/>
          <a:ext cx="3967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Объект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284640"/>
                    <a:ext cx="39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Объект 16"/>
          <p:cNvGraphicFramePr/>
          <p:nvPr/>
        </p:nvGraphicFramePr>
        <p:xfrm>
          <a:off x="755640" y="2654280"/>
          <a:ext cx="3603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654280"/>
                    <a:ext cx="3603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Объект 17"/>
          <p:cNvGraphicFramePr/>
          <p:nvPr/>
        </p:nvGraphicFramePr>
        <p:xfrm>
          <a:off x="2565360" y="2349360"/>
          <a:ext cx="36036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65360" y="2349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Объект 18"/>
          <p:cNvGraphicFramePr/>
          <p:nvPr/>
        </p:nvGraphicFramePr>
        <p:xfrm>
          <a:off x="5076720" y="2060640"/>
          <a:ext cx="3808440" cy="19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060640"/>
                    <a:ext cx="3808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Объект 19"/>
          <p:cNvGraphicFramePr/>
          <p:nvPr/>
        </p:nvGraphicFramePr>
        <p:xfrm>
          <a:off x="1407960" y="3144960"/>
          <a:ext cx="1403640" cy="66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3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7960" y="31449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Объект 20"/>
          <p:cNvGraphicFramePr/>
          <p:nvPr/>
        </p:nvGraphicFramePr>
        <p:xfrm>
          <a:off x="4125960" y="1339920"/>
          <a:ext cx="38782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5" name="Объект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25960" y="1339920"/>
                    <a:ext cx="387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Объект 22"/>
          <p:cNvGraphicFramePr/>
          <p:nvPr/>
        </p:nvGraphicFramePr>
        <p:xfrm>
          <a:off x="1017720" y="4067280"/>
          <a:ext cx="6554520" cy="26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7" name="Объект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7720" y="4067280"/>
                    <a:ext cx="655452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Объект 5"/>
          <p:cNvGraphicFramePr/>
          <p:nvPr/>
        </p:nvGraphicFramePr>
        <p:xfrm>
          <a:off x="1571760" y="692280"/>
          <a:ext cx="75373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692280"/>
                    <a:ext cx="75373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Прямоугольник 6"/>
          <p:cNvSpPr/>
          <p:nvPr/>
        </p:nvSpPr>
        <p:spPr>
          <a:xfrm>
            <a:off x="2961720" y="59500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601" name="Объект 7"/>
          <p:cNvGraphicFramePr/>
          <p:nvPr/>
        </p:nvGraphicFramePr>
        <p:xfrm>
          <a:off x="4211640" y="5635800"/>
          <a:ext cx="464976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635800"/>
                    <a:ext cx="4649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Интегрирование по ча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2195640" y="2492280"/>
                <a:ext cx="4390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6"/>
              <p:cNvSpPr txBox="1"/>
              <p:nvPr/>
            </p:nvSpPr>
            <p:spPr>
              <a:xfrm>
                <a:off x="2843280" y="4076640"/>
                <a:ext cx="22827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dv</m:t>
                        </m:r>
                        <m:r>
                          <m:t xml:space="preserve">=</m:t>
                        </m:r>
                        <m: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9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8"/>
          <p:cNvGrpSpPr/>
          <p:nvPr/>
        </p:nvGrpSpPr>
        <p:grpSpPr>
          <a:xfrm>
            <a:off x="3552120" y="2276640"/>
            <a:ext cx="1570680" cy="515160"/>
            <a:chOff x="3552120" y="2276640"/>
            <a:chExt cx="1570680" cy="515160"/>
          </a:xfrm>
        </p:grpSpPr>
        <p:sp>
          <p:nvSpPr>
            <p:cNvPr id="610" name="Freeform 8"/>
            <p:cNvSpPr/>
            <p:nvPr/>
          </p:nvSpPr>
          <p:spPr>
            <a:xfrm>
              <a:off x="4211640" y="2276640"/>
              <a:ext cx="911160" cy="5047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64" h="390">
                  <a:moveTo>
                    <a:pt x="336" y="22"/>
                  </a:moveTo>
                  <a:cubicBezTo>
                    <a:pt x="301" y="34"/>
                    <a:pt x="323" y="32"/>
                    <a:pt x="288" y="22"/>
                  </a:cubicBezTo>
                  <a:cubicBezTo>
                    <a:pt x="267" y="16"/>
                    <a:pt x="224" y="6"/>
                    <a:pt x="224" y="6"/>
                  </a:cubicBezTo>
                  <a:cubicBezTo>
                    <a:pt x="176" y="22"/>
                    <a:pt x="219" y="0"/>
                    <a:pt x="192" y="54"/>
                  </a:cubicBezTo>
                  <a:cubicBezTo>
                    <a:pt x="178" y="81"/>
                    <a:pt x="161" y="80"/>
                    <a:pt x="136" y="86"/>
                  </a:cubicBezTo>
                  <a:cubicBezTo>
                    <a:pt x="123" y="83"/>
                    <a:pt x="110" y="77"/>
                    <a:pt x="96" y="78"/>
                  </a:cubicBezTo>
                  <a:cubicBezTo>
                    <a:pt x="74" y="80"/>
                    <a:pt x="32" y="94"/>
                    <a:pt x="32" y="94"/>
                  </a:cubicBezTo>
                  <a:cubicBezTo>
                    <a:pt x="13" y="150"/>
                    <a:pt x="11" y="126"/>
                    <a:pt x="24" y="166"/>
                  </a:cubicBezTo>
                  <a:cubicBezTo>
                    <a:pt x="18" y="231"/>
                    <a:pt x="0" y="348"/>
                    <a:pt x="64" y="390"/>
                  </a:cubicBezTo>
                  <a:cubicBezTo>
                    <a:pt x="196" y="346"/>
                    <a:pt x="287" y="355"/>
                    <a:pt x="440" y="350"/>
                  </a:cubicBezTo>
                  <a:cubicBezTo>
                    <a:pt x="503" y="344"/>
                    <a:pt x="587" y="354"/>
                    <a:pt x="640" y="318"/>
                  </a:cubicBezTo>
                  <a:cubicBezTo>
                    <a:pt x="649" y="291"/>
                    <a:pt x="655" y="265"/>
                    <a:pt x="664" y="238"/>
                  </a:cubicBezTo>
                  <a:cubicBezTo>
                    <a:pt x="657" y="180"/>
                    <a:pt x="647" y="157"/>
                    <a:pt x="656" y="102"/>
                  </a:cubicBezTo>
                  <a:cubicBezTo>
                    <a:pt x="632" y="30"/>
                    <a:pt x="458" y="48"/>
                    <a:pt x="424" y="46"/>
                  </a:cubicBezTo>
                  <a:cubicBezTo>
                    <a:pt x="421" y="33"/>
                    <a:pt x="428" y="13"/>
                    <a:pt x="416" y="6"/>
                  </a:cubicBezTo>
                  <a:cubicBezTo>
                    <a:pt x="410" y="3"/>
                    <a:pt x="348" y="19"/>
                    <a:pt x="336" y="22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 rot="10990200">
              <a:off x="3563640" y="2349000"/>
              <a:ext cx="393480" cy="432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02" h="254">
                  <a:moveTo>
                    <a:pt x="66" y="0"/>
                  </a:moveTo>
                  <a:cubicBezTo>
                    <a:pt x="61" y="24"/>
                    <a:pt x="59" y="49"/>
                    <a:pt x="50" y="72"/>
                  </a:cubicBezTo>
                  <a:cubicBezTo>
                    <a:pt x="43" y="90"/>
                    <a:pt x="24" y="102"/>
                    <a:pt x="18" y="120"/>
                  </a:cubicBezTo>
                  <a:cubicBezTo>
                    <a:pt x="15" y="128"/>
                    <a:pt x="13" y="136"/>
                    <a:pt x="10" y="144"/>
                  </a:cubicBezTo>
                  <a:cubicBezTo>
                    <a:pt x="7" y="163"/>
                    <a:pt x="0" y="181"/>
                    <a:pt x="2" y="200"/>
                  </a:cubicBezTo>
                  <a:cubicBezTo>
                    <a:pt x="3" y="210"/>
                    <a:pt x="16" y="215"/>
                    <a:pt x="18" y="224"/>
                  </a:cubicBezTo>
                  <a:cubicBezTo>
                    <a:pt x="19" y="232"/>
                    <a:pt x="2" y="247"/>
                    <a:pt x="10" y="248"/>
                  </a:cubicBezTo>
                  <a:cubicBezTo>
                    <a:pt x="55" y="254"/>
                    <a:pt x="101" y="243"/>
                    <a:pt x="146" y="240"/>
                  </a:cubicBezTo>
                  <a:cubicBezTo>
                    <a:pt x="174" y="221"/>
                    <a:pt x="191" y="208"/>
                    <a:pt x="202" y="176"/>
                  </a:cubicBezTo>
                  <a:cubicBezTo>
                    <a:pt x="195" y="127"/>
                    <a:pt x="201" y="106"/>
                    <a:pt x="162" y="80"/>
                  </a:cubicBezTo>
                  <a:cubicBezTo>
                    <a:pt x="147" y="58"/>
                    <a:pt x="147" y="51"/>
                    <a:pt x="122" y="40"/>
                  </a:cubicBezTo>
                  <a:cubicBezTo>
                    <a:pt x="65" y="15"/>
                    <a:pt x="29" y="37"/>
                    <a:pt x="66" y="0"/>
                  </a:cubicBezTo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1692360" y="2205000"/>
                <a:ext cx="1434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1908000" y="3429000"/>
                <a:ext cx="3808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6"/>
              <p:cNvSpPr txBox="1"/>
              <p:nvPr/>
            </p:nvSpPr>
            <p:spPr>
              <a:xfrm>
                <a:off x="1835280" y="4221000"/>
                <a:ext cx="28414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Text Box 9"/>
          <p:cNvSpPr/>
          <p:nvPr/>
        </p:nvSpPr>
        <p:spPr>
          <a:xfrm>
            <a:off x="6711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3708360" y="2781360"/>
            <a:ext cx="7164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3780000" y="2781360"/>
            <a:ext cx="71280" cy="142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3708360" y="2997360"/>
            <a:ext cx="1157400" cy="360360"/>
            <a:chOff x="3708360" y="2997360"/>
            <a:chExt cx="1157400" cy="360360"/>
          </a:xfrm>
        </p:grpSpPr>
        <mc:AlternateContent>
          <mc:Choice xmlns:a14="http://schemas.microsoft.com/office/drawing/2010/main" Requires="a14">
            <p:sp>
              <p:nvSpPr>
                <p:cNvPr id="620" name="Object 10"/>
                <p:cNvSpPr txBox="1"/>
                <p:nvPr/>
              </p:nvSpPr>
              <p:spPr>
                <a:xfrm>
                  <a:off x="3708360" y="2997360"/>
                  <a:ext cx="3272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13"/>
                <p:cNvSpPr txBox="1"/>
                <p:nvPr/>
              </p:nvSpPr>
              <p:spPr>
                <a:xfrm>
                  <a:off x="4572000" y="2997360"/>
                  <a:ext cx="2937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2" name="Line 14"/>
          <p:cNvSpPr/>
          <p:nvPr/>
        </p:nvSpPr>
        <p:spPr>
          <a:xfrm>
            <a:off x="4500720" y="2852640"/>
            <a:ext cx="14256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Line 15"/>
          <p:cNvSpPr/>
          <p:nvPr/>
        </p:nvSpPr>
        <p:spPr>
          <a:xfrm>
            <a:off x="4572000" y="2852640"/>
            <a:ext cx="142920" cy="144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6"/>
              <p:cNvSpPr txBox="1"/>
              <p:nvPr/>
            </p:nvSpPr>
            <p:spPr>
              <a:xfrm>
                <a:off x="3203640" y="2205000"/>
                <a:ext cx="2371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пределенный интег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грирование по ча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2195640" y="2133720"/>
                <a:ext cx="4390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6"/>
              <p:cNvSpPr txBox="1"/>
              <p:nvPr/>
            </p:nvSpPr>
            <p:spPr>
              <a:xfrm>
                <a:off x="2484360" y="3429000"/>
                <a:ext cx="2879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7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8"/>
              <p:cNvSpPr txBox="1"/>
              <p:nvPr/>
            </p:nvSpPr>
            <p:spPr>
              <a:xfrm>
                <a:off x="3708360" y="5950080"/>
                <a:ext cx="1752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9"/>
              <p:cNvSpPr txBox="1"/>
              <p:nvPr/>
            </p:nvSpPr>
            <p:spPr>
              <a:xfrm>
                <a:off x="2556000" y="4221000"/>
                <a:ext cx="3774960" cy="13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Line 10"/>
          <p:cNvSpPr/>
          <p:nvPr/>
        </p:nvSpPr>
        <p:spPr>
          <a:xfrm>
            <a:off x="5508720" y="4076640"/>
            <a:ext cx="1295280" cy="50472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Line 11"/>
          <p:cNvSpPr/>
          <p:nvPr/>
        </p:nvSpPr>
        <p:spPr>
          <a:xfrm flipV="1">
            <a:off x="6300720" y="4723920"/>
            <a:ext cx="504720" cy="57636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6950520" y="45086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66"/>
                </a:solidFill>
                <a:latin typeface="Arial"/>
              </a:rPr>
              <a:t>Ч.т.д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6877080" y="4508640"/>
            <a:ext cx="719280" cy="2872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 flipH="1" flipV="1">
            <a:off x="3348000" y="5661000"/>
            <a:ext cx="574560" cy="287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5076720" y="5084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132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            первообразная для              в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любая другая первообраз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определенным интеграл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х первообраз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340000" y="2133720"/>
                <a:ext cx="576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4284720" y="213372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4965840" y="2133720"/>
                <a:ext cx="745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2340000" y="2565360"/>
                <a:ext cx="1684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4859280" y="3284640"/>
                <a:ext cx="57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2556000" y="3860640"/>
                <a:ext cx="2158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Rectangle 12"/>
          <p:cNvSpPr/>
          <p:nvPr/>
        </p:nvSpPr>
        <p:spPr>
          <a:xfrm>
            <a:off x="2556000" y="3860640"/>
            <a:ext cx="2160360" cy="863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1917720" y="5084640"/>
                <a:ext cx="22827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Text Box 14"/>
          <p:cNvSpPr/>
          <p:nvPr/>
        </p:nvSpPr>
        <p:spPr>
          <a:xfrm>
            <a:off x="5796000" y="3933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фическая иллюстрация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796000" y="3933720"/>
            <a:ext cx="2521080" cy="35892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877080" y="46530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156360" y="5445000"/>
            <a:ext cx="23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rc 19"/>
          <p:cNvSpPr/>
          <p:nvPr/>
        </p:nvSpPr>
        <p:spPr>
          <a:xfrm flipV="1">
            <a:off x="6443640" y="544500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Arc 20"/>
          <p:cNvSpPr/>
          <p:nvPr/>
        </p:nvSpPr>
        <p:spPr>
          <a:xfrm flipV="1">
            <a:off x="6443640" y="558900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rc 21"/>
          <p:cNvSpPr/>
          <p:nvPr/>
        </p:nvSpPr>
        <p:spPr>
          <a:xfrm>
            <a:off x="7308720" y="5229360"/>
            <a:ext cx="865440" cy="215640"/>
          </a:xfrm>
          <a:custGeom>
            <a:avLst/>
            <a:gdLst>
              <a:gd name="textAreaLeft" fmla="*/ 0 w 865440"/>
              <a:gd name="textAreaRight" fmla="*/ 865800 w 865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Arc 22"/>
          <p:cNvSpPr/>
          <p:nvPr/>
        </p:nvSpPr>
        <p:spPr>
          <a:xfrm flipV="1">
            <a:off x="6443640" y="573408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rc 23"/>
          <p:cNvSpPr/>
          <p:nvPr/>
        </p:nvSpPr>
        <p:spPr>
          <a:xfrm flipV="1">
            <a:off x="6372360" y="4797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Arc 24"/>
          <p:cNvSpPr/>
          <p:nvPr/>
        </p:nvSpPr>
        <p:spPr>
          <a:xfrm flipV="1">
            <a:off x="637236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rc 25"/>
          <p:cNvSpPr/>
          <p:nvPr/>
        </p:nvSpPr>
        <p:spPr>
          <a:xfrm flipV="1">
            <a:off x="6372360" y="522864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rc 26"/>
          <p:cNvSpPr/>
          <p:nvPr/>
        </p:nvSpPr>
        <p:spPr>
          <a:xfrm>
            <a:off x="7308720" y="537372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rc 27"/>
          <p:cNvSpPr/>
          <p:nvPr/>
        </p:nvSpPr>
        <p:spPr>
          <a:xfrm>
            <a:off x="7308720" y="5516640"/>
            <a:ext cx="865440" cy="216000"/>
          </a:xfrm>
          <a:custGeom>
            <a:avLst/>
            <a:gdLst>
              <a:gd name="textAreaLeft" fmla="*/ 0 w 865440"/>
              <a:gd name="textAreaRight" fmla="*/ 865800 w 865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Arc 28"/>
          <p:cNvSpPr/>
          <p:nvPr/>
        </p:nvSpPr>
        <p:spPr>
          <a:xfrm>
            <a:off x="7236000" y="5013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>
            <a:off x="7236000" y="4724280"/>
            <a:ext cx="865080" cy="287280"/>
          </a:xfrm>
          <a:custGeom>
            <a:avLst/>
            <a:gdLst>
              <a:gd name="textAreaLeft" fmla="*/ 0 w 865080"/>
              <a:gd name="textAreaRight" fmla="*/ 865440 w 86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rc 30"/>
          <p:cNvSpPr/>
          <p:nvPr/>
        </p:nvSpPr>
        <p:spPr>
          <a:xfrm>
            <a:off x="7236000" y="4581360"/>
            <a:ext cx="865080" cy="216000"/>
          </a:xfrm>
          <a:custGeom>
            <a:avLst/>
            <a:gdLst>
              <a:gd name="textAreaLeft" fmla="*/ 0 w 865080"/>
              <a:gd name="textAreaRight" fmla="*/ 865440 w 865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6372360" y="5445000"/>
            <a:ext cx="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Line 35"/>
          <p:cNvSpPr/>
          <p:nvPr/>
        </p:nvSpPr>
        <p:spPr>
          <a:xfrm>
            <a:off x="637236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8244000" y="5373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22944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8173800" y="5445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8244000" y="4941720"/>
                <a:ext cx="826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40"/>
          <p:cNvSpPr/>
          <p:nvPr/>
        </p:nvSpPr>
        <p:spPr>
          <a:xfrm>
            <a:off x="8244000" y="4941720"/>
            <a:ext cx="826920" cy="28764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Line 41"/>
          <p:cNvSpPr/>
          <p:nvPr/>
        </p:nvSpPr>
        <p:spPr>
          <a:xfrm flipH="1">
            <a:off x="8172360" y="5229360"/>
            <a:ext cx="503280" cy="727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8459640" y="5445000"/>
            <a:ext cx="2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6589440" y="443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0920" y="1904760"/>
            <a:ext cx="482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сновных интегр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8"/>
              <p:cNvSpPr txBox="1"/>
              <p:nvPr/>
            </p:nvSpPr>
            <p:spPr>
              <a:xfrm>
                <a:off x="6443640" y="3573360"/>
                <a:ext cx="954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195640" y="2276640"/>
                <a:ext cx="103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2124000" y="3041640"/>
                <a:ext cx="2563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124000" y="3860640"/>
                <a:ext cx="1517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2124000" y="4508640"/>
                <a:ext cx="1727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2124000" y="5273640"/>
                <a:ext cx="1735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19"/>
          <p:cNvSpPr/>
          <p:nvPr/>
        </p:nvSpPr>
        <p:spPr>
          <a:xfrm>
            <a:off x="5487840" y="18432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6084720" y="3213000"/>
            <a:ext cx="28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производ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6443640" y="3860640"/>
                <a:ext cx="1550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Text Box 23"/>
          <p:cNvSpPr/>
          <p:nvPr/>
        </p:nvSpPr>
        <p:spPr>
          <a:xfrm>
            <a:off x="6280200" y="155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590080" y="273060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первообразная дл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5"/>
              <p:cNvSpPr txBox="1"/>
              <p:nvPr/>
            </p:nvSpPr>
            <p:spPr>
              <a:xfrm>
                <a:off x="5716440" y="2225520"/>
                <a:ext cx="2740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6"/>
              <p:cNvSpPr txBox="1"/>
              <p:nvPr/>
            </p:nvSpPr>
            <p:spPr>
              <a:xfrm>
                <a:off x="7659720" y="2708280"/>
                <a:ext cx="687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27"/>
          <p:cNvSpPr/>
          <p:nvPr/>
        </p:nvSpPr>
        <p:spPr>
          <a:xfrm>
            <a:off x="5435640" y="2205000"/>
            <a:ext cx="3097080" cy="100800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8"/>
              <p:cNvSpPr txBox="1"/>
              <p:nvPr/>
            </p:nvSpPr>
            <p:spPr>
              <a:xfrm>
                <a:off x="6443640" y="4282920"/>
                <a:ext cx="1727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9"/>
              <p:cNvSpPr txBox="1"/>
              <p:nvPr/>
            </p:nvSpPr>
            <p:spPr>
              <a:xfrm>
                <a:off x="6443640" y="4638600"/>
                <a:ext cx="13572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0"/>
              <p:cNvSpPr txBox="1"/>
              <p:nvPr/>
            </p:nvSpPr>
            <p:spPr>
              <a:xfrm>
                <a:off x="6443640" y="5062680"/>
                <a:ext cx="1157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1"/>
              <p:cNvSpPr txBox="1"/>
              <p:nvPr/>
            </p:nvSpPr>
            <p:spPr>
              <a:xfrm>
                <a:off x="6429240" y="5850000"/>
                <a:ext cx="1811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32"/>
          <p:cNvSpPr/>
          <p:nvPr/>
        </p:nvSpPr>
        <p:spPr>
          <a:xfrm>
            <a:off x="8073720" y="571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Прямоугольник 24"/>
          <p:cNvSpPr/>
          <p:nvPr/>
        </p:nvSpPr>
        <p:spPr>
          <a:xfrm>
            <a:off x="6429240" y="5805360"/>
            <a:ext cx="1968480" cy="863640"/>
          </a:xfrm>
          <a:prstGeom prst="rect">
            <a:avLst/>
          </a:prstGeom>
          <a:noFill/>
          <a:ln w="648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2279520" y="1360440"/>
                <a:ext cx="2357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2340000" y="2205000"/>
                <a:ext cx="20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2340000" y="2997360"/>
                <a:ext cx="183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340000" y="3716280"/>
                <a:ext cx="1989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357280" y="4724280"/>
                <a:ext cx="2503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2408400" y="5661000"/>
                <a:ext cx="2663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6013440" y="2997360"/>
                <a:ext cx="1511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Line 13"/>
          <p:cNvSpPr/>
          <p:nvPr/>
        </p:nvSpPr>
        <p:spPr>
          <a:xfrm>
            <a:off x="1187280" y="4508640"/>
            <a:ext cx="5904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076720" y="3284640"/>
            <a:ext cx="647640" cy="144360"/>
          </a:xfrm>
          <a:prstGeom prst="leftArrow">
            <a:avLst>
              <a:gd name="adj1" fmla="val 50000"/>
              <a:gd name="adj2" fmla="val 11215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5940360" y="159228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AutoShape 27"/>
          <p:cNvSpPr/>
          <p:nvPr/>
        </p:nvSpPr>
        <p:spPr>
          <a:xfrm>
            <a:off x="4861080" y="170028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5724360" y="4797360"/>
                <a:ext cx="180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1412640"/>
            <a:ext cx="57848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ы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логариф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2411280" y="1916280"/>
                <a:ext cx="3294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±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Object 6"/>
          <p:cNvGraphicFramePr/>
          <p:nvPr/>
        </p:nvGraphicFramePr>
        <p:xfrm>
          <a:off x="2556000" y="5084640"/>
          <a:ext cx="29718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084640"/>
                    <a:ext cx="2971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2556000" y="3573360"/>
                <a:ext cx="297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 неопределенных интегралов 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интегр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 Линей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го интегр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1763640" y="2276640"/>
                <a:ext cx="1895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4716360" y="2349360"/>
                <a:ext cx="2540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1835280" y="3141720"/>
                <a:ext cx="2436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7"/>
              <p:cNvSpPr txBox="1"/>
              <p:nvPr/>
            </p:nvSpPr>
            <p:spPr>
              <a:xfrm>
                <a:off x="5003640" y="3141720"/>
                <a:ext cx="2190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755640" y="4578480"/>
                <a:ext cx="4165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9"/>
              <p:cNvSpPr txBox="1"/>
              <p:nvPr/>
            </p:nvSpPr>
            <p:spPr>
              <a:xfrm>
                <a:off x="1619280" y="5349960"/>
                <a:ext cx="2868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AutoShape 20"/>
          <p:cNvSpPr/>
          <p:nvPr/>
        </p:nvSpPr>
        <p:spPr>
          <a:xfrm>
            <a:off x="5256360" y="4363920"/>
            <a:ext cx="72720" cy="1800360"/>
          </a:xfrm>
          <a:custGeom>
            <a:avLst/>
            <a:gdLst>
              <a:gd name="textAreaLeft" fmla="*/ 0 w 72720"/>
              <a:gd name="textAreaRight" fmla="*/ 26280 w 72720"/>
              <a:gd name="textAreaTop" fmla="*/ 33480 h 1800360"/>
              <a:gd name="textAreaBottom" fmla="*/ 17668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9"/>
                  <a:pt x="10800" y="1297"/>
                </a:cubicBezTo>
                <a:lnTo>
                  <a:pt x="10800" y="9503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9"/>
                  <a:pt x="10800" y="12097"/>
                </a:cubicBezTo>
                <a:lnTo>
                  <a:pt x="10800" y="20303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5940360" y="4437000"/>
                <a:ext cx="3149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Rectangle 22"/>
          <p:cNvSpPr/>
          <p:nvPr/>
        </p:nvSpPr>
        <p:spPr>
          <a:xfrm>
            <a:off x="6012000" y="4437000"/>
            <a:ext cx="2952720" cy="219708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5508720" y="508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определ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248440" y="1773360"/>
                <a:ext cx="3716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±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2195640" y="3670200"/>
                <a:ext cx="444168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±</m:t>
                                    </m:r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±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2293920" y="2548080"/>
                <a:ext cx="35830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Line 9"/>
          <p:cNvSpPr/>
          <p:nvPr/>
        </p:nvSpPr>
        <p:spPr>
          <a:xfrm>
            <a:off x="6012000" y="3141720"/>
            <a:ext cx="1412640" cy="64764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6848640" y="3989520"/>
            <a:ext cx="576000" cy="576000"/>
          </a:xfrm>
          <a:prstGeom prst="line">
            <a:avLst/>
          </a:prstGeom>
          <a:ln w="1908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451640" y="37497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.т.д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451640" y="3789360"/>
            <a:ext cx="865440" cy="39996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5:20:41Z</dcterms:created>
  <dc:creator>Asus</dc:creator>
  <dc:description/>
  <dc:language>en-US</dc:language>
  <cp:lastModifiedBy>Пользователь</cp:lastModifiedBy>
  <dcterms:modified xsi:type="dcterms:W3CDTF">2018-07-01T12:49:06Z</dcterms:modified>
  <cp:revision>98</cp:revision>
  <dc:subject/>
  <dc:title>Интегральное исчисление</dc:title>
</cp:coreProperties>
</file>