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938-D18E-4954-939C-D971352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DA9-0E43-4403-A27E-E1061733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70C-6380-4674-99C5-E943852A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69C-6609-4E8E-827C-76CD9829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D2AB-065E-4738-87CC-7E599662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00A0-B413-48D0-B48A-EDF8B1A6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D88-CD88-4E22-A998-E79BA07F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D60-51B2-4CBD-83D8-A6132F86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FB8E-7447-46EF-8B40-3002D06A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813D-62E5-4284-86A3-6C6ED5E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62F8-420D-48DB-A65D-971FD5C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952-8E31-45A1-8D06-403631EF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BDF4-728E-44C2-AF84-B641951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F812-B0A4-4F57-8EFB-A06CB5A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4689-CB49-4ED6-96B6-5383A12B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89D3-3AC6-478F-A075-096CA66C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0DC-0AC1-4CD2-9551-FBA9A8A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0D80-92CF-4751-863C-97B415E9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E6D0-9D7D-49AA-8DAF-11BA3C8A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C3D6-9F2C-43DB-8EE6-84914BA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44E6-6DAB-4B3F-9F0E-8DB1758B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C563-ECE7-49B3-8687-91E97B0B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225-82A9-4DB1-9FBE-392613C8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D76E-1292-4EDA-9FAB-561882F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890D-0F8D-4035-8E0B-28C891D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9B65-2A69-4E30-A06F-5494118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1FB6-DF38-4B99-82C4-83E6531F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93A7-58F5-460B-BB6F-FA966714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3BFE-0279-462E-9C38-155CD991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4DE0-8C92-4035-A723-3F16DD9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9A2-1CC8-4547-86C7-75380DD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136-3A64-48B9-A775-A016C375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A1B-8817-496D-BDCC-5DB8E78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1EC-3C45-481E-A6CD-775F1E9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85C-52AE-459C-91A0-61C8E4D1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899-3792-4C05-8F48-0570D3A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E6C2-181C-4140-9DA3-FD3AA11F1EA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9C2-4387-4332-AFA3-6A2778E84D4F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114B-5BD8-438D-AE30-CAB7519F6CD2}" type="slidenum">
              <a:rPr b="1" lang="ru-RU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7;&#1074;&#1086;&#1081;&#1089;&#1090;&#1074;&#1072;%20&#1087;&#1088;&#1077;&#1076;.%203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изводная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1042920" y="1916280"/>
                <a:ext cx="29512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1042920" y="3213000"/>
                <a:ext cx="366408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ая фун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476360" y="2205000"/>
                <a:ext cx="165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1692360" y="2852640"/>
                <a:ext cx="1922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76360" y="3429000"/>
                <a:ext cx="2160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1476360" y="3789360"/>
                <a:ext cx="2008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сюду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12"/>
          <p:cNvSpPr/>
          <p:nvPr/>
        </p:nvSpPr>
        <p:spPr>
          <a:xfrm>
            <a:off x="6156360" y="4365720"/>
            <a:ext cx="2720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                   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тно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3"/>
              <p:cNvSpPr txBox="1"/>
              <p:nvPr/>
            </p:nvSpPr>
            <p:spPr>
              <a:xfrm>
                <a:off x="6877080" y="4005360"/>
                <a:ext cx="855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4"/>
              <p:cNvSpPr txBox="1"/>
              <p:nvPr/>
            </p:nvSpPr>
            <p:spPr>
              <a:xfrm>
                <a:off x="7164360" y="4653000"/>
                <a:ext cx="790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5"/>
              <p:cNvSpPr txBox="1"/>
              <p:nvPr/>
            </p:nvSpPr>
            <p:spPr>
              <a:xfrm>
                <a:off x="6877080" y="4869000"/>
                <a:ext cx="838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6"/>
              <p:cNvSpPr txBox="1"/>
              <p:nvPr/>
            </p:nvSpPr>
            <p:spPr>
              <a:xfrm>
                <a:off x="7164360" y="4797360"/>
                <a:ext cx="719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0" name="Text Box 19"/>
          <p:cNvSpPr/>
          <p:nvPr/>
        </p:nvSpPr>
        <p:spPr>
          <a:xfrm>
            <a:off x="49334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094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4933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4716360" y="2276640"/>
            <a:ext cx="2449440" cy="2087280"/>
            <a:chOff x="4716360" y="2276640"/>
            <a:chExt cx="2449440" cy="2087280"/>
          </a:xfrm>
        </p:grpSpPr>
        <p:sp>
          <p:nvSpPr>
            <p:cNvPr id="384" name="Line 17"/>
            <p:cNvSpPr/>
            <p:nvPr/>
          </p:nvSpPr>
          <p:spPr>
            <a:xfrm flipV="1">
              <a:off x="5148360" y="2276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4716360" y="3860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22"/>
            <p:cNvSpPr/>
            <p:nvPr/>
          </p:nvSpPr>
          <p:spPr>
            <a:xfrm flipV="1">
              <a:off x="5435640" y="2565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23"/>
          <p:cNvSpPr/>
          <p:nvPr/>
        </p:nvSpPr>
        <p:spPr>
          <a:xfrm>
            <a:off x="4717800" y="3068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5"/>
          <p:cNvSpPr/>
          <p:nvPr/>
        </p:nvSpPr>
        <p:spPr>
          <a:xfrm>
            <a:off x="54356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51480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6732720" y="256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003640" y="2565360"/>
            <a:ext cx="144720" cy="1150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 rot="16200000">
            <a:off x="6048360" y="3320640"/>
            <a:ext cx="71640" cy="1297080"/>
          </a:xfrm>
          <a:custGeom>
            <a:avLst/>
            <a:gdLst>
              <a:gd name="textAreaLeft" fmla="*/ 45720 w 71640"/>
              <a:gd name="textAreaRight" fmla="*/ 72000 w 71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9"/>
                </a:lnTo>
                <a:cubicBezTo>
                  <a:pt x="10800" y="9989"/>
                  <a:pt x="5400" y="10889"/>
                  <a:pt x="0" y="10889"/>
                </a:cubicBezTo>
                <a:cubicBezTo>
                  <a:pt x="5400" y="10889"/>
                  <a:pt x="10800" y="11789"/>
                  <a:pt x="10800" y="126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941800" y="39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1"/>
              <p:cNvSpPr txBox="1"/>
              <p:nvPr/>
            </p:nvSpPr>
            <p:spPr>
              <a:xfrm>
                <a:off x="4500720" y="3500280"/>
                <a:ext cx="62208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2"/>
              <p:cNvSpPr txBox="1"/>
              <p:nvPr/>
            </p:nvSpPr>
            <p:spPr>
              <a:xfrm>
                <a:off x="6588000" y="3933720"/>
                <a:ext cx="6480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3"/>
              <p:cNvSpPr txBox="1"/>
              <p:nvPr/>
            </p:nvSpPr>
            <p:spPr>
              <a:xfrm>
                <a:off x="5651640" y="3933720"/>
                <a:ext cx="191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4"/>
              <p:cNvSpPr txBox="1"/>
              <p:nvPr/>
            </p:nvSpPr>
            <p:spPr>
              <a:xfrm>
                <a:off x="4932360" y="2924280"/>
                <a:ext cx="193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Oval 35"/>
          <p:cNvSpPr/>
          <p:nvPr/>
        </p:nvSpPr>
        <p:spPr>
          <a:xfrm flipH="1" flipV="1">
            <a:off x="5723640" y="38235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6"/>
          <p:cNvSpPr/>
          <p:nvPr/>
        </p:nvSpPr>
        <p:spPr>
          <a:xfrm flipH="1" flipV="1">
            <a:off x="5723640" y="364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7"/>
          <p:cNvSpPr/>
          <p:nvPr/>
        </p:nvSpPr>
        <p:spPr>
          <a:xfrm flipH="1" flipV="1">
            <a:off x="6587280" y="3823560"/>
            <a:ext cx="7164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8"/>
          <p:cNvSpPr/>
          <p:nvPr/>
        </p:nvSpPr>
        <p:spPr>
          <a:xfrm flipH="1" flipV="1">
            <a:off x="658728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"/>
          <p:cNvSpPr/>
          <p:nvPr/>
        </p:nvSpPr>
        <p:spPr>
          <a:xfrm flipV="1">
            <a:off x="5761080" y="37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0"/>
          <p:cNvSpPr/>
          <p:nvPr/>
        </p:nvSpPr>
        <p:spPr>
          <a:xfrm flipH="1">
            <a:off x="5184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1"/>
          <p:cNvSpPr/>
          <p:nvPr/>
        </p:nvSpPr>
        <p:spPr>
          <a:xfrm flipH="1">
            <a:off x="5113440" y="2997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2"/>
          <p:cNvSpPr/>
          <p:nvPr/>
        </p:nvSpPr>
        <p:spPr>
          <a:xfrm flipH="1" flipV="1">
            <a:off x="5113440" y="3607560"/>
            <a:ext cx="712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3"/>
          <p:cNvSpPr/>
          <p:nvPr/>
        </p:nvSpPr>
        <p:spPr>
          <a:xfrm>
            <a:off x="5149800" y="30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662148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3637800" y="4869000"/>
            <a:ext cx="16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но обра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й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 и та же л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7"/>
          <p:cNvGrpSpPr/>
          <p:nvPr/>
        </p:nvGrpSpPr>
        <p:grpSpPr>
          <a:xfrm>
            <a:off x="971640" y="4292640"/>
            <a:ext cx="2449440" cy="2087280"/>
            <a:chOff x="971640" y="4292640"/>
            <a:chExt cx="2449440" cy="2087280"/>
          </a:xfrm>
        </p:grpSpPr>
        <p:sp>
          <p:nvSpPr>
            <p:cNvPr id="411" name="Line 48"/>
            <p:cNvSpPr/>
            <p:nvPr/>
          </p:nvSpPr>
          <p:spPr>
            <a:xfrm flipV="1">
              <a:off x="1403640" y="4292640"/>
              <a:ext cx="0" cy="20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971640" y="5876640"/>
              <a:ext cx="244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50"/>
            <p:cNvSpPr/>
            <p:nvPr/>
          </p:nvSpPr>
          <p:spPr>
            <a:xfrm flipV="1">
              <a:off x="1690920" y="4581360"/>
              <a:ext cx="1295280" cy="11527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1152720"/>
                <a:gd name="textAreaBottom" fmla="*/ 1153440 h 1152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51"/>
          <p:cNvSpPr/>
          <p:nvPr/>
        </p:nvSpPr>
        <p:spPr>
          <a:xfrm>
            <a:off x="1167840" y="5897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334944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1116000" y="4221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"/>
          <p:cNvSpPr/>
          <p:nvPr/>
        </p:nvSpPr>
        <p:spPr>
          <a:xfrm>
            <a:off x="1332000" y="5445000"/>
            <a:ext cx="712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6"/>
          <p:cNvSpPr/>
          <p:nvPr/>
        </p:nvSpPr>
        <p:spPr>
          <a:xfrm>
            <a:off x="2411280" y="544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7"/>
          <p:cNvSpPr/>
          <p:nvPr/>
        </p:nvSpPr>
        <p:spPr>
          <a:xfrm>
            <a:off x="2411280" y="584028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8"/>
          <p:cNvSpPr/>
          <p:nvPr/>
        </p:nvSpPr>
        <p:spPr>
          <a:xfrm flipV="1">
            <a:off x="244620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9"/>
          <p:cNvSpPr/>
          <p:nvPr/>
        </p:nvSpPr>
        <p:spPr>
          <a:xfrm flipH="1">
            <a:off x="1403280" y="5479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0"/>
              <p:cNvSpPr txBox="1"/>
              <p:nvPr/>
            </p:nvSpPr>
            <p:spPr>
              <a:xfrm>
                <a:off x="1619280" y="5229360"/>
                <a:ext cx="6224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1"/>
              <p:cNvSpPr txBox="1"/>
              <p:nvPr/>
            </p:nvSpPr>
            <p:spPr>
              <a:xfrm>
                <a:off x="2411280" y="5877000"/>
                <a:ext cx="192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Line 62"/>
          <p:cNvSpPr/>
          <p:nvPr/>
        </p:nvSpPr>
        <p:spPr>
          <a:xfrm>
            <a:off x="140328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3"/>
          <p:cNvSpPr/>
          <p:nvPr/>
        </p:nvSpPr>
        <p:spPr>
          <a:xfrm>
            <a:off x="241128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4"/>
              <p:cNvSpPr txBox="1"/>
              <p:nvPr/>
            </p:nvSpPr>
            <p:spPr>
              <a:xfrm>
                <a:off x="1547640" y="5229360"/>
                <a:ext cx="5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5"/>
              <p:cNvSpPr txBox="1"/>
              <p:nvPr/>
            </p:nvSpPr>
            <p:spPr>
              <a:xfrm>
                <a:off x="1187280" y="5373720"/>
                <a:ext cx="195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2"/>
          <p:cNvSpPr/>
          <p:nvPr/>
        </p:nvSpPr>
        <p:spPr>
          <a:xfrm>
            <a:off x="658800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0"/>
          <p:cNvSpPr/>
          <p:nvPr/>
        </p:nvSpPr>
        <p:spPr>
          <a:xfrm>
            <a:off x="6516720" y="5084640"/>
            <a:ext cx="19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4356000" y="5229360"/>
            <a:ext cx="11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5508720" y="1989000"/>
            <a:ext cx="27352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443640" y="3284640"/>
            <a:ext cx="1368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755640" y="2205000"/>
            <a:ext cx="3529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обрат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 формулы  11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1042920" y="2205000"/>
                <a:ext cx="3203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1042920" y="2565360"/>
                <a:ext cx="3313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онотон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8"/>
              <p:cNvSpPr txBox="1"/>
              <p:nvPr/>
            </p:nvSpPr>
            <p:spPr>
              <a:xfrm>
                <a:off x="1042920" y="2924280"/>
                <a:ext cx="3229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5867280" y="2060640"/>
                <a:ext cx="2256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брат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5867280" y="2708280"/>
                <a:ext cx="237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6012000" y="3357720"/>
                <a:ext cx="446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sepChr m:val="∃"/>
                        <m:endChr m:val=")"/>
                      </m:dPr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4"/>
              <p:cNvSpPr txBox="1"/>
              <p:nvPr/>
            </p:nvSpPr>
            <p:spPr>
              <a:xfrm>
                <a:off x="6372360" y="3213000"/>
                <a:ext cx="1363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Text Box 16"/>
          <p:cNvSpPr/>
          <p:nvPr/>
        </p:nvSpPr>
        <p:spPr>
          <a:xfrm>
            <a:off x="5580000" y="2060640"/>
            <a:ext cx="273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"/>
          <p:cNvSpPr/>
          <p:nvPr/>
        </p:nvSpPr>
        <p:spPr>
          <a:xfrm>
            <a:off x="4500720" y="263700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0"/>
              <p:cNvSpPr txBox="1"/>
              <p:nvPr/>
            </p:nvSpPr>
            <p:spPr>
              <a:xfrm>
                <a:off x="826920" y="4149720"/>
                <a:ext cx="166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csi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1"/>
              <p:cNvSpPr txBox="1"/>
              <p:nvPr/>
            </p:nvSpPr>
            <p:spPr>
              <a:xfrm>
                <a:off x="1042920" y="4797360"/>
                <a:ext cx="2016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2"/>
              <p:cNvSpPr txBox="1"/>
              <p:nvPr/>
            </p:nvSpPr>
            <p:spPr>
              <a:xfrm>
                <a:off x="1042920" y="5013360"/>
                <a:ext cx="244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23"/>
              <p:cNvSpPr txBox="1"/>
              <p:nvPr/>
            </p:nvSpPr>
            <p:spPr>
              <a:xfrm>
                <a:off x="1042920" y="5589720"/>
                <a:ext cx="2521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9" name="AutoShape 24"/>
          <p:cNvSpPr/>
          <p:nvPr/>
        </p:nvSpPr>
        <p:spPr>
          <a:xfrm>
            <a:off x="3564000" y="515772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5"/>
          <p:cNvSpPr/>
          <p:nvPr/>
        </p:nvSpPr>
        <p:spPr>
          <a:xfrm>
            <a:off x="3780000" y="54450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6"/>
              <p:cNvSpPr txBox="1"/>
              <p:nvPr/>
            </p:nvSpPr>
            <p:spPr>
              <a:xfrm>
                <a:off x="4356000" y="5229360"/>
                <a:ext cx="1071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8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9"/>
              <p:cNvSpPr txBox="1"/>
              <p:nvPr/>
            </p:nvSpPr>
            <p:spPr>
              <a:xfrm>
                <a:off x="6516720" y="5084640"/>
                <a:ext cx="194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1"/>
              <p:cNvSpPr txBox="1"/>
              <p:nvPr/>
            </p:nvSpPr>
            <p:spPr>
              <a:xfrm>
                <a:off x="6588000" y="5589720"/>
                <a:ext cx="18003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, заданные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т,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задана параметричес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дана пара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аме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6"/>
              <p:cNvSpPr txBox="1"/>
              <p:nvPr/>
            </p:nvSpPr>
            <p:spPr>
              <a:xfrm>
                <a:off x="1284120" y="2565360"/>
                <a:ext cx="18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8"/>
              <p:cNvSpPr txBox="1"/>
              <p:nvPr/>
            </p:nvSpPr>
            <p:spPr>
              <a:xfrm>
                <a:off x="826920" y="3645000"/>
                <a:ext cx="201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AutoShape 9"/>
          <p:cNvSpPr/>
          <p:nvPr/>
        </p:nvSpPr>
        <p:spPr>
          <a:xfrm>
            <a:off x="2916360" y="3933720"/>
            <a:ext cx="934920" cy="142920"/>
          </a:xfrm>
          <a:prstGeom prst="rightArrow">
            <a:avLst>
              <a:gd name="adj1" fmla="val 50000"/>
              <a:gd name="adj2" fmla="val 163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996360" y="3429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1"/>
              <p:cNvSpPr txBox="1"/>
              <p:nvPr/>
            </p:nvSpPr>
            <p:spPr>
              <a:xfrm>
                <a:off x="4284720" y="3429000"/>
                <a:ext cx="2074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2"/>
          <p:cNvSpPr/>
          <p:nvPr/>
        </p:nvSpPr>
        <p:spPr>
          <a:xfrm>
            <a:off x="4068000" y="4221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3"/>
              <p:cNvSpPr txBox="1"/>
              <p:nvPr/>
            </p:nvSpPr>
            <p:spPr>
              <a:xfrm>
                <a:off x="4356000" y="4221000"/>
                <a:ext cx="237816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Функция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y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18"/>
          <p:cNvSpPr/>
          <p:nvPr/>
        </p:nvSpPr>
        <p:spPr>
          <a:xfrm>
            <a:off x="7813440" y="2781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3"/>
          <p:cNvGrpSpPr/>
          <p:nvPr/>
        </p:nvGrpSpPr>
        <p:grpSpPr>
          <a:xfrm>
            <a:off x="7093080" y="2781360"/>
            <a:ext cx="1792440" cy="1728720"/>
            <a:chOff x="7093080" y="2781360"/>
            <a:chExt cx="1792440" cy="1728720"/>
          </a:xfrm>
        </p:grpSpPr>
        <p:sp>
          <p:nvSpPr>
            <p:cNvPr id="466" name="Line 14"/>
            <p:cNvSpPr/>
            <p:nvPr/>
          </p:nvSpPr>
          <p:spPr>
            <a:xfrm flipV="1">
              <a:off x="8101080" y="2997360"/>
              <a:ext cx="0" cy="15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5"/>
            <p:cNvSpPr/>
            <p:nvPr/>
          </p:nvSpPr>
          <p:spPr>
            <a:xfrm>
              <a:off x="7093080" y="400536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6"/>
            <p:cNvSpPr/>
            <p:nvPr/>
          </p:nvSpPr>
          <p:spPr>
            <a:xfrm>
              <a:off x="7886520" y="400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7"/>
            <p:cNvSpPr/>
            <p:nvPr/>
          </p:nvSpPr>
          <p:spPr>
            <a:xfrm>
              <a:off x="8605800" y="393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9"/>
            <p:cNvSpPr/>
            <p:nvPr/>
          </p:nvSpPr>
          <p:spPr>
            <a:xfrm flipV="1">
              <a:off x="7740720" y="2925720"/>
              <a:ext cx="649080" cy="10778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360 h 1077840"/>
                <a:gd name="textAreaBottom" fmla="*/ 1078560 h 1077840"/>
              </a:gdLst>
              <a:ahLst/>
              <a:rect l="textAreaLeft" t="textAreaTop" r="textAreaRight" b="textAreaBottom"/>
              <a:pathLst>
                <a:path fill="none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</a:path>
                <a:path stroke="0" w="21600" h="21537">
                  <a:moveTo>
                    <a:pt x="1654" y="0"/>
                  </a:moveTo>
                  <a:cubicBezTo>
                    <a:pt x="12909" y="865"/>
                    <a:pt x="21600" y="10249"/>
                    <a:pt x="21600" y="21537"/>
                  </a:cubicBezTo>
                  <a:lnTo>
                    <a:pt x="0" y="21537"/>
                  </a:lnTo>
                  <a:lnTo>
                    <a:pt x="1654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20"/>
            <p:cNvSpPr/>
            <p:nvPr/>
          </p:nvSpPr>
          <p:spPr>
            <a:xfrm flipH="1" flipV="1">
              <a:off x="7235280" y="2923560"/>
              <a:ext cx="649080" cy="1081080"/>
            </a:xfrm>
            <a:custGeom>
              <a:avLst/>
              <a:gdLst>
                <a:gd name="textAreaLeft" fmla="*/ -360 w 649080"/>
                <a:gd name="textAreaRight" fmla="*/ 649080 w 649080"/>
                <a:gd name="textAreaTop" fmla="*/ -36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7886520" y="357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"/>
            <p:cNvSpPr/>
            <p:nvPr/>
          </p:nvSpPr>
          <p:spPr>
            <a:xfrm>
              <a:off x="7597440" y="39337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23"/>
                <p:cNvSpPr txBox="1"/>
                <p:nvPr/>
              </p:nvSpPr>
              <p:spPr>
                <a:xfrm>
                  <a:off x="7308720" y="2781360"/>
                  <a:ext cx="7272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5" name="Arc 26"/>
          <p:cNvSpPr/>
          <p:nvPr/>
        </p:nvSpPr>
        <p:spPr>
          <a:xfrm flipH="1" flipV="1">
            <a:off x="6804000" y="4507920"/>
            <a:ext cx="649440" cy="1081080"/>
          </a:xfrm>
          <a:custGeom>
            <a:avLst/>
            <a:gdLst>
              <a:gd name="textAreaLeft" fmla="*/ 360 w 649440"/>
              <a:gd name="textAreaRight" fmla="*/ 650160 w 649440"/>
              <a:gd name="textAreaTop" fmla="*/ -360 h 1081080"/>
              <a:gd name="textAreaBottom" fmla="*/ 1081080 h 108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rc 27"/>
          <p:cNvSpPr/>
          <p:nvPr/>
        </p:nvSpPr>
        <p:spPr>
          <a:xfrm flipV="1">
            <a:off x="7380360" y="4508640"/>
            <a:ext cx="649080" cy="1077840"/>
          </a:xfrm>
          <a:custGeom>
            <a:avLst/>
            <a:gdLst>
              <a:gd name="textAreaLeft" fmla="*/ 0 w 649080"/>
              <a:gd name="textAreaRight" fmla="*/ 649440 w 649080"/>
              <a:gd name="textAreaTop" fmla="*/ 360 h 1077840"/>
              <a:gd name="textAreaBottom" fmla="*/ 1078560 h 1077840"/>
            </a:gdLst>
            <a:ahLst/>
            <a:rect l="textAreaLeft" t="textAreaTop" r="textAreaRight" b="textAreaBottom"/>
            <a:pathLst>
              <a:path fill="none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</a:path>
              <a:path stroke="0" w="21600" h="21537">
                <a:moveTo>
                  <a:pt x="1654" y="0"/>
                </a:moveTo>
                <a:cubicBezTo>
                  <a:pt x="12909" y="865"/>
                  <a:pt x="21600" y="10249"/>
                  <a:pt x="21600" y="21537"/>
                </a:cubicBezTo>
                <a:lnTo>
                  <a:pt x="0" y="21537"/>
                </a:lnTo>
                <a:lnTo>
                  <a:pt x="1654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4"/>
          <p:cNvGrpSpPr/>
          <p:nvPr/>
        </p:nvGrpSpPr>
        <p:grpSpPr>
          <a:xfrm>
            <a:off x="6877080" y="4581360"/>
            <a:ext cx="1792440" cy="1655640"/>
            <a:chOff x="6877080" y="4581360"/>
            <a:chExt cx="1792440" cy="1655640"/>
          </a:xfrm>
        </p:grpSpPr>
        <p:sp>
          <p:nvSpPr>
            <p:cNvPr id="478" name="Line 24"/>
            <p:cNvSpPr/>
            <p:nvPr/>
          </p:nvSpPr>
          <p:spPr>
            <a:xfrm>
              <a:off x="6877080" y="5589720"/>
              <a:ext cx="165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7740720" y="4723920"/>
              <a:ext cx="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7309800" y="551664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7526160" y="5157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7526160" y="558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8389800" y="5516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7452720" y="458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4572000" y="3213000"/>
            <a:ext cx="2232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755640" y="2349360"/>
            <a:ext cx="2879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функции, заданной параметриче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476360" y="2421000"/>
                <a:ext cx="2021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476360" y="3152880"/>
                <a:ext cx="2067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онотонна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476360" y="3645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9"/>
              <p:cNvSpPr txBox="1"/>
              <p:nvPr/>
            </p:nvSpPr>
            <p:spPr>
              <a:xfrm>
                <a:off x="1547640" y="4292640"/>
                <a:ext cx="1908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прерывная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547640" y="4941720"/>
                <a:ext cx="7923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AutoShape 12"/>
          <p:cNvSpPr/>
          <p:nvPr/>
        </p:nvSpPr>
        <p:spPr>
          <a:xfrm>
            <a:off x="3708360" y="3645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4716360" y="3284640"/>
                <a:ext cx="20685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 (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ые высших поряд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произв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го поряд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производной перв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втор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производной  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ной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1979640" y="2060640"/>
                <a:ext cx="1006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"/>
              <p:cNvSpPr txBox="1"/>
              <p:nvPr/>
            </p:nvSpPr>
            <p:spPr>
              <a:xfrm>
                <a:off x="2843280" y="2492280"/>
                <a:ext cx="954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"/>
              <p:cNvSpPr txBox="1"/>
              <p:nvPr/>
            </p:nvSpPr>
            <p:spPr>
              <a:xfrm>
                <a:off x="1547640" y="3716280"/>
                <a:ext cx="2359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9"/>
              <p:cNvSpPr txBox="1"/>
              <p:nvPr/>
            </p:nvSpPr>
            <p:spPr>
              <a:xfrm>
                <a:off x="1547640" y="5157720"/>
                <a:ext cx="2808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Line 10"/>
          <p:cNvSpPr/>
          <p:nvPr/>
        </p:nvSpPr>
        <p:spPr>
          <a:xfrm>
            <a:off x="4643280" y="3068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056560" y="321156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2"/>
              <p:cNvSpPr txBox="1"/>
              <p:nvPr/>
            </p:nvSpPr>
            <p:spPr>
              <a:xfrm>
                <a:off x="5219640" y="3429000"/>
                <a:ext cx="2720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89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е утверждение теоремы неверно, т.е. из непрерывности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не следует существование производной функции                   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функция непрерывна в точке             но в этой точке функция не имеет производной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875640" y="184464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2124000" y="242100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340000" y="2997360"/>
                <a:ext cx="1233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2627280" y="3500280"/>
                <a:ext cx="3245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72240" y="4870440"/>
                <a:ext cx="8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453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тельно, дл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чке       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Прямая со стрелкой 6"/>
          <p:cNvCxnSpPr/>
          <p:nvPr/>
        </p:nvCxnSpPr>
        <p:spPr>
          <a:xfrm flipV="1">
            <a:off x="6587640" y="691920"/>
            <a:ext cx="1080" cy="2808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0" name="Прямая со стрелкой 20"/>
          <p:cNvCxnSpPr/>
          <p:nvPr/>
        </p:nvCxnSpPr>
        <p:spPr>
          <a:xfrm>
            <a:off x="5003280" y="3284280"/>
            <a:ext cx="374580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6588000" y="2997360"/>
                <a:ext cx="24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8596440" y="3424320"/>
                <a:ext cx="266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6732720" y="620640"/>
                <a:ext cx="293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Прямая соединительная линия 25"/>
          <p:cNvSpPr/>
          <p:nvPr/>
        </p:nvSpPr>
        <p:spPr>
          <a:xfrm flipV="1">
            <a:off x="6588000" y="1699920"/>
            <a:ext cx="1729080" cy="158436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27"/>
          <p:cNvSpPr/>
          <p:nvPr/>
        </p:nvSpPr>
        <p:spPr>
          <a:xfrm flipH="1" flipV="1">
            <a:off x="4932000" y="1557360"/>
            <a:ext cx="1655640" cy="1727280"/>
          </a:xfrm>
          <a:prstGeom prst="line">
            <a:avLst/>
          </a:prstGeom>
          <a:ln w="158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7667640" y="112536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395280" y="1484280"/>
                <a:ext cx="857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2700360" y="1484280"/>
                <a:ext cx="347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250920" y="2781360"/>
                <a:ext cx="4068720" cy="23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Δ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4788000" y="3933720"/>
                <a:ext cx="2457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Box 37"/>
          <p:cNvSpPr/>
          <p:nvPr/>
        </p:nvSpPr>
        <p:spPr>
          <a:xfrm>
            <a:off x="4716360" y="46767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уществ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функция не имеет производную в этой т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трелка вправо 38"/>
          <p:cNvSpPr/>
          <p:nvPr/>
        </p:nvSpPr>
        <p:spPr>
          <a:xfrm>
            <a:off x="702000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219640" y="2637000"/>
            <a:ext cx="3384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00000" y="2708280"/>
            <a:ext cx="2087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             определена в некоторой окрестности точки         (включая точку      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сатель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й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к графику функ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чке     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ельное положение секущ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, к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2195640" y="1628640"/>
                <a:ext cx="64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2411280" y="1989000"/>
                <a:ext cx="320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4067280" y="1989000"/>
                <a:ext cx="32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900000" y="2637000"/>
                <a:ext cx="2135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0"/>
          <p:cNvSpPr/>
          <p:nvPr/>
        </p:nvSpPr>
        <p:spPr>
          <a:xfrm>
            <a:off x="5271840" y="2657520"/>
            <a:ext cx="331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  н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 отноше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я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ю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ращение аргу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6948360" y="2637000"/>
                <a:ext cx="50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AutoShape 12"/>
          <p:cNvSpPr/>
          <p:nvPr/>
        </p:nvSpPr>
        <p:spPr>
          <a:xfrm>
            <a:off x="3419640" y="2997360"/>
            <a:ext cx="1584000" cy="215640"/>
          </a:xfrm>
          <a:prstGeom prst="leftArrow">
            <a:avLst>
              <a:gd name="adj1" fmla="val 50000"/>
              <a:gd name="adj2" fmla="val 18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900000" y="4149720"/>
                <a:ext cx="1090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2627280" y="4149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2771640" y="4437000"/>
                <a:ext cx="648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3924360" y="4437000"/>
                <a:ext cx="100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860544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868360" y="361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941800" y="551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6372360" y="3644640"/>
            <a:ext cx="93636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2"/>
          <p:cNvSpPr/>
          <p:nvPr/>
        </p:nvSpPr>
        <p:spPr>
          <a:xfrm>
            <a:off x="6659640" y="4797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 flipV="1">
            <a:off x="7524720" y="40759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10880" y="3860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 flipV="1">
            <a:off x="7885080" y="4075920"/>
            <a:ext cx="7164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7814160" y="378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7"/>
              <p:cNvSpPr txBox="1"/>
              <p:nvPr/>
            </p:nvSpPr>
            <p:spPr>
              <a:xfrm>
                <a:off x="6443640" y="450864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Line 28"/>
          <p:cNvSpPr/>
          <p:nvPr/>
        </p:nvSpPr>
        <p:spPr>
          <a:xfrm flipV="1">
            <a:off x="6156360" y="3716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5219640" y="551664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0"/>
          <p:cNvSpPr/>
          <p:nvPr/>
        </p:nvSpPr>
        <p:spPr>
          <a:xfrm flipH="1" flipV="1" rot="6492600">
            <a:off x="6671160" y="4065480"/>
            <a:ext cx="1435320" cy="1171440"/>
          </a:xfrm>
          <a:custGeom>
            <a:avLst/>
            <a:gdLst>
              <a:gd name="textAreaLeft" fmla="*/ -360 w 1435320"/>
              <a:gd name="textAreaRight" fmla="*/ 1435320 w 143532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 flipV="1">
            <a:off x="5292720" y="3860280"/>
            <a:ext cx="3024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6732720" y="4797360"/>
            <a:ext cx="0" cy="71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 flipH="1">
            <a:off x="6156000" y="479736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4"/>
              <p:cNvSpPr txBox="1"/>
              <p:nvPr/>
            </p:nvSpPr>
            <p:spPr>
              <a:xfrm>
                <a:off x="6588000" y="544500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5"/>
              <p:cNvSpPr txBox="1"/>
              <p:nvPr/>
            </p:nvSpPr>
            <p:spPr>
              <a:xfrm>
                <a:off x="5867280" y="450864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36"/>
          <p:cNvSpPr/>
          <p:nvPr/>
        </p:nvSpPr>
        <p:spPr>
          <a:xfrm>
            <a:off x="6949800" y="3645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 flipV="1">
            <a:off x="5724360" y="3716280"/>
            <a:ext cx="230364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8"/>
              <p:cNvSpPr txBox="1"/>
              <p:nvPr/>
            </p:nvSpPr>
            <p:spPr>
              <a:xfrm>
                <a:off x="8101080" y="407664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6"/>
          <p:cNvSpPr/>
          <p:nvPr/>
        </p:nvSpPr>
        <p:spPr>
          <a:xfrm>
            <a:off x="971640" y="4724280"/>
            <a:ext cx="3671640" cy="122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5076720" y="4869000"/>
            <a:ext cx="223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3492360" y="4149720"/>
                <a:ext cx="1081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5"/>
          <p:cNvSpPr/>
          <p:nvPr/>
        </p:nvSpPr>
        <p:spPr>
          <a:xfrm flipH="1" flipV="1">
            <a:off x="1835280" y="1988640"/>
            <a:ext cx="144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900000" y="4221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"/>
          <p:cNvSpPr/>
          <p:nvPr/>
        </p:nvSpPr>
        <p:spPr>
          <a:xfrm flipH="1" flipV="1" rot="5400000">
            <a:off x="2426400" y="2518560"/>
            <a:ext cx="1393920" cy="1579680"/>
          </a:xfrm>
          <a:custGeom>
            <a:avLst/>
            <a:gdLst>
              <a:gd name="textAreaLeft" fmla="*/ 360 w 1393920"/>
              <a:gd name="textAreaRight" fmla="*/ 1394640 w 1393920"/>
              <a:gd name="textAreaTop" fmla="*/ 360 h 1579680"/>
              <a:gd name="textAreaBottom" fmla="*/ 1580400 h 1579680"/>
            </a:gdLst>
            <a:ahLst/>
            <a:rect l="textAreaLeft" t="textAreaTop" r="textAreaRight" b="textAreaBottom"/>
            <a:pathLst>
              <a:path fill="none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</a:path>
              <a:path stroke="0" w="21600" h="27050">
                <a:moveTo>
                  <a:pt x="1796" y="-1"/>
                </a:moveTo>
                <a:cubicBezTo>
                  <a:pt x="12990" y="933"/>
                  <a:pt x="21600" y="10291"/>
                  <a:pt x="21600" y="21525"/>
                </a:cubicBezTo>
                <a:cubicBezTo>
                  <a:pt x="21600" y="23389"/>
                  <a:pt x="21358" y="25246"/>
                  <a:pt x="20881" y="27049"/>
                </a:cubicBezTo>
                <a:lnTo>
                  <a:pt x="0" y="21525"/>
                </a:lnTo>
                <a:lnTo>
                  <a:pt x="1796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187280" y="2349000"/>
            <a:ext cx="2808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692360" y="2276640"/>
            <a:ext cx="180000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41128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63528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2411280" y="3500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124000" y="314172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Text Box 18"/>
          <p:cNvSpPr/>
          <p:nvPr/>
        </p:nvSpPr>
        <p:spPr>
          <a:xfrm>
            <a:off x="3494520" y="234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918520" y="24210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 flipV="1">
            <a:off x="3635280" y="256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2987640" y="2708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H="1">
            <a:off x="1835280" y="357336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268360" y="4149720"/>
                <a:ext cx="354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1547640" y="350028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Oval 25"/>
          <p:cNvSpPr/>
          <p:nvPr/>
        </p:nvSpPr>
        <p:spPr>
          <a:xfrm>
            <a:off x="234000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2124000" y="2349000"/>
            <a:ext cx="71928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2557440" y="2276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059280" y="2708280"/>
            <a:ext cx="0" cy="151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"/>
          <p:cNvSpPr/>
          <p:nvPr/>
        </p:nvSpPr>
        <p:spPr>
          <a:xfrm flipV="1" rot="16200000">
            <a:off x="2699280" y="39319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21600 h 648000"/>
              <a:gd name="textAreaBottom" fmla="*/ 6264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8"/>
                  <a:pt x="10800" y="2315"/>
                </a:cubicBezTo>
                <a:lnTo>
                  <a:pt x="10800" y="8644"/>
                </a:lnTo>
                <a:cubicBezTo>
                  <a:pt x="10800" y="9802"/>
                  <a:pt x="5400" y="10959"/>
                  <a:pt x="0" y="10959"/>
                </a:cubicBezTo>
                <a:cubicBezTo>
                  <a:pt x="5400" y="10959"/>
                  <a:pt x="10800" y="12117"/>
                  <a:pt x="10800" y="13274"/>
                </a:cubicBezTo>
                <a:lnTo>
                  <a:pt x="10800" y="19285"/>
                </a:lnTo>
                <a:cubicBezTo>
                  <a:pt x="10800" y="2044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1"/>
          <p:cNvSpPr/>
          <p:nvPr/>
        </p:nvSpPr>
        <p:spPr>
          <a:xfrm flipV="1" rot="16200000">
            <a:off x="2950920" y="35359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9960 h 1224000"/>
              <a:gd name="textAreaBottom" fmla="*/ 11840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826"/>
                </a:lnTo>
                <a:cubicBezTo>
                  <a:pt x="10800" y="9957"/>
                  <a:pt x="16200" y="11087"/>
                  <a:pt x="21600" y="11087"/>
                </a:cubicBezTo>
                <a:cubicBezTo>
                  <a:pt x="16200" y="11087"/>
                  <a:pt x="10800" y="12218"/>
                  <a:pt x="10800" y="13348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2"/>
              <p:cNvSpPr txBox="1"/>
              <p:nvPr/>
            </p:nvSpPr>
            <p:spPr>
              <a:xfrm>
                <a:off x="3059280" y="3789360"/>
                <a:ext cx="369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3"/>
              <p:cNvSpPr txBox="1"/>
              <p:nvPr/>
            </p:nvSpPr>
            <p:spPr>
              <a:xfrm>
                <a:off x="2627280" y="4221000"/>
                <a:ext cx="370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4"/>
              <p:cNvSpPr txBox="1"/>
              <p:nvPr/>
            </p:nvSpPr>
            <p:spPr>
              <a:xfrm>
                <a:off x="3851280" y="256536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Line 35"/>
          <p:cNvSpPr/>
          <p:nvPr/>
        </p:nvSpPr>
        <p:spPr>
          <a:xfrm flipH="1">
            <a:off x="183528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8"/>
              <p:cNvSpPr txBox="1"/>
              <p:nvPr/>
            </p:nvSpPr>
            <p:spPr>
              <a:xfrm>
                <a:off x="684360" y="2349360"/>
                <a:ext cx="1116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9"/>
              <p:cNvSpPr txBox="1"/>
              <p:nvPr/>
            </p:nvSpPr>
            <p:spPr>
              <a:xfrm>
                <a:off x="1332000" y="29242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AutoShape 40"/>
          <p:cNvSpPr/>
          <p:nvPr/>
        </p:nvSpPr>
        <p:spPr>
          <a:xfrm>
            <a:off x="1692360" y="263700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42"/>
          <p:cNvSpPr/>
          <p:nvPr/>
        </p:nvSpPr>
        <p:spPr>
          <a:xfrm>
            <a:off x="2700360" y="3284640"/>
            <a:ext cx="71280" cy="261720"/>
          </a:xfrm>
          <a:custGeom>
            <a:avLst/>
            <a:gdLst>
              <a:gd name="textAreaLeft" fmla="*/ 0 w 71280"/>
              <a:gd name="textAreaRight" fmla="*/ 71640 w 712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fill="none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</a:path>
              <a:path stroke="0" w="21600" h="2612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119"/>
                  <a:pt x="21439" y="24634"/>
                  <a:pt x="21121" y="2612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43"/>
          <p:cNvSpPr/>
          <p:nvPr/>
        </p:nvSpPr>
        <p:spPr>
          <a:xfrm rot="21128400">
            <a:off x="2700360" y="3068640"/>
            <a:ext cx="287280" cy="552600"/>
          </a:xfrm>
          <a:custGeom>
            <a:avLst/>
            <a:gdLst>
              <a:gd name="textAreaLeft" fmla="*/ 0 w 287280"/>
              <a:gd name="textAreaRight" fmla="*/ 287640 w 28728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</a:path>
              <a:path stroke="0" w="21600" h="32666">
                <a:moveTo>
                  <a:pt x="10888" y="0"/>
                </a:moveTo>
                <a:cubicBezTo>
                  <a:pt x="17521" y="3872"/>
                  <a:pt x="21600" y="10974"/>
                  <a:pt x="21600" y="18655"/>
                </a:cubicBezTo>
                <a:cubicBezTo>
                  <a:pt x="21600" y="23790"/>
                  <a:pt x="19770" y="28757"/>
                  <a:pt x="16439" y="32665"/>
                </a:cubicBezTo>
                <a:lnTo>
                  <a:pt x="0" y="18655"/>
                </a:lnTo>
                <a:lnTo>
                  <a:pt x="10888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44"/>
          <p:cNvSpPr/>
          <p:nvPr/>
        </p:nvSpPr>
        <p:spPr>
          <a:xfrm>
            <a:off x="2411280" y="3429000"/>
            <a:ext cx="81000" cy="287280"/>
          </a:xfrm>
          <a:custGeom>
            <a:avLst/>
            <a:gdLst>
              <a:gd name="textAreaLeft" fmla="*/ 0 w 81000"/>
              <a:gd name="textAreaRight" fmla="*/ 81000 w 81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</a:path>
              <a:path stroke="0" w="19535" h="21600">
                <a:moveTo>
                  <a:pt x="-1" y="0"/>
                </a:moveTo>
                <a:cubicBezTo>
                  <a:pt x="8359" y="0"/>
                  <a:pt x="15968" y="4823"/>
                  <a:pt x="19535" y="1238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5"/>
              <p:cNvSpPr txBox="1"/>
              <p:nvPr/>
            </p:nvSpPr>
            <p:spPr>
              <a:xfrm>
                <a:off x="2411280" y="3573360"/>
                <a:ext cx="201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7"/>
              <p:cNvSpPr txBox="1"/>
              <p:nvPr/>
            </p:nvSpPr>
            <p:spPr>
              <a:xfrm>
                <a:off x="2771640" y="321300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8"/>
              <p:cNvSpPr txBox="1"/>
              <p:nvPr/>
            </p:nvSpPr>
            <p:spPr>
              <a:xfrm>
                <a:off x="6012000" y="3068640"/>
                <a:ext cx="111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t xml:space="preserve">∠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9"/>
              <p:cNvSpPr txBox="1"/>
              <p:nvPr/>
            </p:nvSpPr>
            <p:spPr>
              <a:xfrm>
                <a:off x="5219640" y="2708280"/>
                <a:ext cx="194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50"/>
          <p:cNvSpPr/>
          <p:nvPr/>
        </p:nvSpPr>
        <p:spPr>
          <a:xfrm>
            <a:off x="5292720" y="314172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6084720" y="3429000"/>
                <a:ext cx="111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β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AutoShape 52"/>
          <p:cNvSpPr/>
          <p:nvPr/>
        </p:nvSpPr>
        <p:spPr>
          <a:xfrm>
            <a:off x="5364000" y="350028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5580000" y="3933720"/>
                <a:ext cx="1668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Line 54"/>
          <p:cNvSpPr/>
          <p:nvPr/>
        </p:nvSpPr>
        <p:spPr>
          <a:xfrm>
            <a:off x="630072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5"/>
          <p:cNvSpPr/>
          <p:nvPr/>
        </p:nvSpPr>
        <p:spPr>
          <a:xfrm>
            <a:off x="6372360" y="3789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6"/>
          <p:cNvSpPr/>
          <p:nvPr/>
        </p:nvSpPr>
        <p:spPr>
          <a:xfrm>
            <a:off x="694836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7"/>
          <p:cNvSpPr/>
          <p:nvPr/>
        </p:nvSpPr>
        <p:spPr>
          <a:xfrm>
            <a:off x="7020000" y="3789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8"/>
              <p:cNvSpPr txBox="1"/>
              <p:nvPr/>
            </p:nvSpPr>
            <p:spPr>
              <a:xfrm>
                <a:off x="5076720" y="4869000"/>
                <a:ext cx="223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AutoShape 60"/>
          <p:cNvSpPr/>
          <p:nvPr/>
        </p:nvSpPr>
        <p:spPr>
          <a:xfrm>
            <a:off x="6227640" y="458136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041120" y="4710240"/>
            <a:ext cx="35931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ой функции        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гловому коэффициенту касате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рафику этой функции в т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2"/>
              <p:cNvSpPr txBox="1"/>
              <p:nvPr/>
            </p:nvSpPr>
            <p:spPr>
              <a:xfrm>
                <a:off x="3419640" y="4797360"/>
                <a:ext cx="431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4356000" y="479736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4"/>
              <p:cNvSpPr txBox="1"/>
              <p:nvPr/>
            </p:nvSpPr>
            <p:spPr>
              <a:xfrm>
                <a:off x="3419640" y="530064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1403280" y="5589720"/>
                <a:ext cx="936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AutoShape 67"/>
          <p:cNvSpPr/>
          <p:nvPr/>
        </p:nvSpPr>
        <p:spPr>
          <a:xfrm>
            <a:off x="4643280" y="515772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8"/>
          <p:cNvSpPr/>
          <p:nvPr/>
        </p:nvSpPr>
        <p:spPr>
          <a:xfrm>
            <a:off x="4500720" y="2852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183636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графику функции                    в точ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оходящая через 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пендикуляр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ельн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авнение нормали к графику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2771640" y="2565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826920" y="256536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4500720" y="5877000"/>
            <a:ext cx="2808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826920" y="5877000"/>
            <a:ext cx="280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556000" y="3429000"/>
            <a:ext cx="2881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6012000" y="357336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4067280" y="4292640"/>
                <a:ext cx="936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867280" y="4292640"/>
                <a:ext cx="282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8675640" y="3213000"/>
                <a:ext cx="246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948360" y="3141720"/>
                <a:ext cx="339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5651640" y="4581360"/>
                <a:ext cx="8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11"/>
          <p:cNvSpPr/>
          <p:nvPr/>
        </p:nvSpPr>
        <p:spPr>
          <a:xfrm>
            <a:off x="4860720" y="479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V="1">
            <a:off x="6229440" y="1412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5292720" y="3213000"/>
            <a:ext cx="345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7"/>
          <p:cNvSpPr/>
          <p:nvPr/>
        </p:nvSpPr>
        <p:spPr>
          <a:xfrm flipH="1" flipV="1" rot="6492600">
            <a:off x="6744240" y="1761840"/>
            <a:ext cx="1434960" cy="1171440"/>
          </a:xfrm>
          <a:custGeom>
            <a:avLst/>
            <a:gdLst>
              <a:gd name="textAreaLeft" fmla="*/ 0 w 1434960"/>
              <a:gd name="textAreaRight" fmla="*/ 1434960 w 1434960"/>
              <a:gd name="textAreaTop" fmla="*/ 360 h 1171440"/>
              <a:gd name="textAreaBottom" fmla="*/ 1172160 h 1171440"/>
            </a:gdLst>
            <a:ahLst/>
            <a:rect l="textAreaLeft" t="textAreaTop" r="textAreaRight" b="textAreaBottom"/>
            <a:pathLst>
              <a:path fill="none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</a:path>
              <a:path stroke="0" w="23346" h="21884">
                <a:moveTo>
                  <a:pt x="-1" y="70"/>
                </a:moveTo>
                <a:cubicBezTo>
                  <a:pt x="580" y="23"/>
                  <a:pt x="1163" y="-1"/>
                  <a:pt x="1746" y="0"/>
                </a:cubicBezTo>
                <a:cubicBezTo>
                  <a:pt x="13675" y="0"/>
                  <a:pt x="23346" y="9670"/>
                  <a:pt x="23346" y="21600"/>
                </a:cubicBezTo>
                <a:cubicBezTo>
                  <a:pt x="23346" y="21694"/>
                  <a:pt x="23345" y="21789"/>
                  <a:pt x="23344" y="21884"/>
                </a:cubicBezTo>
                <a:lnTo>
                  <a:pt x="1746" y="21600"/>
                </a:lnTo>
                <a:lnTo>
                  <a:pt x="-1" y="7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7093080" y="2133720"/>
            <a:ext cx="0" cy="1079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6012000" y="1197000"/>
            <a:ext cx="194472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6227640" y="2133720"/>
            <a:ext cx="865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22"/>
          <p:cNvSpPr/>
          <p:nvPr/>
        </p:nvSpPr>
        <p:spPr>
          <a:xfrm>
            <a:off x="6300720" y="292428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6443640" y="141300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24"/>
          <p:cNvSpPr/>
          <p:nvPr/>
        </p:nvSpPr>
        <p:spPr>
          <a:xfrm flipH="1" flipV="1">
            <a:off x="6443640" y="1628640"/>
            <a:ext cx="144144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5"/>
              <p:cNvSpPr txBox="1"/>
              <p:nvPr/>
            </p:nvSpPr>
            <p:spPr>
              <a:xfrm>
                <a:off x="7451640" y="1125360"/>
                <a:ext cx="5050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4521240" y="3346560"/>
                <a:ext cx="404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5940360" y="1916280"/>
                <a:ext cx="285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Line 30"/>
          <p:cNvSpPr/>
          <p:nvPr/>
        </p:nvSpPr>
        <p:spPr>
          <a:xfrm flipV="1">
            <a:off x="6948360" y="198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>
            <a:off x="7020000" y="198900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6012000" y="1341360"/>
                <a:ext cx="250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6228720" y="321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4"/>
              <p:cNvSpPr txBox="1"/>
              <p:nvPr/>
            </p:nvSpPr>
            <p:spPr>
              <a:xfrm>
                <a:off x="7596360" y="1484280"/>
                <a:ext cx="792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5"/>
              <p:cNvSpPr txBox="1"/>
              <p:nvPr/>
            </p:nvSpPr>
            <p:spPr>
              <a:xfrm>
                <a:off x="644364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6"/>
              <p:cNvSpPr txBox="1"/>
              <p:nvPr/>
            </p:nvSpPr>
            <p:spPr>
              <a:xfrm>
                <a:off x="7164360" y="2060640"/>
                <a:ext cx="720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7"/>
              <p:cNvSpPr txBox="1"/>
              <p:nvPr/>
            </p:nvSpPr>
            <p:spPr>
              <a:xfrm>
                <a:off x="900000" y="256536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40"/>
          <p:cNvSpPr/>
          <p:nvPr/>
        </p:nvSpPr>
        <p:spPr>
          <a:xfrm>
            <a:off x="2195640" y="270828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1"/>
              <p:cNvSpPr txBox="1"/>
              <p:nvPr/>
            </p:nvSpPr>
            <p:spPr>
              <a:xfrm>
                <a:off x="2771640" y="2565360"/>
                <a:ext cx="2592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4"/>
              <p:cNvSpPr txBox="1"/>
              <p:nvPr/>
            </p:nvSpPr>
            <p:spPr>
              <a:xfrm>
                <a:off x="6012000" y="3500280"/>
                <a:ext cx="2089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47"/>
              <p:cNvSpPr txBox="1"/>
              <p:nvPr/>
            </p:nvSpPr>
            <p:spPr>
              <a:xfrm>
                <a:off x="2556000" y="3429000"/>
                <a:ext cx="2879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9"/>
              <p:cNvSpPr txBox="1"/>
              <p:nvPr/>
            </p:nvSpPr>
            <p:spPr>
              <a:xfrm>
                <a:off x="826920" y="5805360"/>
                <a:ext cx="2808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AutoShape 51"/>
          <p:cNvSpPr/>
          <p:nvPr/>
        </p:nvSpPr>
        <p:spPr>
          <a:xfrm>
            <a:off x="3780000" y="6165720"/>
            <a:ext cx="576000" cy="71640"/>
          </a:xfrm>
          <a:prstGeom prst="rightArrow">
            <a:avLst>
              <a:gd name="adj1" fmla="val 50000"/>
              <a:gd name="adj2" fmla="val 20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4500720" y="5805360"/>
                <a:ext cx="2823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AutoShape 54"/>
          <p:cNvSpPr/>
          <p:nvPr/>
        </p:nvSpPr>
        <p:spPr>
          <a:xfrm>
            <a:off x="5651640" y="3573360"/>
            <a:ext cx="215640" cy="322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2200"/>
              <a:gd name="textAreaBottom" fmla="*/ 308520 h 322200"/>
            </a:gdLst>
            <a:ahLst/>
            <a:rect l="textAreaLeft" t="textAreaTop" r="textAreaRight" b="textAreaBottom"/>
            <a:pathLst>
              <a:path w="21600" h="32256">
                <a:moveTo>
                  <a:pt x="0" y="0"/>
                </a:moveTo>
                <a:lnTo>
                  <a:pt x="21600" y="0"/>
                </a:lnTo>
                <a:lnTo>
                  <a:pt x="21600" y="32256"/>
                </a:lnTo>
                <a:lnTo>
                  <a:pt x="0" y="32256"/>
                </a:lnTo>
                <a:close/>
              </a:path>
              <a:path fill="lightenLess" w="21600" h="322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56">
                <a:moveTo>
                  <a:pt x="21600" y="0"/>
                </a:moveTo>
                <a:lnTo>
                  <a:pt x="21600" y="32256"/>
                </a:lnTo>
                <a:lnTo>
                  <a:pt x="20200" y="30856"/>
                </a:lnTo>
                <a:lnTo>
                  <a:pt x="20200" y="1400"/>
                </a:lnTo>
                <a:close/>
              </a:path>
              <a:path fill="darkenLess" w="21600" h="32256">
                <a:moveTo>
                  <a:pt x="21600" y="32256"/>
                </a:moveTo>
                <a:lnTo>
                  <a:pt x="0" y="32256"/>
                </a:lnTo>
                <a:lnTo>
                  <a:pt x="1400" y="30856"/>
                </a:lnTo>
                <a:lnTo>
                  <a:pt x="20200" y="30856"/>
                </a:lnTo>
                <a:close/>
              </a:path>
              <a:path fill="lighten" w="21600" h="32256">
                <a:moveTo>
                  <a:pt x="0" y="3225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56"/>
                </a:lnTo>
                <a:close/>
              </a:path>
              <a:path fill="darken" w="21600" h="32256">
                <a:moveTo>
                  <a:pt x="10800" y="2013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256">
                <a:moveTo>
                  <a:pt x="11905" y="19609"/>
                </a:moveTo>
                <a:lnTo>
                  <a:pt x="11905" y="17651"/>
                </a:lnTo>
                <a:cubicBezTo>
                  <a:pt x="11905" y="16824"/>
                  <a:pt x="12236" y="16128"/>
                  <a:pt x="12837" y="16128"/>
                </a:cubicBezTo>
                <a:cubicBezTo>
                  <a:pt x="13968" y="16128"/>
                  <a:pt x="14865" y="14762"/>
                  <a:pt x="14865" y="13177"/>
                </a:cubicBezTo>
                <a:cubicBezTo>
                  <a:pt x="14865" y="10862"/>
                  <a:pt x="13011" y="9122"/>
                  <a:pt x="10800" y="9122"/>
                </a:cubicBezTo>
                <a:cubicBezTo>
                  <a:pt x="8589" y="9122"/>
                  <a:pt x="6918" y="10862"/>
                  <a:pt x="6918" y="13177"/>
                </a:cubicBezTo>
                <a:lnTo>
                  <a:pt x="8772" y="13177"/>
                </a:lnTo>
                <a:cubicBezTo>
                  <a:pt x="8772" y="12037"/>
                  <a:pt x="9695" y="11149"/>
                  <a:pt x="10800" y="11149"/>
                </a:cubicBezTo>
                <a:cubicBezTo>
                  <a:pt x="11905" y="11149"/>
                  <a:pt x="12837" y="12037"/>
                  <a:pt x="12837" y="13177"/>
                </a:cubicBezTo>
                <a:cubicBezTo>
                  <a:pt x="12837" y="13917"/>
                  <a:pt x="12367" y="14648"/>
                  <a:pt x="11905" y="14648"/>
                </a:cubicBezTo>
                <a:cubicBezTo>
                  <a:pt x="10800" y="14648"/>
                  <a:pt x="9695" y="16128"/>
                  <a:pt x="9695" y="17651"/>
                </a:cubicBezTo>
                <a:lnTo>
                  <a:pt x="9695" y="196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3924360" y="2997360"/>
            <a:ext cx="288720" cy="43020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8"/>
          <p:cNvSpPr/>
          <p:nvPr/>
        </p:nvSpPr>
        <p:spPr>
          <a:xfrm>
            <a:off x="3276720" y="5300640"/>
            <a:ext cx="295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635280" y="4724280"/>
            <a:ext cx="22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существованием произв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прерывностью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187280" y="2421000"/>
                <a:ext cx="324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4"/>
          <p:cNvSpPr/>
          <p:nvPr/>
        </p:nvSpPr>
        <p:spPr>
          <a:xfrm>
            <a:off x="1332000" y="262584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1258920" y="2997360"/>
                <a:ext cx="1800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3635280" y="2997360"/>
                <a:ext cx="1982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AutoShape 10"/>
          <p:cNvSpPr/>
          <p:nvPr/>
        </p:nvSpPr>
        <p:spPr>
          <a:xfrm>
            <a:off x="313200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>
            <a:hlinkClick r:id="rId1"/>
          </p:cNvPr>
          <p:cNvSpPr/>
          <p:nvPr/>
        </p:nvSpPr>
        <p:spPr>
          <a:xfrm>
            <a:off x="5724360" y="306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3635280" y="4076640"/>
                <a:ext cx="25923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3"/>
          <p:cNvSpPr/>
          <p:nvPr/>
        </p:nvSpPr>
        <p:spPr>
          <a:xfrm>
            <a:off x="4643280" y="386064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4"/>
              <p:cNvSpPr txBox="1"/>
              <p:nvPr/>
            </p:nvSpPr>
            <p:spPr>
              <a:xfrm>
                <a:off x="3708360" y="4724280"/>
                <a:ext cx="20383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AutoShape 15"/>
          <p:cNvSpPr/>
          <p:nvPr/>
        </p:nvSpPr>
        <p:spPr>
          <a:xfrm>
            <a:off x="4643280" y="443700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7"/>
              <p:cNvSpPr txBox="1"/>
              <p:nvPr/>
            </p:nvSpPr>
            <p:spPr>
              <a:xfrm>
                <a:off x="3348000" y="5300640"/>
                <a:ext cx="2743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ерывна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AutoShape 19"/>
          <p:cNvSpPr/>
          <p:nvPr/>
        </p:nvSpPr>
        <p:spPr>
          <a:xfrm>
            <a:off x="4643280" y="5084640"/>
            <a:ext cx="142920" cy="216000"/>
          </a:xfrm>
          <a:prstGeom prst="downArrow">
            <a:avLst>
              <a:gd name="adj1" fmla="val 50000"/>
              <a:gd name="adj2" fmla="val 37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6372360" y="5300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ила дифферен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332000" y="1844640"/>
                <a:ext cx="178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042920" y="2492280"/>
                <a:ext cx="2881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1042920" y="2781360"/>
                <a:ext cx="3697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1116000" y="3068640"/>
                <a:ext cx="19954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"/>
              <p:cNvSpPr txBox="1"/>
              <p:nvPr/>
            </p:nvSpPr>
            <p:spPr>
              <a:xfrm>
                <a:off x="1039680" y="3141720"/>
                <a:ext cx="4577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Line 11"/>
          <p:cNvSpPr/>
          <p:nvPr/>
        </p:nvSpPr>
        <p:spPr>
          <a:xfrm>
            <a:off x="5867280" y="2421000"/>
            <a:ext cx="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013080" y="2271600"/>
            <a:ext cx="301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 1 правил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для сумм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ша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6516720" y="2708280"/>
                <a:ext cx="158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Δ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4"/>
              <p:cNvSpPr txBox="1"/>
              <p:nvPr/>
            </p:nvSpPr>
            <p:spPr>
              <a:xfrm>
                <a:off x="6516720" y="2997360"/>
                <a:ext cx="1511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g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5"/>
              <p:cNvSpPr txBox="1"/>
              <p:nvPr/>
            </p:nvSpPr>
            <p:spPr>
              <a:xfrm>
                <a:off x="6156360" y="3500280"/>
                <a:ext cx="2581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f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g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6"/>
              <p:cNvSpPr txBox="1"/>
              <p:nvPr/>
            </p:nvSpPr>
            <p:spPr>
              <a:xfrm>
                <a:off x="6156360" y="3645000"/>
                <a:ext cx="2217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ть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производных основных элементарных фу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1476360" y="2060640"/>
                <a:ext cx="681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476360" y="2276640"/>
                <a:ext cx="12240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1476360" y="2565360"/>
                <a:ext cx="116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1476360" y="2781360"/>
                <a:ext cx="934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1547640" y="2997360"/>
                <a:ext cx="1441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4"/>
              <p:cNvSpPr txBox="1"/>
              <p:nvPr/>
            </p:nvSpPr>
            <p:spPr>
              <a:xfrm>
                <a:off x="1547640" y="3357720"/>
                <a:ext cx="935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Line 15"/>
          <p:cNvSpPr/>
          <p:nvPr/>
        </p:nvSpPr>
        <p:spPr>
          <a:xfrm>
            <a:off x="1258920" y="3933720"/>
            <a:ext cx="38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6"/>
              <p:cNvSpPr txBox="1"/>
              <p:nvPr/>
            </p:nvSpPr>
            <p:spPr>
              <a:xfrm>
                <a:off x="1463760" y="4032360"/>
                <a:ext cx="1307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7"/>
              <p:cNvSpPr txBox="1"/>
              <p:nvPr/>
            </p:nvSpPr>
            <p:spPr>
              <a:xfrm>
                <a:off x="1476360" y="4292640"/>
                <a:ext cx="1440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8"/>
              <p:cNvSpPr txBox="1"/>
              <p:nvPr/>
            </p:nvSpPr>
            <p:spPr>
              <a:xfrm>
                <a:off x="1547640" y="4437000"/>
                <a:ext cx="1338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1547640" y="4941720"/>
                <a:ext cx="1544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 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0"/>
              <p:cNvSpPr txBox="1"/>
              <p:nvPr/>
            </p:nvSpPr>
            <p:spPr>
              <a:xfrm>
                <a:off x="3203640" y="2133720"/>
                <a:ext cx="576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1"/>
              <p:cNvSpPr txBox="1"/>
              <p:nvPr/>
            </p:nvSpPr>
            <p:spPr>
              <a:xfrm>
                <a:off x="3203640" y="2349360"/>
                <a:ext cx="72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3203640" y="2565360"/>
                <a:ext cx="86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 flipV="1">
            <a:off x="2771640" y="2276280"/>
            <a:ext cx="4320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277164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2771640" y="2492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408920" y="3798720"/>
            <a:ext cx="39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88000" y="3933720"/>
                <a:ext cx="172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8"/>
              <p:cNvSpPr txBox="1"/>
              <p:nvPr/>
            </p:nvSpPr>
            <p:spPr>
              <a:xfrm>
                <a:off x="4788000" y="4508640"/>
                <a:ext cx="1903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9"/>
              <p:cNvSpPr txBox="1"/>
              <p:nvPr/>
            </p:nvSpPr>
            <p:spPr>
              <a:xfrm>
                <a:off x="4788000" y="5084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0"/>
              <p:cNvSpPr txBox="1"/>
              <p:nvPr/>
            </p:nvSpPr>
            <p:spPr>
              <a:xfrm>
                <a:off x="4788000" y="5589720"/>
                <a:ext cx="182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tgx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22"/>
          <p:cNvSpPr/>
          <p:nvPr/>
        </p:nvSpPr>
        <p:spPr>
          <a:xfrm rot="5729400">
            <a:off x="5107680" y="4332960"/>
            <a:ext cx="492120" cy="411120"/>
          </a:xfrm>
          <a:custGeom>
            <a:avLst/>
            <a:gdLst>
              <a:gd name="textAreaLeft" fmla="*/ 0 w 492120"/>
              <a:gd name="textAreaRight" fmla="*/ 492480 w 49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0" h="259">
                <a:moveTo>
                  <a:pt x="303" y="58"/>
                </a:moveTo>
                <a:cubicBezTo>
                  <a:pt x="296" y="41"/>
                  <a:pt x="291" y="9"/>
                  <a:pt x="265" y="6"/>
                </a:cubicBezTo>
                <a:cubicBezTo>
                  <a:pt x="206" y="0"/>
                  <a:pt x="103" y="24"/>
                  <a:pt x="48" y="51"/>
                </a:cubicBezTo>
                <a:cubicBezTo>
                  <a:pt x="11" y="107"/>
                  <a:pt x="0" y="144"/>
                  <a:pt x="63" y="193"/>
                </a:cubicBezTo>
                <a:cubicBezTo>
                  <a:pt x="73" y="201"/>
                  <a:pt x="115" y="227"/>
                  <a:pt x="131" y="238"/>
                </a:cubicBezTo>
                <a:cubicBezTo>
                  <a:pt x="138" y="243"/>
                  <a:pt x="153" y="253"/>
                  <a:pt x="153" y="253"/>
                </a:cubicBezTo>
                <a:cubicBezTo>
                  <a:pt x="196" y="247"/>
                  <a:pt x="255" y="259"/>
                  <a:pt x="280" y="223"/>
                </a:cubicBezTo>
                <a:cubicBezTo>
                  <a:pt x="293" y="205"/>
                  <a:pt x="310" y="163"/>
                  <a:pt x="310" y="163"/>
                </a:cubicBezTo>
                <a:cubicBezTo>
                  <a:pt x="305" y="141"/>
                  <a:pt x="297" y="119"/>
                  <a:pt x="295" y="96"/>
                </a:cubicBezTo>
                <a:cubicBezTo>
                  <a:pt x="292" y="56"/>
                  <a:pt x="310" y="77"/>
                  <a:pt x="310" y="43"/>
                </a:cubicBezTo>
                <a:cubicBezTo>
                  <a:pt x="310" y="37"/>
                  <a:pt x="305" y="53"/>
                  <a:pt x="303" y="5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формулы 7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411280" y="162864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1042920" y="1989000"/>
                <a:ext cx="2376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2276640"/>
                <a:ext cx="28274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042920" y="3141720"/>
                <a:ext cx="396864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1476360" y="4581360"/>
                <a:ext cx="139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11"/>
          <p:cNvSpPr/>
          <p:nvPr/>
        </p:nvSpPr>
        <p:spPr>
          <a:xfrm>
            <a:off x="1547640" y="43657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1619280" y="4365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262728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2700360" y="436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"/>
          <p:cNvSpPr/>
          <p:nvPr/>
        </p:nvSpPr>
        <p:spPr>
          <a:xfrm rot="7033200">
            <a:off x="3778920" y="3429720"/>
            <a:ext cx="1368360" cy="1224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227" h="868">
                <a:moveTo>
                  <a:pt x="748" y="67"/>
                </a:moveTo>
                <a:cubicBezTo>
                  <a:pt x="706" y="54"/>
                  <a:pt x="743" y="70"/>
                  <a:pt x="703" y="30"/>
                </a:cubicBezTo>
                <a:cubicBezTo>
                  <a:pt x="692" y="19"/>
                  <a:pt x="664" y="6"/>
                  <a:pt x="651" y="0"/>
                </a:cubicBezTo>
                <a:cubicBezTo>
                  <a:pt x="549" y="11"/>
                  <a:pt x="442" y="30"/>
                  <a:pt x="344" y="60"/>
                </a:cubicBezTo>
                <a:cubicBezTo>
                  <a:pt x="316" y="69"/>
                  <a:pt x="275" y="78"/>
                  <a:pt x="247" y="90"/>
                </a:cubicBezTo>
                <a:cubicBezTo>
                  <a:pt x="226" y="99"/>
                  <a:pt x="187" y="120"/>
                  <a:pt x="187" y="120"/>
                </a:cubicBezTo>
                <a:cubicBezTo>
                  <a:pt x="166" y="151"/>
                  <a:pt x="141" y="147"/>
                  <a:pt x="112" y="172"/>
                </a:cubicBezTo>
                <a:cubicBezTo>
                  <a:pt x="86" y="195"/>
                  <a:pt x="74" y="218"/>
                  <a:pt x="45" y="239"/>
                </a:cubicBezTo>
                <a:cubicBezTo>
                  <a:pt x="35" y="254"/>
                  <a:pt x="25" y="269"/>
                  <a:pt x="15" y="284"/>
                </a:cubicBezTo>
                <a:cubicBezTo>
                  <a:pt x="10" y="292"/>
                  <a:pt x="0" y="307"/>
                  <a:pt x="0" y="307"/>
                </a:cubicBezTo>
                <a:cubicBezTo>
                  <a:pt x="2" y="347"/>
                  <a:pt x="2" y="387"/>
                  <a:pt x="7" y="426"/>
                </a:cubicBezTo>
                <a:cubicBezTo>
                  <a:pt x="16" y="495"/>
                  <a:pt x="61" y="550"/>
                  <a:pt x="97" y="606"/>
                </a:cubicBezTo>
                <a:cubicBezTo>
                  <a:pt x="109" y="624"/>
                  <a:pt x="130" y="633"/>
                  <a:pt x="142" y="651"/>
                </a:cubicBezTo>
                <a:cubicBezTo>
                  <a:pt x="165" y="686"/>
                  <a:pt x="176" y="711"/>
                  <a:pt x="209" y="733"/>
                </a:cubicBezTo>
                <a:cubicBezTo>
                  <a:pt x="291" y="853"/>
                  <a:pt x="419" y="834"/>
                  <a:pt x="546" y="868"/>
                </a:cubicBezTo>
                <a:cubicBezTo>
                  <a:pt x="611" y="863"/>
                  <a:pt x="676" y="861"/>
                  <a:pt x="740" y="853"/>
                </a:cubicBezTo>
                <a:cubicBezTo>
                  <a:pt x="792" y="847"/>
                  <a:pt x="822" y="822"/>
                  <a:pt x="868" y="808"/>
                </a:cubicBezTo>
                <a:cubicBezTo>
                  <a:pt x="917" y="756"/>
                  <a:pt x="978" y="727"/>
                  <a:pt x="1040" y="696"/>
                </a:cubicBezTo>
                <a:cubicBezTo>
                  <a:pt x="1047" y="686"/>
                  <a:pt x="1053" y="675"/>
                  <a:pt x="1062" y="666"/>
                </a:cubicBezTo>
                <a:cubicBezTo>
                  <a:pt x="1068" y="660"/>
                  <a:pt x="1079" y="658"/>
                  <a:pt x="1085" y="651"/>
                </a:cubicBezTo>
                <a:cubicBezTo>
                  <a:pt x="1097" y="638"/>
                  <a:pt x="1101" y="619"/>
                  <a:pt x="1114" y="606"/>
                </a:cubicBezTo>
                <a:cubicBezTo>
                  <a:pt x="1148" y="572"/>
                  <a:pt x="1185" y="527"/>
                  <a:pt x="1212" y="486"/>
                </a:cubicBezTo>
                <a:cubicBezTo>
                  <a:pt x="1214" y="478"/>
                  <a:pt x="1227" y="439"/>
                  <a:pt x="1227" y="434"/>
                </a:cubicBezTo>
                <a:cubicBezTo>
                  <a:pt x="1222" y="361"/>
                  <a:pt x="1172" y="280"/>
                  <a:pt x="1107" y="247"/>
                </a:cubicBezTo>
                <a:cubicBezTo>
                  <a:pt x="1067" y="167"/>
                  <a:pt x="1122" y="262"/>
                  <a:pt x="1062" y="202"/>
                </a:cubicBezTo>
                <a:cubicBezTo>
                  <a:pt x="1054" y="194"/>
                  <a:pt x="1054" y="181"/>
                  <a:pt x="1047" y="172"/>
                </a:cubicBezTo>
                <a:cubicBezTo>
                  <a:pt x="1030" y="152"/>
                  <a:pt x="994" y="141"/>
                  <a:pt x="972" y="127"/>
                </a:cubicBezTo>
                <a:cubicBezTo>
                  <a:pt x="958" y="81"/>
                  <a:pt x="888" y="44"/>
                  <a:pt x="845" y="22"/>
                </a:cubicBezTo>
                <a:cubicBezTo>
                  <a:pt x="789" y="32"/>
                  <a:pt x="730" y="45"/>
                  <a:pt x="673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4932360" y="4365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932360" y="44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5150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3">
            <a:hlinkClick r:id="rId1"/>
          </p:cNvPr>
          <p:cNvSpPr/>
          <p:nvPr/>
        </p:nvSpPr>
        <p:spPr>
          <a:xfrm>
            <a:off x="5148360" y="4005360"/>
            <a:ext cx="215640" cy="28872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908">
                <a:moveTo>
                  <a:pt x="0" y="0"/>
                </a:moveTo>
                <a:lnTo>
                  <a:pt x="21600" y="0"/>
                </a:lnTo>
                <a:lnTo>
                  <a:pt x="21600" y="28908"/>
                </a:lnTo>
                <a:lnTo>
                  <a:pt x="0" y="28908"/>
                </a:lnTo>
                <a:close/>
              </a:path>
              <a:path fill="lightenLess" w="21600" h="28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08">
                <a:moveTo>
                  <a:pt x="21600" y="0"/>
                </a:moveTo>
                <a:lnTo>
                  <a:pt x="21600" y="28908"/>
                </a:lnTo>
                <a:lnTo>
                  <a:pt x="20200" y="27508"/>
                </a:lnTo>
                <a:lnTo>
                  <a:pt x="20200" y="1400"/>
                </a:lnTo>
                <a:close/>
              </a:path>
              <a:path fill="darkenLess" w="21600" h="28908">
                <a:moveTo>
                  <a:pt x="21600" y="28908"/>
                </a:moveTo>
                <a:lnTo>
                  <a:pt x="0" y="28908"/>
                </a:lnTo>
                <a:lnTo>
                  <a:pt x="1400" y="27508"/>
                </a:lnTo>
                <a:lnTo>
                  <a:pt x="20200" y="27508"/>
                </a:lnTo>
                <a:close/>
              </a:path>
              <a:path fill="lighten" w="21600" h="28908">
                <a:moveTo>
                  <a:pt x="0" y="28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08"/>
                </a:lnTo>
                <a:close/>
              </a:path>
              <a:path fill="darken" w="21600" h="28908">
                <a:moveTo>
                  <a:pt x="10800" y="184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908">
                <a:moveTo>
                  <a:pt x="11905" y="17935"/>
                </a:moveTo>
                <a:lnTo>
                  <a:pt x="11905" y="15977"/>
                </a:lnTo>
                <a:cubicBezTo>
                  <a:pt x="11905" y="15150"/>
                  <a:pt x="12236" y="14454"/>
                  <a:pt x="12837" y="14454"/>
                </a:cubicBezTo>
                <a:cubicBezTo>
                  <a:pt x="13968" y="14454"/>
                  <a:pt x="14865" y="13088"/>
                  <a:pt x="14865" y="11503"/>
                </a:cubicBezTo>
                <a:cubicBezTo>
                  <a:pt x="14865" y="9188"/>
                  <a:pt x="13011" y="7448"/>
                  <a:pt x="10800" y="7448"/>
                </a:cubicBezTo>
                <a:cubicBezTo>
                  <a:pt x="8589" y="7448"/>
                  <a:pt x="6918" y="9188"/>
                  <a:pt x="6918" y="11503"/>
                </a:cubicBezTo>
                <a:lnTo>
                  <a:pt x="8772" y="11503"/>
                </a:lnTo>
                <a:cubicBezTo>
                  <a:pt x="8772" y="10363"/>
                  <a:pt x="9695" y="9475"/>
                  <a:pt x="10800" y="9475"/>
                </a:cubicBezTo>
                <a:cubicBezTo>
                  <a:pt x="11905" y="9475"/>
                  <a:pt x="12837" y="10363"/>
                  <a:pt x="12837" y="11503"/>
                </a:cubicBezTo>
                <a:cubicBezTo>
                  <a:pt x="12837" y="12243"/>
                  <a:pt x="12367" y="12974"/>
                  <a:pt x="11905" y="12974"/>
                </a:cubicBezTo>
                <a:cubicBezTo>
                  <a:pt x="10800" y="12974"/>
                  <a:pt x="9695" y="14454"/>
                  <a:pt x="9695" y="15977"/>
                </a:cubicBezTo>
                <a:lnTo>
                  <a:pt x="9695" y="179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2916360" y="4437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148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36">
                <a:moveTo>
                  <a:pt x="11905" y="14299"/>
                </a:moveTo>
                <a:lnTo>
                  <a:pt x="11905" y="12341"/>
                </a:lnTo>
                <a:cubicBezTo>
                  <a:pt x="11905" y="11514"/>
                  <a:pt x="12236" y="10818"/>
                  <a:pt x="12837" y="10818"/>
                </a:cubicBezTo>
                <a:cubicBezTo>
                  <a:pt x="13968" y="10818"/>
                  <a:pt x="14865" y="9452"/>
                  <a:pt x="14865" y="7867"/>
                </a:cubicBezTo>
                <a:cubicBezTo>
                  <a:pt x="14865" y="5552"/>
                  <a:pt x="13011" y="3812"/>
                  <a:pt x="10800" y="3812"/>
                </a:cubicBezTo>
                <a:cubicBezTo>
                  <a:pt x="8589" y="3812"/>
                  <a:pt x="6918" y="5552"/>
                  <a:pt x="6918" y="7867"/>
                </a:cubicBezTo>
                <a:lnTo>
                  <a:pt x="8772" y="7867"/>
                </a:lnTo>
                <a:cubicBezTo>
                  <a:pt x="8772" y="6727"/>
                  <a:pt x="9695" y="5839"/>
                  <a:pt x="10800" y="5839"/>
                </a:cubicBezTo>
                <a:cubicBezTo>
                  <a:pt x="11905" y="5839"/>
                  <a:pt x="12837" y="6727"/>
                  <a:pt x="12837" y="7867"/>
                </a:cubicBezTo>
                <a:cubicBezTo>
                  <a:pt x="12837" y="8607"/>
                  <a:pt x="12367" y="9338"/>
                  <a:pt x="11905" y="9338"/>
                </a:cubicBezTo>
                <a:cubicBezTo>
                  <a:pt x="10800" y="9338"/>
                  <a:pt x="9695" y="10818"/>
                  <a:pt x="9695" y="12341"/>
                </a:cubicBezTo>
                <a:lnTo>
                  <a:pt x="9695" y="14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7"/>
          <p:cNvSpPr/>
          <p:nvPr/>
        </p:nvSpPr>
        <p:spPr>
          <a:xfrm>
            <a:off x="2050920" y="595008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26" h="235">
                <a:moveTo>
                  <a:pt x="315" y="40"/>
                </a:moveTo>
                <a:cubicBezTo>
                  <a:pt x="253" y="0"/>
                  <a:pt x="211" y="12"/>
                  <a:pt x="135" y="18"/>
                </a:cubicBezTo>
                <a:cubicBezTo>
                  <a:pt x="109" y="24"/>
                  <a:pt x="85" y="32"/>
                  <a:pt x="60" y="40"/>
                </a:cubicBezTo>
                <a:cubicBezTo>
                  <a:pt x="41" y="69"/>
                  <a:pt x="19" y="71"/>
                  <a:pt x="0" y="100"/>
                </a:cubicBezTo>
                <a:cubicBezTo>
                  <a:pt x="9" y="156"/>
                  <a:pt x="5" y="179"/>
                  <a:pt x="60" y="197"/>
                </a:cubicBezTo>
                <a:cubicBezTo>
                  <a:pt x="87" y="215"/>
                  <a:pt x="76" y="210"/>
                  <a:pt x="105" y="220"/>
                </a:cubicBezTo>
                <a:cubicBezTo>
                  <a:pt x="120" y="225"/>
                  <a:pt x="150" y="235"/>
                  <a:pt x="150" y="235"/>
                </a:cubicBezTo>
                <a:cubicBezTo>
                  <a:pt x="177" y="230"/>
                  <a:pt x="205" y="228"/>
                  <a:pt x="232" y="220"/>
                </a:cubicBezTo>
                <a:cubicBezTo>
                  <a:pt x="262" y="211"/>
                  <a:pt x="267" y="177"/>
                  <a:pt x="292" y="160"/>
                </a:cubicBezTo>
                <a:cubicBezTo>
                  <a:pt x="306" y="107"/>
                  <a:pt x="326" y="97"/>
                  <a:pt x="315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140360" y="2492280"/>
            <a:ext cx="216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755640" y="2060640"/>
            <a:ext cx="26640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ая фун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ная сложной фун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y(x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функция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Возьмем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дполагаем, что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042920" y="2276640"/>
                <a:ext cx="20890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1116000" y="2927520"/>
                <a:ext cx="1152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1063800" y="3213000"/>
                <a:ext cx="20952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че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0"/>
              <p:cNvSpPr txBox="1"/>
              <p:nvPr/>
            </p:nvSpPr>
            <p:spPr>
              <a:xfrm>
                <a:off x="4140360" y="2492280"/>
                <a:ext cx="208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AutoShape 12"/>
          <p:cNvSpPr/>
          <p:nvPr/>
        </p:nvSpPr>
        <p:spPr>
          <a:xfrm>
            <a:off x="3492360" y="2781360"/>
            <a:ext cx="574920" cy="216000"/>
          </a:xfrm>
          <a:prstGeom prst="rightArrow">
            <a:avLst>
              <a:gd name="adj1" fmla="val 50000"/>
              <a:gd name="adj2" fmla="val 665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1692360" y="4221000"/>
                <a:ext cx="1511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u</m:t>
                    </m:r>
                    <m:r>
                      <m:t xml:space="preserve">⇒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2556000" y="4437000"/>
                <a:ext cx="57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1116000" y="4581360"/>
                <a:ext cx="1260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u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AutoShape 18"/>
          <p:cNvSpPr/>
          <p:nvPr/>
        </p:nvSpPr>
        <p:spPr>
          <a:xfrm>
            <a:off x="1835280" y="602136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10800" y="220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072">
                <a:moveTo>
                  <a:pt x="11905" y="21517"/>
                </a:moveTo>
                <a:lnTo>
                  <a:pt x="11905" y="19559"/>
                </a:lnTo>
                <a:cubicBezTo>
                  <a:pt x="11905" y="18732"/>
                  <a:pt x="12236" y="18036"/>
                  <a:pt x="12837" y="18036"/>
                </a:cubicBezTo>
                <a:cubicBezTo>
                  <a:pt x="13968" y="18036"/>
                  <a:pt x="14865" y="16670"/>
                  <a:pt x="14865" y="15085"/>
                </a:cubicBezTo>
                <a:cubicBezTo>
                  <a:pt x="14865" y="12770"/>
                  <a:pt x="13011" y="11030"/>
                  <a:pt x="10800" y="11030"/>
                </a:cubicBezTo>
                <a:cubicBezTo>
                  <a:pt x="8589" y="11030"/>
                  <a:pt x="6918" y="12770"/>
                  <a:pt x="6918" y="15085"/>
                </a:cubicBezTo>
                <a:lnTo>
                  <a:pt x="8772" y="15085"/>
                </a:lnTo>
                <a:cubicBezTo>
                  <a:pt x="8772" y="13945"/>
                  <a:pt x="9695" y="13057"/>
                  <a:pt x="10800" y="13057"/>
                </a:cubicBezTo>
                <a:cubicBezTo>
                  <a:pt x="11905" y="13057"/>
                  <a:pt x="12837" y="13945"/>
                  <a:pt x="12837" y="15085"/>
                </a:cubicBezTo>
                <a:cubicBezTo>
                  <a:pt x="12837" y="15825"/>
                  <a:pt x="12367" y="16556"/>
                  <a:pt x="11905" y="16556"/>
                </a:cubicBezTo>
                <a:cubicBezTo>
                  <a:pt x="10800" y="16556"/>
                  <a:pt x="9695" y="18036"/>
                  <a:pt x="9695" y="19559"/>
                </a:cubicBezTo>
                <a:lnTo>
                  <a:pt x="9695" y="215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3711240" y="58053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ч.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6"/>
              <p:cNvSpPr txBox="1"/>
              <p:nvPr/>
            </p:nvSpPr>
            <p:spPr>
              <a:xfrm>
                <a:off x="1042920" y="5084640"/>
                <a:ext cx="2548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u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u</m:t>
                            </m:r>
                          </m:den>
                        </m:f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7:14Z</dcterms:created>
  <dc:creator>Asus</dc:creator>
  <dc:description/>
  <dc:language>en-US</dc:language>
  <cp:lastModifiedBy>Пользователь</cp:lastModifiedBy>
  <dcterms:modified xsi:type="dcterms:W3CDTF">2018-07-01T12:30:00Z</dcterms:modified>
  <cp:revision>62</cp:revision>
  <dc:subject/>
  <dc:title>Слайд 1</dc:title>
</cp:coreProperties>
</file>