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7234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8640" y="685440"/>
            <a:ext cx="4860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AE75-E4F6-4933-BDC0-AC6EC1B58A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59C2-5B5A-4B98-94DB-10CBBE488C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755-9C78-4B75-A8F0-A3650E52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875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964320"/>
            <a:ext cx="875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0CD-0235-4DB2-876B-3C9AB864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F59-415B-4073-AC58-BADDE84A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60020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60020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96432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396432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3964320"/>
            <a:ext cx="281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1C2-F4A8-4BC4-94CF-154C4957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7FD-8FC8-40E5-A28D-10DDE779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3BD-23D1-4F85-B073-C855C60A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67F-2627-4039-83D0-83CC1197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BAF-EF84-4583-9233-00A2802A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74320"/>
            <a:ext cx="8750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0BE-B386-4A28-8430-250620B6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5E1-ABB9-4AB1-8995-69E5B945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396432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13E-6AFB-4027-A406-28CC020A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600200"/>
            <a:ext cx="426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964320"/>
            <a:ext cx="8750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3F6-8F6B-45B7-A4D7-A06E3518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743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600200"/>
            <a:ext cx="875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244920"/>
            <a:ext cx="22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6244920"/>
            <a:ext cx="307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6244920"/>
            <a:ext cx="22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5288-9610-4D70-BAD2-4BED2A5A9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760" y="115560"/>
            <a:ext cx="9429840" cy="64818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теграл с переменным верхним пред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   непрерывна на           . Т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для любого     из           функция           интегриру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а отрезке            , следовательно на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определена  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которая наз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нтегралом  с переменным верхним пределом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7"/>
              <p:cNvSpPr txBox="1"/>
              <p:nvPr/>
            </p:nvSpPr>
            <p:spPr>
              <a:xfrm>
                <a:off x="896760" y="3728880"/>
                <a:ext cx="302760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Line 8"/>
          <p:cNvSpPr/>
          <p:nvPr/>
        </p:nvSpPr>
        <p:spPr>
          <a:xfrm>
            <a:off x="5076720" y="5229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6013440" y="3165480"/>
            <a:ext cx="0" cy="263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6300720" y="4581360"/>
            <a:ext cx="0" cy="648000"/>
          </a:xfrm>
          <a:prstGeom prst="line">
            <a:avLst/>
          </a:prstGeom>
          <a:ln w="936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8821800" y="4149720"/>
            <a:ext cx="0" cy="1079640"/>
          </a:xfrm>
          <a:prstGeom prst="line">
            <a:avLst/>
          </a:prstGeom>
          <a:ln w="936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7885080" y="3699000"/>
            <a:ext cx="0" cy="1530360"/>
          </a:xfrm>
          <a:prstGeom prst="line">
            <a:avLst/>
          </a:prstGeom>
          <a:ln w="9360">
            <a:solidFill>
              <a:srgbClr val="ffc000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Объект 1"/>
              <p:cNvSpPr txBox="1"/>
              <p:nvPr/>
            </p:nvSpPr>
            <p:spPr>
              <a:xfrm>
                <a:off x="2989440" y="907920"/>
                <a:ext cx="120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Объект 2"/>
              <p:cNvSpPr txBox="1"/>
              <p:nvPr/>
            </p:nvSpPr>
            <p:spPr>
              <a:xfrm>
                <a:off x="6948360" y="83664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Объект 3"/>
              <p:cNvSpPr txBox="1"/>
              <p:nvPr/>
            </p:nvSpPr>
            <p:spPr>
              <a:xfrm>
                <a:off x="2052720" y="1628640"/>
                <a:ext cx="3808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Объект 4"/>
              <p:cNvSpPr txBox="1"/>
              <p:nvPr/>
            </p:nvSpPr>
            <p:spPr>
              <a:xfrm>
                <a:off x="2989440" y="155736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Объект 5"/>
              <p:cNvSpPr txBox="1"/>
              <p:nvPr/>
            </p:nvSpPr>
            <p:spPr>
              <a:xfrm>
                <a:off x="5508720" y="1603440"/>
                <a:ext cx="93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Объект 6"/>
              <p:cNvSpPr txBox="1"/>
              <p:nvPr/>
            </p:nvSpPr>
            <p:spPr>
              <a:xfrm>
                <a:off x="2268360" y="2276640"/>
                <a:ext cx="101952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Объект 7"/>
              <p:cNvSpPr txBox="1"/>
              <p:nvPr/>
            </p:nvSpPr>
            <p:spPr>
              <a:xfrm>
                <a:off x="6805440" y="2349360"/>
                <a:ext cx="1019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2" name="Picture 33" descr=""/>
          <p:cNvPicPr/>
          <p:nvPr/>
        </p:nvPicPr>
        <p:blipFill>
          <a:blip r:embed="rId1"/>
          <a:stretch/>
        </p:blipFill>
        <p:spPr>
          <a:xfrm>
            <a:off x="4068720" y="3068640"/>
            <a:ext cx="102888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Freeform 22"/>
          <p:cNvSpPr/>
          <p:nvPr/>
        </p:nvSpPr>
        <p:spPr>
          <a:xfrm>
            <a:off x="6343560" y="3490920"/>
            <a:ext cx="2478240" cy="1317600"/>
          </a:xfrm>
          <a:custGeom>
            <a:avLst/>
            <a:gdLst/>
            <a:ahLst/>
            <a:rect l="l" t="t" r="r" b="b"/>
            <a:pathLst>
              <a:path w="1716" h="695">
                <a:moveTo>
                  <a:pt x="0" y="597"/>
                </a:moveTo>
                <a:cubicBezTo>
                  <a:pt x="68" y="479"/>
                  <a:pt x="136" y="362"/>
                  <a:pt x="227" y="370"/>
                </a:cubicBezTo>
                <a:cubicBezTo>
                  <a:pt x="318" y="378"/>
                  <a:pt x="385" y="695"/>
                  <a:pt x="544" y="642"/>
                </a:cubicBezTo>
                <a:cubicBezTo>
                  <a:pt x="703" y="589"/>
                  <a:pt x="997" y="106"/>
                  <a:pt x="1179" y="53"/>
                </a:cubicBezTo>
                <a:cubicBezTo>
                  <a:pt x="1361" y="0"/>
                  <a:pt x="1550" y="272"/>
                  <a:pt x="1633" y="325"/>
                </a:cubicBezTo>
                <a:cubicBezTo>
                  <a:pt x="1716" y="378"/>
                  <a:pt x="1697" y="374"/>
                  <a:pt x="1678" y="370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Объект 8"/>
              <p:cNvSpPr txBox="1"/>
              <p:nvPr/>
            </p:nvSpPr>
            <p:spPr>
              <a:xfrm>
                <a:off x="6951600" y="3262320"/>
                <a:ext cx="933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Объект 9"/>
              <p:cNvSpPr txBox="1"/>
              <p:nvPr/>
            </p:nvSpPr>
            <p:spPr>
              <a:xfrm>
                <a:off x="9039240" y="5356080"/>
                <a:ext cx="3808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Объект 24"/>
              <p:cNvSpPr txBox="1"/>
              <p:nvPr/>
            </p:nvSpPr>
            <p:spPr>
              <a:xfrm>
                <a:off x="8621640" y="5272200"/>
                <a:ext cx="381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Объект 12"/>
              <p:cNvSpPr txBox="1"/>
              <p:nvPr/>
            </p:nvSpPr>
            <p:spPr>
              <a:xfrm>
                <a:off x="7672320" y="524844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Объект 13"/>
              <p:cNvSpPr txBox="1"/>
              <p:nvPr/>
            </p:nvSpPr>
            <p:spPr>
              <a:xfrm>
                <a:off x="6153120" y="538632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Прямая соединительная линия 23"/>
          <p:cNvSpPr/>
          <p:nvPr/>
        </p:nvSpPr>
        <p:spPr>
          <a:xfrm flipH="1">
            <a:off x="6300720" y="4292640"/>
            <a:ext cx="432000" cy="79200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4"/>
          <p:cNvSpPr/>
          <p:nvPr/>
        </p:nvSpPr>
        <p:spPr>
          <a:xfrm flipH="1">
            <a:off x="6453000" y="4508640"/>
            <a:ext cx="423720" cy="72864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5"/>
          <p:cNvSpPr/>
          <p:nvPr/>
        </p:nvSpPr>
        <p:spPr>
          <a:xfrm flipH="1">
            <a:off x="6732720" y="4653000"/>
            <a:ext cx="288720" cy="57636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26"/>
          <p:cNvSpPr/>
          <p:nvPr/>
        </p:nvSpPr>
        <p:spPr>
          <a:xfrm flipH="1">
            <a:off x="7021440" y="4365720"/>
            <a:ext cx="432000" cy="86364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27"/>
          <p:cNvSpPr/>
          <p:nvPr/>
        </p:nvSpPr>
        <p:spPr>
          <a:xfrm flipH="1">
            <a:off x="7237080" y="4005360"/>
            <a:ext cx="647640" cy="122400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8"/>
          <p:cNvSpPr/>
          <p:nvPr/>
        </p:nvSpPr>
        <p:spPr>
          <a:xfrm flipH="1">
            <a:off x="7453080" y="4437000"/>
            <a:ext cx="431640" cy="792360"/>
          </a:xfrm>
          <a:prstGeom prst="line">
            <a:avLst/>
          </a:prstGeom>
          <a:ln w="9360">
            <a:solidFill>
              <a:srgbClr val="fad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9"/>
          <p:cNvSpPr/>
          <p:nvPr/>
        </p:nvSpPr>
        <p:spPr>
          <a:xfrm>
            <a:off x="6378840" y="4633920"/>
            <a:ext cx="8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(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8000" y="115920"/>
            <a:ext cx="9429840" cy="6492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нтегрирование по част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определенном интегр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орема.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 и             имеют непрерывные производные на           ,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тогда справедливо следующее 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Эту формулу называют формулой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нтегрирования по частям для определенного интегр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Объект 1"/>
              <p:cNvSpPr txBox="1"/>
              <p:nvPr/>
            </p:nvSpPr>
            <p:spPr>
              <a:xfrm>
                <a:off x="4645080" y="1341360"/>
                <a:ext cx="1485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0"/>
              <p:cNvSpPr txBox="1"/>
              <p:nvPr/>
            </p:nvSpPr>
            <p:spPr>
              <a:xfrm>
                <a:off x="1501920" y="3083040"/>
                <a:ext cx="6941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dv</m:t>
                            </m:r>
                            <m:r>
                              <m:t xml:space="preserve">=</m:t>
                            </m:r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  <m:sSubSup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du</m:t>
                                </m:r>
                              </m:e>
                            </m:nary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6661080" y="1341360"/>
                <a:ext cx="1416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Объект 2"/>
              <p:cNvSpPr txBox="1"/>
              <p:nvPr/>
            </p:nvSpPr>
            <p:spPr>
              <a:xfrm>
                <a:off x="5869080" y="198900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3400" y="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4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  Вычисли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1"/>
              <p:cNvSpPr txBox="1"/>
              <p:nvPr/>
            </p:nvSpPr>
            <p:spPr>
              <a:xfrm>
                <a:off x="2124000" y="1628640"/>
                <a:ext cx="74660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Объект 6"/>
              <p:cNvSpPr txBox="1"/>
              <p:nvPr/>
            </p:nvSpPr>
            <p:spPr>
              <a:xfrm>
                <a:off x="4505400" y="620640"/>
                <a:ext cx="222732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7"/>
              <p:cNvSpPr txBox="1"/>
              <p:nvPr/>
            </p:nvSpPr>
            <p:spPr>
              <a:xfrm>
                <a:off x="1884240" y="2997360"/>
                <a:ext cx="6913800" cy="33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/>
                        </m:nary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−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3400" y="-171360"/>
            <a:ext cx="9698040" cy="702936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5b1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5.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Найти площадь фигуры, ограниченной ли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шение.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Из рисунка следует, что площадь искомой фигуры  равна:                             каждая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торых   находится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геометрическому  смыс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определенного интеграла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828720" y="260280"/>
                <a:ext cx="65674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1189080" y="1916280"/>
                <a:ext cx="11620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6"/>
              <p:cNvSpPr txBox="1"/>
              <p:nvPr/>
            </p:nvSpPr>
            <p:spPr>
              <a:xfrm>
                <a:off x="1620720" y="3141720"/>
                <a:ext cx="314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y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5"/>
              <p:cNvSpPr txBox="1"/>
              <p:nvPr/>
            </p:nvSpPr>
            <p:spPr>
              <a:xfrm>
                <a:off x="1260360" y="4251240"/>
                <a:ext cx="2019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AB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C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6" name="Прямая со стрелкой 8"/>
          <p:cNvCxnSpPr/>
          <p:nvPr/>
        </p:nvCxnSpPr>
        <p:spPr>
          <a:xfrm>
            <a:off x="5797440" y="6381360"/>
            <a:ext cx="2664720" cy="1080"/>
          </a:xfrm>
          <a:prstGeom prst="straightConnector1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 flipV="1">
            <a:off x="5797080" y="4436280"/>
            <a:ext cx="1080" cy="2017080"/>
          </a:xfrm>
          <a:prstGeom prst="straightConnector1">
            <a:avLst/>
          </a:prstGeom>
          <a:ln w="2556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148" name="Дуга 17"/>
          <p:cNvSpPr/>
          <p:nvPr/>
        </p:nvSpPr>
        <p:spPr>
          <a:xfrm rot="4153800">
            <a:off x="4830480" y="4709880"/>
            <a:ext cx="1584000" cy="1800360"/>
          </a:xfrm>
          <a:prstGeom prst="pi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9"/>
          <p:cNvSpPr/>
          <p:nvPr/>
        </p:nvSpPr>
        <p:spPr>
          <a:xfrm>
            <a:off x="5148360" y="5300640"/>
            <a:ext cx="216036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23"/>
          <p:cNvSpPr/>
          <p:nvPr/>
        </p:nvSpPr>
        <p:spPr>
          <a:xfrm>
            <a:off x="5797440" y="544500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4"/>
          <p:cNvSpPr/>
          <p:nvPr/>
        </p:nvSpPr>
        <p:spPr>
          <a:xfrm>
            <a:off x="5797440" y="558972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5"/>
          <p:cNvSpPr/>
          <p:nvPr/>
        </p:nvSpPr>
        <p:spPr>
          <a:xfrm>
            <a:off x="5797440" y="580536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797440" y="5950080"/>
            <a:ext cx="5032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1"/>
          <p:cNvSpPr/>
          <p:nvPr/>
        </p:nvSpPr>
        <p:spPr>
          <a:xfrm>
            <a:off x="5388840" y="436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6516720" y="5300640"/>
            <a:ext cx="0" cy="1008000"/>
          </a:xfrm>
          <a:prstGeom prst="line">
            <a:avLst/>
          </a:prstGeom>
          <a:ln w="9360">
            <a:solidFill>
              <a:srgbClr val="fadd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7"/>
          <p:cNvSpPr/>
          <p:nvPr/>
        </p:nvSpPr>
        <p:spPr>
          <a:xfrm>
            <a:off x="644760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9"/>
          <p:cNvSpPr/>
          <p:nvPr/>
        </p:nvSpPr>
        <p:spPr>
          <a:xfrm>
            <a:off x="5439960" y="61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0"/>
          <p:cNvSpPr/>
          <p:nvPr/>
        </p:nvSpPr>
        <p:spPr>
          <a:xfrm>
            <a:off x="846360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2"/>
          <p:cNvSpPr/>
          <p:nvPr/>
        </p:nvSpPr>
        <p:spPr>
          <a:xfrm>
            <a:off x="6231960" y="637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3"/>
          <p:cNvSpPr/>
          <p:nvPr/>
        </p:nvSpPr>
        <p:spPr>
          <a:xfrm>
            <a:off x="6528960" y="6156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4"/>
          <p:cNvSpPr/>
          <p:nvPr/>
        </p:nvSpPr>
        <p:spPr>
          <a:xfrm>
            <a:off x="546120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4"/>
              <p:cNvSpPr txBox="1"/>
              <p:nvPr/>
            </p:nvSpPr>
            <p:spPr>
              <a:xfrm>
                <a:off x="6445080" y="5369040"/>
                <a:ext cx="99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5"/>
              <p:cNvSpPr txBox="1"/>
              <p:nvPr/>
            </p:nvSpPr>
            <p:spPr>
              <a:xfrm>
                <a:off x="7329600" y="5113440"/>
                <a:ext cx="5554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698040" cy="702936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ешая  систему                       получим координаты точки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(2;4).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2629080" y="0"/>
                <a:ext cx="16239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y</m:t>
                                  </m:r>
                                </m:e>
                              </m:rad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757080" y="1052640"/>
                <a:ext cx="737424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ABC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C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е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1405080" y="3568680"/>
                <a:ext cx="14382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3614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есобственный интег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пределение: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Пусть функция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f(x)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непрерывна на интервале                     Если существует                                то этот предел называется несобственным интегралом и 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Если предел, стоящий в правой части равенства, существует и конечен, то несобственный интеграл называется сходящимся, в противном случае - расходящ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765440" y="1844640"/>
                <a:ext cx="15411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4803840" y="33195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6373800" y="1628640"/>
                <a:ext cx="1855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2585880" y="2990880"/>
                <a:ext cx="49388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3760" y="248760"/>
            <a:ext cx="9429840" cy="6357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Значение функции           в точке       из            равно площади          под кривой                 на отрезке           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Т Е О Р Е М А 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непрерывна на           . Т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функция            заданная формул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обладает следующими свойств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епрерывна на отрезке         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имеет производную для всех        из            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удовлетворяющую равен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516720" y="2781360"/>
                <a:ext cx="27129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Объект 1"/>
              <p:cNvSpPr txBox="1"/>
              <p:nvPr/>
            </p:nvSpPr>
            <p:spPr>
              <a:xfrm>
                <a:off x="2916360" y="2492280"/>
                <a:ext cx="120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Объект 2"/>
              <p:cNvSpPr txBox="1"/>
              <p:nvPr/>
            </p:nvSpPr>
            <p:spPr>
              <a:xfrm>
                <a:off x="6877080" y="234936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Объект 5"/>
              <p:cNvSpPr txBox="1"/>
              <p:nvPr/>
            </p:nvSpPr>
            <p:spPr>
              <a:xfrm>
                <a:off x="3421080" y="333360"/>
                <a:ext cx="96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Объект 7"/>
              <p:cNvSpPr txBox="1"/>
              <p:nvPr/>
            </p:nvSpPr>
            <p:spPr>
              <a:xfrm>
                <a:off x="8174160" y="76500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2" name="Picture 33" descr=""/>
          <p:cNvPicPr/>
          <p:nvPr/>
        </p:nvPicPr>
        <p:blipFill>
          <a:blip r:embed="rId1"/>
          <a:stretch/>
        </p:blipFill>
        <p:spPr>
          <a:xfrm>
            <a:off x="4645080" y="4581360"/>
            <a:ext cx="1028520" cy="53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Объект 10"/>
              <p:cNvSpPr txBox="1"/>
              <p:nvPr/>
            </p:nvSpPr>
            <p:spPr>
              <a:xfrm>
                <a:off x="5653080" y="537372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1"/>
              <p:cNvSpPr txBox="1"/>
              <p:nvPr/>
            </p:nvSpPr>
            <p:spPr>
              <a:xfrm>
                <a:off x="6229440" y="6067440"/>
                <a:ext cx="2313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1949400" y="3213000"/>
                <a:ext cx="966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2"/>
              <p:cNvSpPr txBox="1"/>
              <p:nvPr/>
            </p:nvSpPr>
            <p:spPr>
              <a:xfrm>
                <a:off x="5869080" y="345960"/>
                <a:ext cx="38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3"/>
              <p:cNvSpPr txBox="1"/>
              <p:nvPr/>
            </p:nvSpPr>
            <p:spPr>
              <a:xfrm>
                <a:off x="6948360" y="33336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4"/>
              <p:cNvSpPr txBox="1"/>
              <p:nvPr/>
            </p:nvSpPr>
            <p:spPr>
              <a:xfrm>
                <a:off x="1711440" y="765000"/>
                <a:ext cx="701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15"/>
              <p:cNvSpPr txBox="1"/>
              <p:nvPr/>
            </p:nvSpPr>
            <p:spPr>
              <a:xfrm>
                <a:off x="4456080" y="765000"/>
                <a:ext cx="1589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33" descr=""/>
          <p:cNvPicPr/>
          <p:nvPr/>
        </p:nvPicPr>
        <p:blipFill>
          <a:blip r:embed="rId2"/>
          <a:stretch/>
        </p:blipFill>
        <p:spPr>
          <a:xfrm>
            <a:off x="6732720" y="5300640"/>
            <a:ext cx="1028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3760" y="249120"/>
            <a:ext cx="9429840" cy="6492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Формула Ньютона – Лейб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   непрерывна на           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функция             любая ее первообразна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. Тогда определенный интеграл от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о отрезку              рав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значения функции  в точках а и 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b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соответств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1"/>
              <p:cNvSpPr txBox="1"/>
              <p:nvPr/>
            </p:nvSpPr>
            <p:spPr>
              <a:xfrm>
                <a:off x="2989440" y="1171440"/>
                <a:ext cx="120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2"/>
              <p:cNvSpPr txBox="1"/>
              <p:nvPr/>
            </p:nvSpPr>
            <p:spPr>
              <a:xfrm>
                <a:off x="6948360" y="1098720"/>
                <a:ext cx="101916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5"/>
              <p:cNvSpPr txBox="1"/>
              <p:nvPr/>
            </p:nvSpPr>
            <p:spPr>
              <a:xfrm>
                <a:off x="1620720" y="1916280"/>
                <a:ext cx="12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Объект 7"/>
              <p:cNvSpPr txBox="1"/>
              <p:nvPr/>
            </p:nvSpPr>
            <p:spPr>
              <a:xfrm>
                <a:off x="3421080" y="3284640"/>
                <a:ext cx="101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6" name="Picture 33" descr=""/>
          <p:cNvPicPr/>
          <p:nvPr/>
        </p:nvPicPr>
        <p:blipFill>
          <a:blip r:embed="rId1"/>
          <a:stretch/>
        </p:blipFill>
        <p:spPr>
          <a:xfrm>
            <a:off x="231840" y="2568600"/>
            <a:ext cx="1028520" cy="53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Объект 4"/>
              <p:cNvSpPr txBox="1"/>
              <p:nvPr/>
            </p:nvSpPr>
            <p:spPr>
              <a:xfrm>
                <a:off x="324000" y="3357720"/>
                <a:ext cx="93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Объект 6"/>
              <p:cNvSpPr txBox="1"/>
              <p:nvPr/>
            </p:nvSpPr>
            <p:spPr>
              <a:xfrm>
                <a:off x="2340000" y="3716280"/>
                <a:ext cx="460044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Ф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где   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584360" y="5935680"/>
                <a:ext cx="49388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756720" cy="6858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Формула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азывается формулой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ьютона –    Лейб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саак  Ньютон (1643-1727)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– английский физик, математи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строном. Один из создателей классической физики. Ав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ундаментального труда «Математические начала натуральной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илософии» , в котором он изложил Закон всеми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яготения и три закона механики. Разрабо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ифференциальное и интегральное исчисление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Лейбниц Готфрид Вильгельм (1646-17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атематик, физик и изобретатель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юрист, историк, языковед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сновные математические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очи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"Об истинном отношении круга к квадрату" (168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"Новый метод    максимумов и минимумов" (1684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"О скрытой геометрии и анализе неделимых..." (168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7597800" y="1557360"/>
            <a:ext cx="1873080" cy="259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Объект 10"/>
              <p:cNvSpPr txBox="1"/>
              <p:nvPr/>
            </p:nvSpPr>
            <p:spPr>
              <a:xfrm>
                <a:off x="2570040" y="-1440"/>
                <a:ext cx="34434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Ф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324000" y="3900600"/>
            <a:ext cx="2143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721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ычисление определенных интегр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836640"/>
            <a:ext cx="9721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5b1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числение определенных интегралов с использованием формулы Ньютона-Лейбница осуществляется в два ша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первом шаге, используя технику нахождения неопределенного интеграла, получают некоторую первообразную              для подынтегральной функции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втором этапе применяется собственно формула Ньютона-Лейб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Объект 5"/>
              <p:cNvSpPr txBox="1"/>
              <p:nvPr/>
            </p:nvSpPr>
            <p:spPr>
              <a:xfrm>
                <a:off x="2629080" y="3284640"/>
                <a:ext cx="96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Объект 4"/>
              <p:cNvSpPr txBox="1"/>
              <p:nvPr/>
            </p:nvSpPr>
            <p:spPr>
              <a:xfrm>
                <a:off x="8317080" y="3213000"/>
                <a:ext cx="93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3400" y="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1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  Вычисли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извольная первообразная для   функции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меет  вид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меняя формулу Ньютона – Лейбница, 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Объект 1"/>
              <p:cNvSpPr txBox="1"/>
              <p:nvPr/>
            </p:nvSpPr>
            <p:spPr>
              <a:xfrm>
                <a:off x="3421080" y="2193840"/>
                <a:ext cx="1693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Объект 4"/>
              <p:cNvSpPr txBox="1"/>
              <p:nvPr/>
            </p:nvSpPr>
            <p:spPr>
              <a:xfrm>
                <a:off x="2916360" y="2708280"/>
                <a:ext cx="25192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Объект 6"/>
              <p:cNvSpPr txBox="1"/>
              <p:nvPr/>
            </p:nvSpPr>
            <p:spPr>
              <a:xfrm>
                <a:off x="4402080" y="620640"/>
                <a:ext cx="13953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2" name="Object 12"/>
          <p:cNvGraphicFramePr/>
          <p:nvPr/>
        </p:nvGraphicFramePr>
        <p:xfrm>
          <a:off x="1820880" y="5157720"/>
          <a:ext cx="51588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5157720"/>
                    <a:ext cx="5158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13"/>
          <p:cNvGraphicFramePr/>
          <p:nvPr/>
        </p:nvGraphicFramePr>
        <p:xfrm>
          <a:off x="2367000" y="4092480"/>
          <a:ext cx="424008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7000" y="4092480"/>
                    <a:ext cx="4240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3400" y="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2.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чис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4645080" y="0"/>
                <a:ext cx="17510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2052720" y="1413000"/>
                <a:ext cx="596592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2340000" y="4437000"/>
                <a:ext cx="9795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23760" y="249120"/>
            <a:ext cx="9429840" cy="6492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мена переменной в определенном интегр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орема.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усть функция             имеет непрерыв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роизводную на           ,                                    и фун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епрерывна в каждой токе               ,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Тогда справедливо следующее 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Эту формулу называют формул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мены переменной в определенном интегр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35b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5b1f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Объект 1"/>
              <p:cNvSpPr txBox="1"/>
              <p:nvPr/>
            </p:nvSpPr>
            <p:spPr>
              <a:xfrm>
                <a:off x="4851360" y="1125360"/>
                <a:ext cx="795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Объект 2"/>
              <p:cNvSpPr txBox="1"/>
              <p:nvPr/>
            </p:nvSpPr>
            <p:spPr>
              <a:xfrm>
                <a:off x="4140360" y="1820880"/>
                <a:ext cx="3395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Объект 5"/>
              <p:cNvSpPr txBox="1"/>
              <p:nvPr/>
            </p:nvSpPr>
            <p:spPr>
              <a:xfrm>
                <a:off x="324000" y="2565360"/>
                <a:ext cx="933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Объект 7"/>
              <p:cNvSpPr txBox="1"/>
              <p:nvPr/>
            </p:nvSpPr>
            <p:spPr>
              <a:xfrm>
                <a:off x="2844720" y="1844640"/>
                <a:ext cx="1170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Объект 4"/>
              <p:cNvSpPr txBox="1"/>
              <p:nvPr/>
            </p:nvSpPr>
            <p:spPr>
              <a:xfrm>
                <a:off x="6084720" y="2565360"/>
                <a:ext cx="13780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1882800" y="3789360"/>
                <a:ext cx="54230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β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ϕ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396720" y="3303720"/>
                <a:ext cx="1617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-360" y="-27000"/>
            <a:ext cx="9698040" cy="6742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мер  3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.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числить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ледовательно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3979800" y="606600"/>
                <a:ext cx="2611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1981080" y="1844640"/>
                <a:ext cx="729468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1405080" y="4365720"/>
                <a:ext cx="771660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1:53Z</dcterms:created>
  <dc:creator>user</dc:creator>
  <dc:description/>
  <dc:language>en-US</dc:language>
  <cp:lastModifiedBy>Пользователь</cp:lastModifiedBy>
  <dcterms:modified xsi:type="dcterms:W3CDTF">2018-07-01T12:42:46Z</dcterms:modified>
  <cp:revision>268</cp:revision>
  <dc:subject/>
  <dc:title>НЕПРЕРЫВНАЯ СЛУЧАЙНАЯ ВЕЛИЧИНА.</dc:title>
</cp:coreProperties>
</file>