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wmf" ContentType="image/x-wmf"/>
  <Override PartName="/ppt/media/image30.png" ContentType="image/pn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06C-07BD-4970-A77B-9A0D09FA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38B-5017-4FC9-8334-A307CD17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41F-FA5F-413C-ACB0-B0D763A5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56C-5392-4A55-B6F8-A2736AEC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B2FA-4EB3-4206-A12C-8263FE30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136D-FDD8-4E01-9936-52BF97D4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6A03-EA89-4908-B5F0-80B9E2B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C82-1E46-477B-BEBF-B708DD5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9428-98B7-4975-A192-7D66A2B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0F1-3F2E-4B0C-8CC7-33A1E58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667-3E65-4078-9BD6-3478DD9B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D5D-F475-4782-B8C4-CDC7CBE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71A-046D-4D5A-9BFA-0E45681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7415-F48D-4DAE-A496-E2E7531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7FFE-5AE0-4DFB-B952-0F2CBE9C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2A4E-3E59-4278-9D02-0C2C26EA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E279-5873-4EB2-A934-301B81A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3873D-7D88-43E5-A843-21455E96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913DC-B58A-4A98-8291-1D2EE9F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BD3E3-8125-4C07-8F19-E49B6D3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4E1E7-A835-4F77-ABD8-ED8BAFF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4A91F-C503-4932-8145-1AB38FA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818-B271-47DC-A189-F2FEB53A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BD0F5-1C56-4BEB-8D96-1445596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49DFC-319D-4B5D-80B4-9F6C52B1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04F44-B7F6-44CF-8F7B-E7AE5C5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6D501-1518-4F10-88F9-223461D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576C3-E19C-49FF-84E1-A6D2E90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F87AD-C685-4947-A53C-73F1B46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FDEBA-DEE4-40C0-B4EF-0F86C99E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800B-2260-44CF-BA14-F13090BE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C2D4-7B3D-44AD-B96F-0F851960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F4E7-62C3-4D94-8959-40D7427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65A-8A31-4AFB-BB1F-36E2B46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CA41-84C9-44EB-B28C-0A41699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0656-4C6C-44DC-A89A-763A233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BB86-5E67-410D-AF6D-C261350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20A0-623B-4D5B-A112-53952FC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41AC-396A-47A5-A4DB-43D23A5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3396-1568-42D0-B82B-A822B36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3B76-7372-4A4E-972C-CB5E054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CD75-24A5-4252-9EE3-8BA8FCF1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578A-A2CE-4196-AFDE-DF64BF11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7C4-2E2E-43AA-BCC8-48984D7B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B15-7EDD-46BD-9011-4DE99D9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306-E413-49C5-A40D-110707B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E38-3B38-41AE-BCC9-17E85BD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3B2-C1C9-40F4-AB8D-731B427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26BC-377C-40B2-BBB9-01E7DD3CF191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05F6-2947-4F99-99FF-498F9BBDB2F1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8A62-D598-419A-8212-FAEFE3302D97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6A6-8649-4D2C-895F-A0EC0A377AD7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8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1" descr="http://www.math24.ru/images/Hopital.jpg"/>
          <p:cNvPicPr/>
          <p:nvPr/>
        </p:nvPicPr>
        <p:blipFill>
          <a:blip r:embed="rId1"/>
          <a:stretch/>
        </p:blipFill>
        <p:spPr>
          <a:xfrm>
            <a:off x="684360" y="2349360"/>
            <a:ext cx="3024000" cy="360864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95F5-971C-4A14-81D7-739C778E7410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924360" y="206064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о правило впер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оминалось в кни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ифференци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числению, опубликов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1696 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ранцузским математ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ийомом Лопита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1661- 17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12500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618E-202F-496C-94B8-10822DC19AC3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Объект 4"/>
              <p:cNvSpPr txBox="1"/>
              <p:nvPr/>
            </p:nvSpPr>
            <p:spPr>
              <a:xfrm>
                <a:off x="585720" y="1484280"/>
                <a:ext cx="34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TextBox 5"/>
          <p:cNvSpPr/>
          <p:nvPr/>
        </p:nvSpPr>
        <p:spPr>
          <a:xfrm>
            <a:off x="133200" y="270828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Объект 6"/>
              <p:cNvSpPr txBox="1"/>
              <p:nvPr/>
            </p:nvSpPr>
            <p:spPr>
              <a:xfrm>
                <a:off x="6667560" y="2492280"/>
                <a:ext cx="627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Объект 7"/>
              <p:cNvSpPr txBox="1"/>
              <p:nvPr/>
            </p:nvSpPr>
            <p:spPr>
              <a:xfrm>
                <a:off x="1379520" y="3213000"/>
                <a:ext cx="526104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878040" y="476280"/>
            <a:ext cx="6608520" cy="2522520"/>
          </a:xfrm>
          <a:prstGeom prst="rect">
            <a:avLst/>
          </a:prstGeom>
          <a:ln w="0">
            <a:noFill/>
          </a:ln>
        </p:spPr>
      </p:pic>
      <p:sp>
        <p:nvSpPr>
          <p:cNvPr id="46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DA09-40F7-4401-9631-F6F103380FAC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Объект 6"/>
              <p:cNvSpPr txBox="1"/>
              <p:nvPr/>
            </p:nvSpPr>
            <p:spPr>
              <a:xfrm>
                <a:off x="5003640" y="765000"/>
                <a:ext cx="5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Объект 7"/>
              <p:cNvSpPr txBox="1"/>
              <p:nvPr/>
            </p:nvSpPr>
            <p:spPr>
              <a:xfrm>
                <a:off x="3924360" y="2224080"/>
                <a:ext cx="46130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10"/>
          <p:cNvSpPr/>
          <p:nvPr/>
        </p:nvSpPr>
        <p:spPr>
          <a:xfrm>
            <a:off x="491760" y="31827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11"/>
              <p:cNvSpPr txBox="1"/>
              <p:nvPr/>
            </p:nvSpPr>
            <p:spPr>
              <a:xfrm>
                <a:off x="3780000" y="3645000"/>
                <a:ext cx="21571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TextBox 12"/>
          <p:cNvSpPr/>
          <p:nvPr/>
        </p:nvSpPr>
        <p:spPr>
          <a:xfrm>
            <a:off x="419040" y="447984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e3d2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Объект 13"/>
              <p:cNvSpPr txBox="1"/>
              <p:nvPr/>
            </p:nvSpPr>
            <p:spPr>
              <a:xfrm>
                <a:off x="7380360" y="44514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14"/>
          <p:cNvSpPr/>
          <p:nvPr/>
        </p:nvSpPr>
        <p:spPr>
          <a:xfrm>
            <a:off x="684360" y="5127480"/>
            <a:ext cx="71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еписываем данное выражение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TextBox 2" descr=""/>
          <p:cNvPicPr/>
          <p:nvPr/>
        </p:nvPicPr>
        <p:blipFill>
          <a:blip r:embed="rId2"/>
          <a:stretch/>
        </p:blipFill>
        <p:spPr>
          <a:xfrm>
            <a:off x="1047600" y="3560760"/>
            <a:ext cx="2725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901800" y="2120760"/>
            <a:ext cx="6742080" cy="1670040"/>
          </a:xfrm>
          <a:prstGeom prst="rect">
            <a:avLst/>
          </a:prstGeom>
          <a:ln w="0">
            <a:noFill/>
          </a:ln>
        </p:spPr>
      </p:pic>
      <p:sp>
        <p:nvSpPr>
          <p:cNvPr id="47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C4B9-6552-4A0E-99BE-A83AF22C35E6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6"/>
              <p:cNvSpPr txBox="1"/>
              <p:nvPr/>
            </p:nvSpPr>
            <p:spPr>
              <a:xfrm>
                <a:off x="6516720" y="20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TextBox 10"/>
          <p:cNvSpPr/>
          <p:nvPr/>
        </p:nvSpPr>
        <p:spPr>
          <a:xfrm>
            <a:off x="491760" y="5703840"/>
            <a:ext cx="20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2"/>
              <p:cNvSpPr txBox="1"/>
              <p:nvPr/>
            </p:nvSpPr>
            <p:spPr>
              <a:xfrm>
                <a:off x="826920" y="595440"/>
                <a:ext cx="49690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5"/>
              <p:cNvSpPr txBox="1"/>
              <p:nvPr/>
            </p:nvSpPr>
            <p:spPr>
              <a:xfrm>
                <a:off x="755640" y="3500280"/>
                <a:ext cx="698508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e>
                        </m:eqArr>
                      </m:e>
                      <m:lim/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22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155736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    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(            </a:t>
            </a:r>
            <a:r>
              <a:rPr b="0" lang="ru-RU" sz="24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           следует представить разность                         в виде неопределенности типа        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ее воспользоваться правилом Лопитал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3CF-CE33-4FB8-A44A-428620231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435640" y="1628640"/>
          <a:ext cx="11253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1125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788000" y="2060640"/>
          <a:ext cx="280836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060640"/>
                    <a:ext cx="28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7093080" y="2708280"/>
          <a:ext cx="1079280" cy="3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2708280"/>
                    <a:ext cx="1079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0"/>
          <p:cNvGraphicFramePr/>
          <p:nvPr/>
        </p:nvGraphicFramePr>
        <p:xfrm>
          <a:off x="5435640" y="3097080"/>
          <a:ext cx="180036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097080"/>
                    <a:ext cx="180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5364000" y="3500280"/>
          <a:ext cx="28908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500280"/>
                    <a:ext cx="289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14"/>
          <p:cNvGraphicFramePr/>
          <p:nvPr/>
        </p:nvGraphicFramePr>
        <p:xfrm>
          <a:off x="1187280" y="4140360"/>
          <a:ext cx="5905800" cy="19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140360"/>
                    <a:ext cx="5905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3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Пример  5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Объект 4"/>
              <p:cNvSpPr txBox="1"/>
              <p:nvPr/>
            </p:nvSpPr>
            <p:spPr>
              <a:xfrm>
                <a:off x="1932120" y="2637000"/>
                <a:ext cx="4655880" cy="26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∞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AAAA-6EA1-4438-B808-F5FE8F09A8A6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385920" y="112536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908000" y="949320"/>
                <a:ext cx="223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Box 3"/>
          <p:cNvSpPr/>
          <p:nvPr/>
        </p:nvSpPr>
        <p:spPr>
          <a:xfrm>
            <a:off x="400680" y="206064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541440" y="5445000"/>
            <a:ext cx="11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8"/>
              <p:cNvSpPr txBox="1"/>
              <p:nvPr/>
            </p:nvSpPr>
            <p:spPr>
              <a:xfrm>
                <a:off x="1692360" y="5327640"/>
                <a:ext cx="552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560" y="1125000"/>
            <a:ext cx="8713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4)  Неопределенности  тип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895-2BBB-413A-A896-AB0C5F54D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4"/>
          <p:cNvGraphicFramePr/>
          <p:nvPr/>
        </p:nvGraphicFramePr>
        <p:xfrm>
          <a:off x="6121440" y="1125360"/>
          <a:ext cx="20876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25360"/>
                    <a:ext cx="2087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69800" y="18435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числения пре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4375080" y="1730520"/>
          <a:ext cx="19447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5080" y="1730520"/>
                    <a:ext cx="194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0"/>
          <p:cNvSpPr/>
          <p:nvPr/>
        </p:nvSpPr>
        <p:spPr>
          <a:xfrm>
            <a:off x="245880" y="2564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556000" y="2565360"/>
          <a:ext cx="15112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565360"/>
                    <a:ext cx="1511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1"/>
          <p:cNvSpPr/>
          <p:nvPr/>
        </p:nvSpPr>
        <p:spPr>
          <a:xfrm>
            <a:off x="324000" y="2996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учаи,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46080" y="3427920"/>
            <a:ext cx="45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еобразовать вы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2"/>
          <p:cNvGraphicFramePr/>
          <p:nvPr/>
        </p:nvGraphicFramePr>
        <p:xfrm>
          <a:off x="4714920" y="3357720"/>
          <a:ext cx="1297080" cy="51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357720"/>
                    <a:ext cx="129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14"/>
          <p:cNvSpPr/>
          <p:nvPr/>
        </p:nvSpPr>
        <p:spPr>
          <a:xfrm>
            <a:off x="3534480" y="3788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арифмического тождества: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421560" y="378936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4286520" y="256536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адают в перечис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7"/>
          <p:cNvGraphicFramePr/>
          <p:nvPr/>
        </p:nvGraphicFramePr>
        <p:xfrm>
          <a:off x="2556000" y="4149720"/>
          <a:ext cx="4895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4149720"/>
                    <a:ext cx="4895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0"/>
          <p:cNvGraphicFramePr/>
          <p:nvPr/>
        </p:nvGraphicFramePr>
        <p:xfrm>
          <a:off x="5857920" y="4857840"/>
          <a:ext cx="2303280" cy="58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57920" y="4857840"/>
                    <a:ext cx="2303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9"/>
          <p:cNvGraphicFramePr/>
          <p:nvPr/>
        </p:nvGraphicFramePr>
        <p:xfrm>
          <a:off x="6153120" y="5781600"/>
          <a:ext cx="100800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3120" y="5781600"/>
                    <a:ext cx="10080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1"/>
          <p:cNvSpPr/>
          <p:nvPr/>
        </p:nvSpPr>
        <p:spPr>
          <a:xfrm>
            <a:off x="236880" y="494064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ить предел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2286000" y="5360040"/>
            <a:ext cx="57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х перечисленных случаях имеет неопределенность  тип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9036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642960" y="4941720"/>
            <a:ext cx="84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18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1628280"/>
            <a:ext cx="7926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3)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оспользоваться свойством непрерывности функци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1F53-2A2A-4D35-B243-C51BC9C6AD69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2771640" y="1844640"/>
          <a:ext cx="15130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44640"/>
                    <a:ext cx="1513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395280" y="2997360"/>
          <a:ext cx="7416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997360"/>
                    <a:ext cx="741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имер 6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Объект 1"/>
              <p:cNvSpPr txBox="1"/>
              <p:nvPr/>
            </p:nvSpPr>
            <p:spPr>
              <a:xfrm>
                <a:off x="2268360" y="1442880"/>
                <a:ext cx="2157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4D1C-3040-49A0-A643-CB8B9B630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979200" y="15573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977040" y="234936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Объект 4"/>
              <p:cNvSpPr txBox="1"/>
              <p:nvPr/>
            </p:nvSpPr>
            <p:spPr>
              <a:xfrm>
                <a:off x="770040" y="2781360"/>
                <a:ext cx="65386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∞</m:t>
                                </m:r>
                              </m:num>
                              <m:den>
                                <m:r>
                                  <m:t xml:space="preserve">∞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320840" y="2852280"/>
            <a:ext cx="137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ак как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69EE-AD62-4C6F-A1A9-EBC509CFA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Объект 4"/>
              <p:cNvSpPr txBox="1"/>
              <p:nvPr/>
            </p:nvSpPr>
            <p:spPr>
              <a:xfrm>
                <a:off x="1560600" y="620640"/>
                <a:ext cx="337176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Объект 8"/>
              <p:cNvSpPr txBox="1"/>
              <p:nvPr/>
            </p:nvSpPr>
            <p:spPr>
              <a:xfrm>
                <a:off x="2940120" y="2205000"/>
                <a:ext cx="24955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TextBox 11"/>
          <p:cNvSpPr/>
          <p:nvPr/>
        </p:nvSpPr>
        <p:spPr>
          <a:xfrm>
            <a:off x="1508400" y="4365720"/>
            <a:ext cx="140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сю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Объект 12"/>
              <p:cNvSpPr txBox="1"/>
              <p:nvPr/>
            </p:nvSpPr>
            <p:spPr>
              <a:xfrm>
                <a:off x="2719440" y="4221000"/>
                <a:ext cx="2698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TextBox 13"/>
          <p:cNvSpPr/>
          <p:nvPr/>
        </p:nvSpPr>
        <p:spPr>
          <a:xfrm>
            <a:off x="3421800" y="56610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твет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Объект 1" descr=""/>
          <p:cNvPicPr/>
          <p:nvPr/>
        </p:nvPicPr>
        <p:blipFill>
          <a:blip r:embed="rId1"/>
          <a:stretch/>
        </p:blipFill>
        <p:spPr>
          <a:xfrm>
            <a:off x="281160" y="291960"/>
            <a:ext cx="7600680" cy="1646280"/>
          </a:xfrm>
          <a:prstGeom prst="rect">
            <a:avLst/>
          </a:prstGeom>
          <a:ln w="0">
            <a:noFill/>
          </a:ln>
        </p:spPr>
      </p:pic>
      <p:sp>
        <p:nvSpPr>
          <p:cNvPr id="56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420-DF3B-4698-8A75-F3E7D7C7E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РАСКРЫТИЕ  НЕОПРЕДЕЛЕННОСТЕЙ</a:t>
            </a:r>
            <a:br>
              <a:rPr sz="2500"/>
            </a:br>
            <a:r>
              <a:rPr b="0" lang="ru-RU" sz="2500" spc="-1" strike="noStrike">
                <a:solidFill>
                  <a:srgbClr val="993300"/>
                </a:solidFill>
                <a:latin typeface="Century Gothic"/>
              </a:rPr>
              <a:t>Правило Лопиталя ( </a:t>
            </a:r>
            <a:r>
              <a:rPr b="0" lang="en-US" sz="2500" spc="-1" strike="noStrike">
                <a:solidFill>
                  <a:srgbClr val="993300"/>
                </a:solidFill>
                <a:latin typeface="Century Gothic"/>
              </a:rPr>
              <a:t>L’Hopitale)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557360"/>
            <a:ext cx="7634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  неопределенности типа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ли       ,   при                 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8B5-E44B-4FBD-B3EC-B8F07010236F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5508720" y="1557360"/>
          <a:ext cx="3585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557360"/>
                    <a:ext cx="358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6804000" y="1484280"/>
          <a:ext cx="50472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484280"/>
                    <a:ext cx="504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4572000" y="2205000"/>
          <a:ext cx="12240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1224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6659640" y="2924280"/>
          <a:ext cx="3585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924280"/>
                    <a:ext cx="358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2"/>
          <p:cNvGraphicFramePr/>
          <p:nvPr/>
        </p:nvGraphicFramePr>
        <p:xfrm>
          <a:off x="1403280" y="3500280"/>
          <a:ext cx="5047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3500280"/>
                    <a:ext cx="50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4"/>
          <p:cNvGraphicFramePr/>
          <p:nvPr/>
        </p:nvGraphicFramePr>
        <p:xfrm>
          <a:off x="5867280" y="3500280"/>
          <a:ext cx="1441440" cy="63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500280"/>
                    <a:ext cx="14414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16"/>
          <p:cNvGraphicFramePr/>
          <p:nvPr/>
        </p:nvGraphicFramePr>
        <p:xfrm>
          <a:off x="2916360" y="3500280"/>
          <a:ext cx="1368360" cy="84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500280"/>
                    <a:ext cx="136836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9"/>
          <p:cNvGraphicFramePr/>
          <p:nvPr/>
        </p:nvGraphicFramePr>
        <p:xfrm>
          <a:off x="1619280" y="5373720"/>
          <a:ext cx="2089080" cy="119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5373720"/>
                    <a:ext cx="2089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8"/>
          <p:cNvGraphicFramePr/>
          <p:nvPr/>
        </p:nvGraphicFramePr>
        <p:xfrm>
          <a:off x="3780000" y="5373720"/>
          <a:ext cx="1871640" cy="11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80000" y="5373720"/>
                    <a:ext cx="18716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5122800" cy="44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2200"/>
            </a:br>
            <a:r>
              <a:rPr b="0" lang="ru-RU" sz="2800" spc="-1" strike="noStrike">
                <a:solidFill>
                  <a:srgbClr val="94c600"/>
                </a:solidFill>
                <a:latin typeface="Century Gothic"/>
              </a:rPr>
              <a:t>ТЕОРЕМА ЛОПИТАЛЯ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592440" y="3938760"/>
                <a:ext cx="1676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E5FF-B591-4C8C-A26B-683B9C4D47DF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611280" y="836640"/>
            <a:ext cx="69850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ы и имеют производные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'(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) ≠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ой окрестност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быть может самой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если существует предел отношения производных этих функ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554200" y="3125880"/>
                <a:ext cx="4178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4649760" y="5229360"/>
                <a:ext cx="1771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620640"/>
            <a:ext cx="6483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 существует и предел отношения самих функций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     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имеет место следующее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218160" indent="-218160"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73E-8C36-45CD-A55D-04AACDF0B439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635280" y="1052640"/>
                <a:ext cx="1508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100240" y="2637000"/>
                <a:ext cx="397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TextBox 9"/>
          <p:cNvSpPr/>
          <p:nvPr/>
        </p:nvSpPr>
        <p:spPr>
          <a:xfrm>
            <a:off x="755280" y="5796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39640" y="3573360"/>
            <a:ext cx="72723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Gothic"/>
              </a:rPr>
              <a:t>Замечание. 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тметим, что формула (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) справедлива только в том случае если предел, стоящий справа, существует. Может случиться, что предел, стоящий слева существует, в то время как предел, стоящий в правой части равенства,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4932360" y="5462640"/>
                <a:ext cx="220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331640" y="-963720"/>
            <a:ext cx="6483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272880" indent="-272880"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64D-E30D-44AD-A4AD-76A967927A33}" type="slidenum">
              <a:rPr b="0" lang="ru-RU" sz="1200" spc="-1" strike="noStrike">
                <a:solidFill>
                  <a:srgbClr val="3e3d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879480" y="781200"/>
                <a:ext cx="53481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Box 11"/>
          <p:cNvSpPr/>
          <p:nvPr/>
        </p:nvSpPr>
        <p:spPr>
          <a:xfrm>
            <a:off x="695520" y="2195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ел отношения произв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16360" y="2035080"/>
                <a:ext cx="14702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TextBox 13"/>
          <p:cNvSpPr/>
          <p:nvPr/>
        </p:nvSpPr>
        <p:spPr>
          <a:xfrm>
            <a:off x="672120" y="2843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23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56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Gothic"/>
              </a:rPr>
              <a:t>1)  Неопределенности  типа      или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                 ,  относящегося 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определенности типа        или       , при  условии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 существовании конечного предела   пользу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авилом  Лопитал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AF3-3797-49DF-A880-6C68F0323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"/>
          <p:cNvGraphicFramePr/>
          <p:nvPr/>
        </p:nvGraphicFramePr>
        <p:xfrm>
          <a:off x="5867280" y="1413000"/>
          <a:ext cx="3654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13000"/>
                    <a:ext cx="36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4"/>
          <p:cNvGraphicFramePr/>
          <p:nvPr/>
        </p:nvGraphicFramePr>
        <p:xfrm>
          <a:off x="7020000" y="1341360"/>
          <a:ext cx="6872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341360"/>
                    <a:ext cx="68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4572000" y="1919160"/>
          <a:ext cx="1512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919160"/>
                    <a:ext cx="151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0"/>
          <p:cNvGraphicFramePr/>
          <p:nvPr/>
        </p:nvGraphicFramePr>
        <p:xfrm>
          <a:off x="4591080" y="2944800"/>
          <a:ext cx="3589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1080" y="2944800"/>
                    <a:ext cx="35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5796000" y="2944800"/>
          <a:ext cx="36684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944800"/>
                    <a:ext cx="366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4"/>
          <p:cNvGraphicFramePr/>
          <p:nvPr/>
        </p:nvGraphicFramePr>
        <p:xfrm>
          <a:off x="2195640" y="3411360"/>
          <a:ext cx="15843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3411360"/>
                    <a:ext cx="1584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7093080" y="2813040"/>
          <a:ext cx="1224000" cy="84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3080" y="2813040"/>
                    <a:ext cx="1224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9"/>
          <p:cNvGraphicFramePr/>
          <p:nvPr/>
        </p:nvGraphicFramePr>
        <p:xfrm>
          <a:off x="2124000" y="4751280"/>
          <a:ext cx="2376720" cy="148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4751280"/>
                    <a:ext cx="2376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8"/>
          <p:cNvGraphicFramePr/>
          <p:nvPr/>
        </p:nvGraphicFramePr>
        <p:xfrm>
          <a:off x="4716360" y="4829040"/>
          <a:ext cx="2160720" cy="140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4829040"/>
                    <a:ext cx="21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Пример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599840"/>
            <a:ext cx="1811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Найти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90C-F92E-4160-959A-F656866B7D9A}" type="slidenum">
              <a:rPr b="0" lang="ru-RU" sz="12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4"/>
              <p:cNvSpPr txBox="1"/>
              <p:nvPr/>
            </p:nvSpPr>
            <p:spPr>
              <a:xfrm>
                <a:off x="711360" y="1989000"/>
                <a:ext cx="2023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133200" y="3213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Имеем неопределенность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ъект 6"/>
              <p:cNvSpPr txBox="1"/>
              <p:nvPr/>
            </p:nvSpPr>
            <p:spPr>
              <a:xfrm>
                <a:off x="6629400" y="2997360"/>
                <a:ext cx="7048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Объект 7"/>
              <p:cNvSpPr txBox="1"/>
              <p:nvPr/>
            </p:nvSpPr>
            <p:spPr>
              <a:xfrm>
                <a:off x="755640" y="4005360"/>
                <a:ext cx="6508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∞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8"/>
          <p:cNvSpPr/>
          <p:nvPr/>
        </p:nvSpPr>
        <p:spPr>
          <a:xfrm>
            <a:off x="789480" y="5445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вет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8920" y="1557360"/>
            <a:ext cx="741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Century Gothic"/>
              </a:rPr>
              <a:t>Неопределенности  типа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вычисления предела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                        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носящегося к неопределенности типа          ,             следует преобразовать произведение                              в частно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DDC-9293-41F1-BEA2-485A5813A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5435640" y="1413000"/>
          <a:ext cx="108108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10810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6"/>
          <p:cNvGraphicFramePr/>
          <p:nvPr/>
        </p:nvGraphicFramePr>
        <p:xfrm>
          <a:off x="4932360" y="1989000"/>
          <a:ext cx="28814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89000"/>
                    <a:ext cx="28814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8"/>
          <p:cNvGraphicFramePr/>
          <p:nvPr/>
        </p:nvGraphicFramePr>
        <p:xfrm>
          <a:off x="7308720" y="3041640"/>
          <a:ext cx="865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041640"/>
                    <a:ext cx="865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0"/>
          <p:cNvGraphicFramePr/>
          <p:nvPr/>
        </p:nvGraphicFramePr>
        <p:xfrm>
          <a:off x="5940360" y="3500280"/>
          <a:ext cx="151308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500280"/>
                    <a:ext cx="1513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3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2"/>
          <p:cNvGraphicFramePr/>
          <p:nvPr/>
        </p:nvGraphicFramePr>
        <p:xfrm>
          <a:off x="611280" y="4581360"/>
          <a:ext cx="2879640" cy="14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287964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15"/>
          <p:cNvSpPr/>
          <p:nvPr/>
        </p:nvSpPr>
        <p:spPr>
          <a:xfrm>
            <a:off x="3465720" y="472320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4"/>
          <p:cNvGraphicFramePr/>
          <p:nvPr/>
        </p:nvGraphicFramePr>
        <p:xfrm>
          <a:off x="7236000" y="4508640"/>
          <a:ext cx="36504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4508640"/>
                    <a:ext cx="3650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1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4c600"/>
                </a:solidFill>
                <a:uFillTx/>
                <a:latin typeface="Century Gothic"/>
              </a:rPr>
              <a:t> </a:t>
            </a:r>
            <a:r>
              <a:rPr b="0" i="1" lang="ru-RU" sz="2400" spc="-1" strike="noStrike" u="sng">
                <a:solidFill>
                  <a:srgbClr val="94c600"/>
                </a:solidFill>
                <a:uFillTx/>
                <a:latin typeface="Century Gothic"/>
              </a:rPr>
              <a:t>ПРИЕМЫ  РАСКРЫТИЯ  НЕОПРЕДЕЛЕННОСТЕЙ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45" name="Object 4"/>
          <p:cNvGraphicFramePr/>
          <p:nvPr/>
        </p:nvGraphicFramePr>
        <p:xfrm>
          <a:off x="1258920" y="1735200"/>
          <a:ext cx="295128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35200"/>
                    <a:ext cx="29512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E108-A3F2-4C06-8ABC-E7FF69D90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7"/>
          <p:cNvGraphicFramePr/>
          <p:nvPr/>
        </p:nvGraphicFramePr>
        <p:xfrm>
          <a:off x="7596360" y="1557360"/>
          <a:ext cx="5238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557360"/>
                    <a:ext cx="523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9"/>
          <p:cNvSpPr/>
          <p:nvPr/>
        </p:nvSpPr>
        <p:spPr>
          <a:xfrm>
            <a:off x="395280" y="17323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897720" y="1915200"/>
            <a:ext cx="36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пределенность тип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973440" y="3859560"/>
            <a:ext cx="67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оспользоваться  правилом  Лопит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6:15:39Z</dcterms:created>
  <dc:creator>к.502</dc:creator>
  <dc:description/>
  <dc:language>en-US</dc:language>
  <cp:lastModifiedBy>Пользователь</cp:lastModifiedBy>
  <dcterms:modified xsi:type="dcterms:W3CDTF">2018-07-01T12:37:23Z</dcterms:modified>
  <cp:revision>70</cp:revision>
  <dc:subject/>
  <dc:title>ПРОИЗВОДНАЯ  ФУНКЦИИ </dc:title>
</cp:coreProperties>
</file>