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71E-8829-40BD-9007-BAEBF672A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76A-F660-41B5-B404-159BCFD75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378-2593-4319-B58C-169EB6CB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695-5035-45B2-92B2-6E2F67AC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8BE-E5C3-4E48-97B2-432ED8AB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95F-E737-40FB-8EE4-501A8B39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8FE-95A8-4FF8-9244-5C5B9ED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FF9-4D50-4F69-B53F-E476340F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282-2269-4536-8964-B778A1D5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80E-ADE3-4313-927D-5892BDE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74320"/>
            <a:ext cx="8750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1BA-4292-4EDC-8709-DED199F8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88E-A4B4-40A7-B4A9-1936832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A8B-F42D-4264-B850-AAB15DD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248-3614-4877-ABE6-612CFD6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FBB8-1DE5-4829-B0B1-F006AD7D2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60" y="115560"/>
            <a:ext cx="9429840" cy="64818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грал с переменным верхним пре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.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для любого     из           функция           интегриру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отрезке            , следовательно на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пределена 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отора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тегралом  с переменным верхним предело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896760" y="3728880"/>
                <a:ext cx="3027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Line 8"/>
          <p:cNvSpPr/>
          <p:nvPr/>
        </p:nvSpPr>
        <p:spPr>
          <a:xfrm>
            <a:off x="5076720" y="5229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013440" y="3165480"/>
            <a:ext cx="0" cy="263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300720" y="4581360"/>
            <a:ext cx="0" cy="64800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8821800" y="4149720"/>
            <a:ext cx="0" cy="107964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885080" y="3699000"/>
            <a:ext cx="0" cy="1530360"/>
          </a:xfrm>
          <a:prstGeom prst="line">
            <a:avLst/>
          </a:prstGeom>
          <a:ln w="9360">
            <a:solidFill>
              <a:srgbClr val="ffc000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1"/>
              <p:cNvSpPr txBox="1"/>
              <p:nvPr/>
            </p:nvSpPr>
            <p:spPr>
              <a:xfrm>
                <a:off x="2989440" y="90792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2"/>
              <p:cNvSpPr txBox="1"/>
              <p:nvPr/>
            </p:nvSpPr>
            <p:spPr>
              <a:xfrm>
                <a:off x="6948360" y="836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3"/>
              <p:cNvSpPr txBox="1"/>
              <p:nvPr/>
            </p:nvSpPr>
            <p:spPr>
              <a:xfrm>
                <a:off x="2052720" y="162864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4"/>
              <p:cNvSpPr txBox="1"/>
              <p:nvPr/>
            </p:nvSpPr>
            <p:spPr>
              <a:xfrm>
                <a:off x="2989440" y="1557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508720" y="160344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2268360" y="2276640"/>
                <a:ext cx="10195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6805440" y="2349360"/>
                <a:ext cx="101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Picture 33" descr=""/>
          <p:cNvPicPr/>
          <p:nvPr/>
        </p:nvPicPr>
        <p:blipFill>
          <a:blip r:embed="rId1"/>
          <a:stretch/>
        </p:blipFill>
        <p:spPr>
          <a:xfrm>
            <a:off x="4068720" y="3068640"/>
            <a:ext cx="10288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6343560" y="3490920"/>
            <a:ext cx="2478240" cy="1317600"/>
          </a:xfrm>
          <a:custGeom>
            <a:avLst/>
            <a:gdLst/>
            <a:ahLst/>
            <a:rect l="l" t="t" r="r" b="b"/>
            <a:pathLst>
              <a:path w="1716" h="695">
                <a:moveTo>
                  <a:pt x="0" y="597"/>
                </a:moveTo>
                <a:cubicBezTo>
                  <a:pt x="68" y="479"/>
                  <a:pt x="136" y="362"/>
                  <a:pt x="227" y="370"/>
                </a:cubicBezTo>
                <a:cubicBezTo>
                  <a:pt x="318" y="378"/>
                  <a:pt x="385" y="695"/>
                  <a:pt x="544" y="642"/>
                </a:cubicBezTo>
                <a:cubicBezTo>
                  <a:pt x="703" y="589"/>
                  <a:pt x="997" y="106"/>
                  <a:pt x="1179" y="53"/>
                </a:cubicBezTo>
                <a:cubicBezTo>
                  <a:pt x="1361" y="0"/>
                  <a:pt x="1550" y="272"/>
                  <a:pt x="1633" y="325"/>
                </a:cubicBezTo>
                <a:cubicBezTo>
                  <a:pt x="1716" y="378"/>
                  <a:pt x="1697" y="374"/>
                  <a:pt x="1678" y="37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8"/>
              <p:cNvSpPr txBox="1"/>
              <p:nvPr/>
            </p:nvSpPr>
            <p:spPr>
              <a:xfrm>
                <a:off x="6951600" y="326232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9"/>
              <p:cNvSpPr txBox="1"/>
              <p:nvPr/>
            </p:nvSpPr>
            <p:spPr>
              <a:xfrm>
                <a:off x="9039240" y="535608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4"/>
              <p:cNvSpPr txBox="1"/>
              <p:nvPr/>
            </p:nvSpPr>
            <p:spPr>
              <a:xfrm>
                <a:off x="8621640" y="5272200"/>
                <a:ext cx="381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12"/>
              <p:cNvSpPr txBox="1"/>
              <p:nvPr/>
            </p:nvSpPr>
            <p:spPr>
              <a:xfrm>
                <a:off x="7672320" y="52484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13"/>
              <p:cNvSpPr txBox="1"/>
              <p:nvPr/>
            </p:nvSpPr>
            <p:spPr>
              <a:xfrm>
                <a:off x="6153120" y="53863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ая соединительная линия 23"/>
          <p:cNvSpPr/>
          <p:nvPr/>
        </p:nvSpPr>
        <p:spPr>
          <a:xfrm flipH="1">
            <a:off x="6300720" y="4292640"/>
            <a:ext cx="432000" cy="792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 flipH="1">
            <a:off x="6453000" y="4508640"/>
            <a:ext cx="423720" cy="728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 flipH="1">
            <a:off x="6732720" y="4653000"/>
            <a:ext cx="288720" cy="576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 flipH="1">
            <a:off x="7021440" y="4365720"/>
            <a:ext cx="432000" cy="863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 flipH="1">
            <a:off x="7237080" y="4005360"/>
            <a:ext cx="647640" cy="1224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 flipH="1">
            <a:off x="7453080" y="4437000"/>
            <a:ext cx="431640" cy="792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378840" y="463392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е по час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и             имеют непрерывные производные на           ,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я по частям для определенного интег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1"/>
              <p:cNvSpPr txBox="1"/>
              <p:nvPr/>
            </p:nvSpPr>
            <p:spPr>
              <a:xfrm>
                <a:off x="4645080" y="134136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01920" y="3083040"/>
                <a:ext cx="6941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dv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u</m:t>
                                </m:r>
                              </m:e>
                            </m:nary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6661080" y="1341360"/>
                <a:ext cx="141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Объект 2"/>
              <p:cNvSpPr txBox="1"/>
              <p:nvPr/>
            </p:nvSpPr>
            <p:spPr>
              <a:xfrm>
                <a:off x="5869080" y="1989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4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"/>
              <p:cNvSpPr txBox="1"/>
              <p:nvPr/>
            </p:nvSpPr>
            <p:spPr>
              <a:xfrm>
                <a:off x="2124000" y="1628640"/>
                <a:ext cx="7466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6"/>
              <p:cNvSpPr txBox="1"/>
              <p:nvPr/>
            </p:nvSpPr>
            <p:spPr>
              <a:xfrm>
                <a:off x="4505400" y="620640"/>
                <a:ext cx="22273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884240" y="2997360"/>
                <a:ext cx="6913800" cy="33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/>
                        </m:nary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3400" y="-17136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5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айти площадь фигуры, ограниченной ли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з рисунка следует, что площадь искомой фигуры  равна:                             каждая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торых   находит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ческому  смыс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пределенного интеграла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828720" y="260280"/>
                <a:ext cx="656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89080" y="1916280"/>
                <a:ext cx="1162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620720" y="3141720"/>
                <a:ext cx="314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260360" y="4251240"/>
                <a:ext cx="2019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6" name="Прямая со стрелкой 8"/>
          <p:cNvCxnSpPr/>
          <p:nvPr/>
        </p:nvCxnSpPr>
        <p:spPr>
          <a:xfrm>
            <a:off x="5797440" y="6381360"/>
            <a:ext cx="2664720" cy="10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V="1">
            <a:off x="5797080" y="4436280"/>
            <a:ext cx="1080" cy="20170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8" name="Дуга 17"/>
          <p:cNvSpPr/>
          <p:nvPr/>
        </p:nvSpPr>
        <p:spPr>
          <a:xfrm rot="4153800">
            <a:off x="4830480" y="4709880"/>
            <a:ext cx="1584000" cy="1800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>
            <a:off x="5797440" y="544500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4"/>
          <p:cNvSpPr/>
          <p:nvPr/>
        </p:nvSpPr>
        <p:spPr>
          <a:xfrm>
            <a:off x="5797440" y="5589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5"/>
          <p:cNvSpPr/>
          <p:nvPr/>
        </p:nvSpPr>
        <p:spPr>
          <a:xfrm>
            <a:off x="5797440" y="580536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797440" y="5950080"/>
            <a:ext cx="5032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888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6516720" y="5300640"/>
            <a:ext cx="0" cy="1008000"/>
          </a:xfrm>
          <a:prstGeom prst="line">
            <a:avLst/>
          </a:prstGeom>
          <a:ln w="9360">
            <a:solidFill>
              <a:srgbClr val="fad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64476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54399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0"/>
          <p:cNvSpPr/>
          <p:nvPr/>
        </p:nvSpPr>
        <p:spPr>
          <a:xfrm>
            <a:off x="846360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6231960" y="637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528960" y="615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4"/>
          <p:cNvSpPr/>
          <p:nvPr/>
        </p:nvSpPr>
        <p:spPr>
          <a:xfrm>
            <a:off x="54612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445080" y="5369040"/>
                <a:ext cx="99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7329600" y="5113440"/>
                <a:ext cx="555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шая  систему                       получим координаты точки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(2;4)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2629080" y="0"/>
                <a:ext cx="162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757080" y="1052640"/>
                <a:ext cx="73742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1405080" y="3568680"/>
                <a:ext cx="1438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36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собств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ределение: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усть функция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(x)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прерывна на интервале                     Если существует                                то этот предел называется несобственным интегралом и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сли предел, стоящий в правой части равенства, существует и конечен, то несобственный интеграл называется сходящимся, в противном случае - расходя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765440" y="1844640"/>
                <a:ext cx="1541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480384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6373800" y="162864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85880" y="2990880"/>
                <a:ext cx="49388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60" y="248760"/>
            <a:ext cx="9429840" cy="6357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е функции           в точке       из            равно площади          под кривой                 на отрезке     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 Е О Р Е М А 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непрерывна на           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заданная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на отрезке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меет производную для всех        из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довлетворяющую равен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516720" y="2781360"/>
                <a:ext cx="2712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2916360" y="249228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2"/>
              <p:cNvSpPr txBox="1"/>
              <p:nvPr/>
            </p:nvSpPr>
            <p:spPr>
              <a:xfrm>
                <a:off x="6877080" y="2349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3421080" y="33336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7"/>
              <p:cNvSpPr txBox="1"/>
              <p:nvPr/>
            </p:nvSpPr>
            <p:spPr>
              <a:xfrm>
                <a:off x="8174160" y="765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Picture 33" descr=""/>
          <p:cNvPicPr/>
          <p:nvPr/>
        </p:nvPicPr>
        <p:blipFill>
          <a:blip r:embed="rId1"/>
          <a:stretch/>
        </p:blipFill>
        <p:spPr>
          <a:xfrm>
            <a:off x="4645080" y="458136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Объект 10"/>
              <p:cNvSpPr txBox="1"/>
              <p:nvPr/>
            </p:nvSpPr>
            <p:spPr>
              <a:xfrm>
                <a:off x="5653080" y="53737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1"/>
              <p:cNvSpPr txBox="1"/>
              <p:nvPr/>
            </p:nvSpPr>
            <p:spPr>
              <a:xfrm>
                <a:off x="6229440" y="6067440"/>
                <a:ext cx="231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949400" y="3213000"/>
                <a:ext cx="96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5869080" y="34596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6948360" y="333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1711440" y="76500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4456080" y="765000"/>
                <a:ext cx="15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33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1028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 Ньютона –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 любая ее первообразна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Тогда определенный интеграл от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 отрезку              ра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я функции  в точках а и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1"/>
              <p:cNvSpPr txBox="1"/>
              <p:nvPr/>
            </p:nvSpPr>
            <p:spPr>
              <a:xfrm>
                <a:off x="2989440" y="117144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2"/>
              <p:cNvSpPr txBox="1"/>
              <p:nvPr/>
            </p:nvSpPr>
            <p:spPr>
              <a:xfrm>
                <a:off x="6948360" y="1098720"/>
                <a:ext cx="10191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620720" y="1916280"/>
                <a:ext cx="12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21080" y="3284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Picture 33" descr=""/>
          <p:cNvPicPr/>
          <p:nvPr/>
        </p:nvPicPr>
        <p:blipFill>
          <a:blip r:embed="rId1"/>
          <a:stretch/>
        </p:blipFill>
        <p:spPr>
          <a:xfrm>
            <a:off x="231840" y="256860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324000" y="335772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2340000" y="3716280"/>
                <a:ext cx="4600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Ф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где  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584360" y="5935680"/>
                <a:ext cx="493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756720" cy="6858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ормул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зывается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ьютона –   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аак  Ньютон (1643-1727)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английский физик, математ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троном. Один из создателей классической физики.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ундаментального труда «Математические начала натуральн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лософии» , в котором он изложил Закон всеми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отения и три закона механики. Разрабо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фференциальное и интегральное исчисление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ейбниц Готфрид Вильгельм (1646-17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тематик, физик и изобретател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юрист, историк, языкове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ные математическ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ч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б истинном отношении круга к квадрату" (168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Новый метод    максимумов и минимумов" (168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 скрытой геометрии и анализе неделимых..." (168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97800" y="1557360"/>
            <a:ext cx="1873080" cy="25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Объект 10"/>
              <p:cNvSpPr txBox="1"/>
              <p:nvPr/>
            </p:nvSpPr>
            <p:spPr>
              <a:xfrm>
                <a:off x="2570040" y="-1440"/>
                <a:ext cx="34434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324000" y="3900600"/>
            <a:ext cx="214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36640"/>
            <a:ext cx="9721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 с использованием формулы Ньютона-Лейбница осуществляется в два ш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ервом шаге, используя технику нахождения неопределенного интеграла, получают некоторую первообразную              для подынтегральной функции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втором этапе применяется собственно формула Ньютона-Лей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629080" y="328464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4"/>
              <p:cNvSpPr txBox="1"/>
              <p:nvPr/>
            </p:nvSpPr>
            <p:spPr>
              <a:xfrm>
                <a:off x="8317080" y="321300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ольная первообразная для   функции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 вид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меняя формулу Ньютона – Лейбниц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1"/>
              <p:cNvSpPr txBox="1"/>
              <p:nvPr/>
            </p:nvSpPr>
            <p:spPr>
              <a:xfrm>
                <a:off x="3421080" y="2193840"/>
                <a:ext cx="169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4"/>
              <p:cNvSpPr txBox="1"/>
              <p:nvPr/>
            </p:nvSpPr>
            <p:spPr>
              <a:xfrm>
                <a:off x="2916360" y="2708280"/>
                <a:ext cx="2519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6"/>
              <p:cNvSpPr txBox="1"/>
              <p:nvPr/>
            </p:nvSpPr>
            <p:spPr>
              <a:xfrm>
                <a:off x="4402080" y="620640"/>
                <a:ext cx="1395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12"/>
          <p:cNvGraphicFramePr/>
          <p:nvPr/>
        </p:nvGraphicFramePr>
        <p:xfrm>
          <a:off x="1820880" y="5157720"/>
          <a:ext cx="5158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157720"/>
                    <a:ext cx="515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3"/>
          <p:cNvGraphicFramePr/>
          <p:nvPr/>
        </p:nvGraphicFramePr>
        <p:xfrm>
          <a:off x="2367000" y="4092480"/>
          <a:ext cx="42400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092480"/>
                    <a:ext cx="424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2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4645080" y="0"/>
                <a:ext cx="175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2052720" y="1413000"/>
                <a:ext cx="59659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340000" y="4437000"/>
                <a:ext cx="979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а переменной 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имеет непрерыв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роизводную на           ,                                    и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в каждой токе              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ы переменной в определенном интег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1"/>
              <p:cNvSpPr txBox="1"/>
              <p:nvPr/>
            </p:nvSpPr>
            <p:spPr>
              <a:xfrm>
                <a:off x="4851360" y="1125360"/>
                <a:ext cx="79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2"/>
              <p:cNvSpPr txBox="1"/>
              <p:nvPr/>
            </p:nvSpPr>
            <p:spPr>
              <a:xfrm>
                <a:off x="4140360" y="1820880"/>
                <a:ext cx="3395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324000" y="256536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7"/>
              <p:cNvSpPr txBox="1"/>
              <p:nvPr/>
            </p:nvSpPr>
            <p:spPr>
              <a:xfrm>
                <a:off x="2844720" y="1844640"/>
                <a:ext cx="1170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6084720" y="2565360"/>
                <a:ext cx="1378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882800" y="3789360"/>
                <a:ext cx="54230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96720" y="3303720"/>
                <a:ext cx="1617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2700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3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979800" y="606600"/>
                <a:ext cx="2611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981080" y="1844640"/>
                <a:ext cx="72946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5080" y="4365720"/>
                <a:ext cx="7716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Пользователь</cp:lastModifiedBy>
  <dcterms:modified xsi:type="dcterms:W3CDTF">2018-07-01T12:42:46Z</dcterms:modified>
  <cp:revision>268</cp:revision>
  <dc:subject/>
  <dc:title>НЕПРЕРЫВНАЯ СЛУЧАЙНАЯ ВЕЛИЧИНА.</dc:title>
</cp:coreProperties>
</file>