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0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745-B6FE-4353-B58C-BDA74506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C03-3658-45E5-9CAF-8C3977FF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5DF-869C-4020-91AD-19860C14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ABD-5CB0-4853-AC25-BCDD9FD2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FAF9-6A5D-488F-8D6F-0E70479F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70B-BCAC-4E17-8EDF-C03FF761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5E24-9C99-4FE3-A565-25D3C79C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9C9-9D4C-441B-A604-A972A934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896-5F6C-4C49-B512-E13A276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F5E-1626-4E85-AE20-2175CA8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4FE1-2AE2-4C4B-BE6F-2E21142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705-848A-4D1A-8198-FDD3E31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DEDE-1BF9-430E-A339-E8BB50BB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26F-FEA1-4F82-BACA-34DFFA9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287-CD16-46FA-8895-FDD4833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CF96-ABD2-4CD4-91D0-572F1EFD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736-9E89-444E-95C1-B8E1B7CC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5A336-8A25-4021-8E60-B036FDAC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0E3C5-2D3A-4A95-96EA-E14E3B3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B74BF-82A4-4D4A-BB50-5F513A15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0668D-5DB4-4165-9D21-6E5492FC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B7DAA-36E4-4E78-96E7-F5C9CF4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8E-69D3-449F-8C27-CF9AF628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3DC56-1FCD-4E67-8948-EB231CEC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AA3A6-C470-424D-921B-801DCAC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530FB-B288-42CA-946C-2949752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B7E75-BCDA-48BB-9CAC-28729FD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6E37A-C321-40F2-9F53-EF4C699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C3199-8D44-4F00-AE2B-8CD9C703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0E1EA-DA65-4F70-9451-8AEA17DD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6E50-B20C-48D1-9203-E0A2B387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1EAC-F843-455B-9C9F-3762CE4C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2E16-00AA-418E-AA48-03F7B840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336-EABB-47C9-B40D-BC3E9951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198E-61BB-4397-B1B3-8B3D3134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2E4F-CD5F-4F10-B760-F94B5BFC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53F5-03D8-4D80-8F8A-146577A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7A3E-B21F-45D6-A0D3-C5E79B6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DA42-F6B3-4E6E-B30C-4757D1C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3A81-D9DD-4743-BE07-8D54FDD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D1AF-C181-4641-AD61-FB85AA1C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2D9E-8CC0-4AA8-ADE8-2F3E5066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DB14-2A46-4749-8308-33EEB334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131-F066-4A87-9C74-C0C34C7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3EE-1F29-4522-9422-049933B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D2B-F9B4-4003-B66B-24A9802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B08-6EAD-4C00-B180-A54840A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2DF-E22D-40E3-B8DF-6C4FEFC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7EA-CAC8-4FE7-8047-F3289CA8DCF9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CE78-1928-4461-A2B8-66F98F006E4D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8C6-E81E-4187-B6E0-2C8A0058D8CF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EDB-2566-431D-A54A-1FB76BA63128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8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1" descr="http://www.math24.ru/images/Hopital.jpg"/>
          <p:cNvPicPr/>
          <p:nvPr/>
        </p:nvPicPr>
        <p:blipFill>
          <a:blip r:embed="rId1"/>
          <a:stretch/>
        </p:blipFill>
        <p:spPr>
          <a:xfrm>
            <a:off x="684360" y="2349360"/>
            <a:ext cx="3024000" cy="360864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1F4-B600-4200-A054-9525FD272048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924360" y="206064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о правило впер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оминалось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ифференци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числению, опубликов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1696 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ранцузским математ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ийомом Лопита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1661- 17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12500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3BD0-3F4B-4438-9B20-C10D8E1BE2B0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Объект 4"/>
              <p:cNvSpPr txBox="1"/>
              <p:nvPr/>
            </p:nvSpPr>
            <p:spPr>
              <a:xfrm>
                <a:off x="585720" y="1484280"/>
                <a:ext cx="34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TextBox 5"/>
          <p:cNvSpPr/>
          <p:nvPr/>
        </p:nvSpPr>
        <p:spPr>
          <a:xfrm>
            <a:off x="133200" y="270828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Объект 6"/>
              <p:cNvSpPr txBox="1"/>
              <p:nvPr/>
            </p:nvSpPr>
            <p:spPr>
              <a:xfrm>
                <a:off x="6667560" y="2492280"/>
                <a:ext cx="627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Объект 7"/>
              <p:cNvSpPr txBox="1"/>
              <p:nvPr/>
            </p:nvSpPr>
            <p:spPr>
              <a:xfrm>
                <a:off x="1379520" y="3213000"/>
                <a:ext cx="526104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878040" y="476280"/>
            <a:ext cx="6608520" cy="25225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88E-1024-44B6-9C6D-34154265D66D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Объект 6"/>
              <p:cNvSpPr txBox="1"/>
              <p:nvPr/>
            </p:nvSpPr>
            <p:spPr>
              <a:xfrm>
                <a:off x="5003640" y="765000"/>
                <a:ext cx="5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Объект 7"/>
              <p:cNvSpPr txBox="1"/>
              <p:nvPr/>
            </p:nvSpPr>
            <p:spPr>
              <a:xfrm>
                <a:off x="3924360" y="2224080"/>
                <a:ext cx="46130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10"/>
          <p:cNvSpPr/>
          <p:nvPr/>
        </p:nvSpPr>
        <p:spPr>
          <a:xfrm>
            <a:off x="491760" y="31827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11"/>
              <p:cNvSpPr txBox="1"/>
              <p:nvPr/>
            </p:nvSpPr>
            <p:spPr>
              <a:xfrm>
                <a:off x="3780000" y="3645000"/>
                <a:ext cx="2157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TextBox 12"/>
          <p:cNvSpPr/>
          <p:nvPr/>
        </p:nvSpPr>
        <p:spPr>
          <a:xfrm>
            <a:off x="419040" y="447984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Объект 13"/>
              <p:cNvSpPr txBox="1"/>
              <p:nvPr/>
            </p:nvSpPr>
            <p:spPr>
              <a:xfrm>
                <a:off x="7380360" y="44514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14"/>
          <p:cNvSpPr/>
          <p:nvPr/>
        </p:nvSpPr>
        <p:spPr>
          <a:xfrm>
            <a:off x="684360" y="5127480"/>
            <a:ext cx="71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еписываем данное выражение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TextBox 2" descr=""/>
          <p:cNvPicPr/>
          <p:nvPr/>
        </p:nvPicPr>
        <p:blipFill>
          <a:blip r:embed="rId2"/>
          <a:stretch/>
        </p:blipFill>
        <p:spPr>
          <a:xfrm>
            <a:off x="1047600" y="3560760"/>
            <a:ext cx="272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901800" y="2120760"/>
            <a:ext cx="6742080" cy="1670040"/>
          </a:xfrm>
          <a:prstGeom prst="rect">
            <a:avLst/>
          </a:prstGeom>
          <a:ln w="0">
            <a:noFill/>
          </a:ln>
        </p:spPr>
      </p:pic>
      <p:sp>
        <p:nvSpPr>
          <p:cNvPr id="47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3F1-2FB7-4D6D-9520-06A00F41B73C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6"/>
              <p:cNvSpPr txBox="1"/>
              <p:nvPr/>
            </p:nvSpPr>
            <p:spPr>
              <a:xfrm>
                <a:off x="6516720" y="20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TextBox 10"/>
          <p:cNvSpPr/>
          <p:nvPr/>
        </p:nvSpPr>
        <p:spPr>
          <a:xfrm>
            <a:off x="491760" y="5703840"/>
            <a:ext cx="20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2"/>
              <p:cNvSpPr txBox="1"/>
              <p:nvPr/>
            </p:nvSpPr>
            <p:spPr>
              <a:xfrm>
                <a:off x="826920" y="595440"/>
                <a:ext cx="49690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5"/>
              <p:cNvSpPr txBox="1"/>
              <p:nvPr/>
            </p:nvSpPr>
            <p:spPr>
              <a:xfrm>
                <a:off x="755640" y="3500280"/>
                <a:ext cx="6985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2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155736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    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(         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           следует представить разность                         в виде неопределенности типа        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ее воспользоваться правилом Лопитал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F43B-392B-4642-B8F8-24EDAD886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435640" y="1628640"/>
          <a:ext cx="1125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1125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788000" y="2060640"/>
          <a:ext cx="280836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28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7093080" y="2708280"/>
          <a:ext cx="107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7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0"/>
          <p:cNvGraphicFramePr/>
          <p:nvPr/>
        </p:nvGraphicFramePr>
        <p:xfrm>
          <a:off x="5435640" y="3097080"/>
          <a:ext cx="180036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97080"/>
                    <a:ext cx="180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5364000" y="3500280"/>
          <a:ext cx="28908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500280"/>
                    <a:ext cx="289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4"/>
          <p:cNvGraphicFramePr/>
          <p:nvPr/>
        </p:nvGraphicFramePr>
        <p:xfrm>
          <a:off x="1187280" y="4140360"/>
          <a:ext cx="5905800" cy="19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140360"/>
                    <a:ext cx="5905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Пример  5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Объект 4"/>
              <p:cNvSpPr txBox="1"/>
              <p:nvPr/>
            </p:nvSpPr>
            <p:spPr>
              <a:xfrm>
                <a:off x="1932120" y="2637000"/>
                <a:ext cx="465588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∞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C627-BD86-4A29-BCD3-AE39A2B55AAA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385920" y="112536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908000" y="949320"/>
                <a:ext cx="223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Box 3"/>
          <p:cNvSpPr/>
          <p:nvPr/>
        </p:nvSpPr>
        <p:spPr>
          <a:xfrm>
            <a:off x="400680" y="206064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541440" y="5445000"/>
            <a:ext cx="11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8"/>
              <p:cNvSpPr txBox="1"/>
              <p:nvPr/>
            </p:nvSpPr>
            <p:spPr>
              <a:xfrm>
                <a:off x="1692360" y="5327640"/>
                <a:ext cx="552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4)  Неопределенности  тип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B674-B3D1-4F41-9636-88BD0AECF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6121440" y="1125360"/>
          <a:ext cx="20876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25360"/>
                    <a:ext cx="2087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69800" y="18435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числения пре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4375080" y="1730520"/>
          <a:ext cx="19447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5080" y="1730520"/>
                    <a:ext cx="194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0"/>
          <p:cNvSpPr/>
          <p:nvPr/>
        </p:nvSpPr>
        <p:spPr>
          <a:xfrm>
            <a:off x="245880" y="2564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556000" y="2565360"/>
          <a:ext cx="15112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565360"/>
                    <a:ext cx="1511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1"/>
          <p:cNvSpPr/>
          <p:nvPr/>
        </p:nvSpPr>
        <p:spPr>
          <a:xfrm>
            <a:off x="324000" y="2996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и,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46080" y="3427920"/>
            <a:ext cx="45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еобразовать вы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2"/>
          <p:cNvGraphicFramePr/>
          <p:nvPr/>
        </p:nvGraphicFramePr>
        <p:xfrm>
          <a:off x="4714920" y="3357720"/>
          <a:ext cx="129708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357720"/>
                    <a:ext cx="129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14"/>
          <p:cNvSpPr/>
          <p:nvPr/>
        </p:nvSpPr>
        <p:spPr>
          <a:xfrm>
            <a:off x="3534480" y="3788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арифмического тождества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421560" y="378936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4286520" y="256536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адают в перечис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556000" y="4149720"/>
          <a:ext cx="4895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149720"/>
                    <a:ext cx="4895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0"/>
          <p:cNvGraphicFramePr/>
          <p:nvPr/>
        </p:nvGraphicFramePr>
        <p:xfrm>
          <a:off x="5857920" y="4857840"/>
          <a:ext cx="230328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57920" y="4857840"/>
                    <a:ext cx="2303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9"/>
          <p:cNvGraphicFramePr/>
          <p:nvPr/>
        </p:nvGraphicFramePr>
        <p:xfrm>
          <a:off x="6153120" y="5781600"/>
          <a:ext cx="100800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3120" y="5781600"/>
                    <a:ext cx="1008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1"/>
          <p:cNvSpPr/>
          <p:nvPr/>
        </p:nvSpPr>
        <p:spPr>
          <a:xfrm>
            <a:off x="236880" y="494064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ить предел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2286000" y="536004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перечисленных случаях имеет неопределенность  тип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9036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642960" y="4941720"/>
            <a:ext cx="84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1628280"/>
            <a:ext cx="7926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3)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оспользоваться свойством непрерывности функци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737-48D3-44C9-AFCD-FFACA14EBD99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2771640" y="1844640"/>
          <a:ext cx="15130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1513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395280" y="2997360"/>
          <a:ext cx="7416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997360"/>
                    <a:ext cx="741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имер 6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Объект 1"/>
              <p:cNvSpPr txBox="1"/>
              <p:nvPr/>
            </p:nvSpPr>
            <p:spPr>
              <a:xfrm>
                <a:off x="2268360" y="1442880"/>
                <a:ext cx="2157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6001-DAA2-42A6-91DB-98E9D117B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979200" y="15573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977040" y="234936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Объект 4"/>
              <p:cNvSpPr txBox="1"/>
              <p:nvPr/>
            </p:nvSpPr>
            <p:spPr>
              <a:xfrm>
                <a:off x="770040" y="2781360"/>
                <a:ext cx="65386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∞</m:t>
                                </m:r>
                              </m:num>
                              <m:den>
                                <m:r>
                                  <m:t xml:space="preserve">∞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320840" y="2852280"/>
            <a:ext cx="137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ак как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429-72E2-4C05-9405-5D30E4EB0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Объект 4"/>
              <p:cNvSpPr txBox="1"/>
              <p:nvPr/>
            </p:nvSpPr>
            <p:spPr>
              <a:xfrm>
                <a:off x="1560600" y="620640"/>
                <a:ext cx="337176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Объект 8"/>
              <p:cNvSpPr txBox="1"/>
              <p:nvPr/>
            </p:nvSpPr>
            <p:spPr>
              <a:xfrm>
                <a:off x="2940120" y="2205000"/>
                <a:ext cx="24955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TextBox 11"/>
          <p:cNvSpPr/>
          <p:nvPr/>
        </p:nvSpPr>
        <p:spPr>
          <a:xfrm>
            <a:off x="1508400" y="4365720"/>
            <a:ext cx="140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сю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Объект 12"/>
              <p:cNvSpPr txBox="1"/>
              <p:nvPr/>
            </p:nvSpPr>
            <p:spPr>
              <a:xfrm>
                <a:off x="2719440" y="4221000"/>
                <a:ext cx="2698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Box 13"/>
          <p:cNvSpPr/>
          <p:nvPr/>
        </p:nvSpPr>
        <p:spPr>
          <a:xfrm>
            <a:off x="3421800" y="56610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Объект 1" descr=""/>
          <p:cNvPicPr/>
          <p:nvPr/>
        </p:nvPicPr>
        <p:blipFill>
          <a:blip r:embed="rId1"/>
          <a:stretch/>
        </p:blipFill>
        <p:spPr>
          <a:xfrm>
            <a:off x="281160" y="291960"/>
            <a:ext cx="7600680" cy="1646280"/>
          </a:xfrm>
          <a:prstGeom prst="rect">
            <a:avLst/>
          </a:prstGeom>
          <a:ln w="0">
            <a:noFill/>
          </a:ln>
        </p:spPr>
      </p:pic>
      <p:sp>
        <p:nvSpPr>
          <p:cNvPr id="56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AB8-CADD-44F9-9337-A407BCEA1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500"/>
            </a:b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5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557360"/>
            <a:ext cx="7634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  неопределенности типа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ли       ,   при                 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B4A-9EA6-47D3-9665-B159C65E3AD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5508720" y="1557360"/>
          <a:ext cx="358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557360"/>
                    <a:ext cx="358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6804000" y="1484280"/>
          <a:ext cx="5047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484280"/>
                    <a:ext cx="504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4572000" y="2205000"/>
          <a:ext cx="12240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1224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6659640" y="2924280"/>
          <a:ext cx="3585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924280"/>
                    <a:ext cx="358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2"/>
          <p:cNvGraphicFramePr/>
          <p:nvPr/>
        </p:nvGraphicFramePr>
        <p:xfrm>
          <a:off x="1403280" y="3500280"/>
          <a:ext cx="504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3500280"/>
                    <a:ext cx="50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4"/>
          <p:cNvGraphicFramePr/>
          <p:nvPr/>
        </p:nvGraphicFramePr>
        <p:xfrm>
          <a:off x="5867280" y="3500280"/>
          <a:ext cx="144144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500280"/>
                    <a:ext cx="1441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6"/>
          <p:cNvGraphicFramePr/>
          <p:nvPr/>
        </p:nvGraphicFramePr>
        <p:xfrm>
          <a:off x="2916360" y="3500280"/>
          <a:ext cx="1368360" cy="84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500280"/>
                    <a:ext cx="136836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1619280" y="5373720"/>
          <a:ext cx="208908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5373720"/>
                    <a:ext cx="2089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8"/>
          <p:cNvGraphicFramePr/>
          <p:nvPr/>
        </p:nvGraphicFramePr>
        <p:xfrm>
          <a:off x="3780000" y="5373720"/>
          <a:ext cx="1871640" cy="11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373720"/>
                    <a:ext cx="1871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5122800" cy="44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22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ТЕОРЕМА ЛОПИТАЛЯ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592440" y="3938760"/>
                <a:ext cx="1676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F369-8A1C-4103-B4FD-6A21F410BB88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1280" y="836640"/>
            <a:ext cx="69850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ы и имеют производные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≠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ой окрестност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быть может сам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если существует предел отношения производных эти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554200" y="3125880"/>
                <a:ext cx="4178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4649760" y="5229360"/>
                <a:ext cx="1771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620640"/>
            <a:ext cx="6483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 существует и предел отношения самих функций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   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имеет место следующее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B20-8E8B-4822-9B0B-82EF51E0B165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635280" y="1052640"/>
                <a:ext cx="1508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100240" y="2637000"/>
                <a:ext cx="397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Box 9"/>
          <p:cNvSpPr/>
          <p:nvPr/>
        </p:nvSpPr>
        <p:spPr>
          <a:xfrm>
            <a:off x="755280" y="579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39640" y="3573360"/>
            <a:ext cx="7272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Замечание.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тметим, что формула (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) справедлива только в том случае если предел, стоящий справа, существует. Может случиться, что предел, стоящий слева существует, в то время как предел, стоящий в правой части равенства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4932360" y="5462640"/>
                <a:ext cx="220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331640" y="-963720"/>
            <a:ext cx="6483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BBB9-93A6-4D93-811D-6EC15187C29C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879480" y="781200"/>
                <a:ext cx="53481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Box 11"/>
          <p:cNvSpPr/>
          <p:nvPr/>
        </p:nvSpPr>
        <p:spPr>
          <a:xfrm>
            <a:off x="695520" y="2195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ел отношения произв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16360" y="2035080"/>
                <a:ext cx="1470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TextBox 13"/>
          <p:cNvSpPr/>
          <p:nvPr/>
        </p:nvSpPr>
        <p:spPr>
          <a:xfrm>
            <a:off x="672120" y="2843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23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56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1)  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определенности типа        или       , при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190-49B6-4EB0-8A8D-8A6BB9114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"/>
          <p:cNvGraphicFramePr/>
          <p:nvPr/>
        </p:nvGraphicFramePr>
        <p:xfrm>
          <a:off x="5867280" y="1413000"/>
          <a:ext cx="3654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13000"/>
                    <a:ext cx="36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4"/>
          <p:cNvGraphicFramePr/>
          <p:nvPr/>
        </p:nvGraphicFramePr>
        <p:xfrm>
          <a:off x="7020000" y="1341360"/>
          <a:ext cx="6872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341360"/>
                    <a:ext cx="68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4572000" y="1919160"/>
          <a:ext cx="1512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919160"/>
                    <a:ext cx="151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0"/>
          <p:cNvGraphicFramePr/>
          <p:nvPr/>
        </p:nvGraphicFramePr>
        <p:xfrm>
          <a:off x="4591080" y="2944800"/>
          <a:ext cx="3589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1080" y="2944800"/>
                    <a:ext cx="35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5796000" y="2944800"/>
          <a:ext cx="36684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944800"/>
                    <a:ext cx="366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4"/>
          <p:cNvGraphicFramePr/>
          <p:nvPr/>
        </p:nvGraphicFramePr>
        <p:xfrm>
          <a:off x="2195640" y="3411360"/>
          <a:ext cx="15843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3411360"/>
                    <a:ext cx="1584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7093080" y="2813040"/>
          <a:ext cx="1224000" cy="84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3080" y="2813040"/>
                    <a:ext cx="1224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9"/>
          <p:cNvGraphicFramePr/>
          <p:nvPr/>
        </p:nvGraphicFramePr>
        <p:xfrm>
          <a:off x="2124000" y="4751280"/>
          <a:ext cx="2376720" cy="148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751280"/>
                    <a:ext cx="2376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8"/>
          <p:cNvGraphicFramePr/>
          <p:nvPr/>
        </p:nvGraphicFramePr>
        <p:xfrm>
          <a:off x="4716360" y="4829040"/>
          <a:ext cx="2160720" cy="140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4829040"/>
                    <a:ext cx="21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59984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A13F-B286-4710-A32B-3CC9CB1F0E0F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4"/>
              <p:cNvSpPr txBox="1"/>
              <p:nvPr/>
            </p:nvSpPr>
            <p:spPr>
              <a:xfrm>
                <a:off x="711360" y="1989000"/>
                <a:ext cx="2023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133200" y="3213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ъект 6"/>
              <p:cNvSpPr txBox="1"/>
              <p:nvPr/>
            </p:nvSpPr>
            <p:spPr>
              <a:xfrm>
                <a:off x="6629400" y="2997360"/>
                <a:ext cx="704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Объект 7"/>
              <p:cNvSpPr txBox="1"/>
              <p:nvPr/>
            </p:nvSpPr>
            <p:spPr>
              <a:xfrm>
                <a:off x="755640" y="4005360"/>
                <a:ext cx="6508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8"/>
          <p:cNvSpPr/>
          <p:nvPr/>
        </p:nvSpPr>
        <p:spPr>
          <a:xfrm>
            <a:off x="789480" y="5445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8920" y="1557360"/>
            <a:ext cx="741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                     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,             следует преобразовать произведение                              в частно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C60A-2ABC-4DC9-8626-4BADE8A1C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5435640" y="1413000"/>
          <a:ext cx="108108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1081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6"/>
          <p:cNvGraphicFramePr/>
          <p:nvPr/>
        </p:nvGraphicFramePr>
        <p:xfrm>
          <a:off x="4932360" y="1989000"/>
          <a:ext cx="28814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2881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8"/>
          <p:cNvGraphicFramePr/>
          <p:nvPr/>
        </p:nvGraphicFramePr>
        <p:xfrm>
          <a:off x="7308720" y="3041640"/>
          <a:ext cx="865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041640"/>
                    <a:ext cx="865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"/>
          <p:cNvGraphicFramePr/>
          <p:nvPr/>
        </p:nvGraphicFramePr>
        <p:xfrm>
          <a:off x="5940360" y="3500280"/>
          <a:ext cx="151308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500280"/>
                    <a:ext cx="1513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3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2"/>
          <p:cNvGraphicFramePr/>
          <p:nvPr/>
        </p:nvGraphicFramePr>
        <p:xfrm>
          <a:off x="611280" y="4581360"/>
          <a:ext cx="2879640" cy="14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28796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15"/>
          <p:cNvSpPr/>
          <p:nvPr/>
        </p:nvSpPr>
        <p:spPr>
          <a:xfrm>
            <a:off x="3465720" y="472320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4"/>
          <p:cNvGraphicFramePr/>
          <p:nvPr/>
        </p:nvGraphicFramePr>
        <p:xfrm>
          <a:off x="7236000" y="4508640"/>
          <a:ext cx="36504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3650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1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45" name="Object 4"/>
          <p:cNvGraphicFramePr/>
          <p:nvPr/>
        </p:nvGraphicFramePr>
        <p:xfrm>
          <a:off x="1258920" y="1735200"/>
          <a:ext cx="29512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5200"/>
                    <a:ext cx="29512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4BF-2AD1-4A68-A07C-E7F57DC57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7596360" y="1557360"/>
          <a:ext cx="5238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57360"/>
                    <a:ext cx="523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9"/>
          <p:cNvSpPr/>
          <p:nvPr/>
        </p:nvSpPr>
        <p:spPr>
          <a:xfrm>
            <a:off x="395280" y="1732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897720" y="191520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973440" y="38595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оспользоваться  правилом  Лопит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6:15:39Z</dcterms:created>
  <dc:creator>к.502</dc:creator>
  <dc:description/>
  <dc:language>en-US</dc:language>
  <cp:lastModifiedBy>Пользователь</cp:lastModifiedBy>
  <dcterms:modified xsi:type="dcterms:W3CDTF">2018-07-01T12:37:23Z</dcterms:modified>
  <cp:revision>70</cp:revision>
  <dc:subject/>
  <dc:title>ПРОИЗВОДНАЯ  ФУНКЦИИ </dc:title>
</cp:coreProperties>
</file>