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535F-CFA6-4F58-93D6-769B502F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3E2-14BF-4F68-A24B-61217AE5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0CD-0F64-4ECD-97AF-54828EBE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919-32DB-414D-B1D1-470FD10C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4F1-A369-446F-89D5-F94B70C8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2BC-76AC-4A07-BA5E-78B1A621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FB5F-37C2-40D1-8D8A-F4AB2610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C886-5BF6-4D7F-8BCF-AE87A029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BA1F-909D-49A7-8855-B24CF6A3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476F-3BE4-45AA-B351-D284B3C4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FBF9-B9F9-4B01-BF88-6089960B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D9C-B065-40A5-BEB7-E2F12C7A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511D-CBB9-4402-B6C2-93D1402C6C5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7.wmf"/><Relationship Id="rId2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482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Calibri"/>
              </a:rPr>
              <a:t>Лекция №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2880" y="1925640"/>
            <a:ext cx="8058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Дифференцируемость фун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Дифференциал фун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8276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нятие дифференциала  функ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23360" y="1263240"/>
            <a:ext cx="82155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фференциал                 функции                        в точке                    также представляют в виде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де          называют дифференциалом   переменной        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ычисляемый в точке           по правил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5229-6670-4680-8008-F47BCFFA02F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3189240" y="1144440"/>
          <a:ext cx="541440" cy="4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240" y="1144440"/>
                    <a:ext cx="541440" cy="4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6"/>
          <p:cNvGraphicFramePr/>
          <p:nvPr/>
        </p:nvGraphicFramePr>
        <p:xfrm>
          <a:off x="5353200" y="1084320"/>
          <a:ext cx="138240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3200" y="1084320"/>
                    <a:ext cx="13824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Rectangle 9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8"/>
          <p:cNvGraphicFramePr/>
          <p:nvPr/>
        </p:nvGraphicFramePr>
        <p:xfrm>
          <a:off x="8238960" y="1204920"/>
          <a:ext cx="31608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38960" y="1204920"/>
                    <a:ext cx="3160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10"/>
          <p:cNvGraphicFramePr/>
          <p:nvPr/>
        </p:nvGraphicFramePr>
        <p:xfrm>
          <a:off x="2887560" y="2014560"/>
          <a:ext cx="270684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014560"/>
                    <a:ext cx="27068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1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2"/>
          <p:cNvGraphicFramePr/>
          <p:nvPr/>
        </p:nvGraphicFramePr>
        <p:xfrm>
          <a:off x="1325520" y="2406600"/>
          <a:ext cx="611280" cy="46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25520" y="2406600"/>
                    <a:ext cx="6112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14"/>
          <p:cNvGraphicFramePr/>
          <p:nvPr/>
        </p:nvGraphicFramePr>
        <p:xfrm>
          <a:off x="7458120" y="2406600"/>
          <a:ext cx="372960" cy="42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1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58120" y="2406600"/>
                    <a:ext cx="37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16"/>
          <p:cNvGraphicFramePr/>
          <p:nvPr/>
        </p:nvGraphicFramePr>
        <p:xfrm>
          <a:off x="3610080" y="3008160"/>
          <a:ext cx="37440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10080" y="3008160"/>
                    <a:ext cx="3744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19"/>
          <p:cNvSpPr/>
          <p:nvPr/>
        </p:nvSpPr>
        <p:spPr>
          <a:xfrm>
            <a:off x="0" y="320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18"/>
          <p:cNvGraphicFramePr/>
          <p:nvPr/>
        </p:nvGraphicFramePr>
        <p:xfrm>
          <a:off x="905040" y="3368520"/>
          <a:ext cx="1439640" cy="420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7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05040" y="3368520"/>
                    <a:ext cx="14396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20"/>
          <p:cNvSpPr/>
          <p:nvPr/>
        </p:nvSpPr>
        <p:spPr>
          <a:xfrm>
            <a:off x="2527200" y="3310200"/>
            <a:ext cx="6193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– независимая перемен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23"/>
          <p:cNvGraphicFramePr/>
          <p:nvPr/>
        </p:nvGraphicFramePr>
        <p:xfrm>
          <a:off x="905040" y="4030560"/>
          <a:ext cx="2520720" cy="541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0" name="Object 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05040" y="4030560"/>
                    <a:ext cx="25207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22"/>
          <p:cNvGraphicFramePr/>
          <p:nvPr/>
        </p:nvGraphicFramePr>
        <p:xfrm>
          <a:off x="4692600" y="4091040"/>
          <a:ext cx="374760" cy="431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2" name="Object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92600" y="4091040"/>
                    <a:ext cx="37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21"/>
          <p:cNvGraphicFramePr/>
          <p:nvPr/>
        </p:nvGraphicFramePr>
        <p:xfrm>
          <a:off x="2106720" y="4871880"/>
          <a:ext cx="376200" cy="433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4" name="Object 2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06720" y="4871880"/>
                    <a:ext cx="376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24"/>
          <p:cNvSpPr/>
          <p:nvPr/>
        </p:nvSpPr>
        <p:spPr>
          <a:xfrm>
            <a:off x="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3564000" y="4031640"/>
            <a:ext cx="11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5108040" y="4091400"/>
            <a:ext cx="33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функция независи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423720" y="4751280"/>
            <a:ext cx="841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еременной       . Из форм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ледуе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31"/>
          <p:cNvGraphicFramePr/>
          <p:nvPr/>
        </p:nvGraphicFramePr>
        <p:xfrm>
          <a:off x="3549600" y="3429000"/>
          <a:ext cx="37476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0" name="Object 3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549600" y="3429000"/>
                    <a:ext cx="37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0"/>
          <p:cNvGraphicFramePr/>
          <p:nvPr/>
        </p:nvGraphicFramePr>
        <p:xfrm>
          <a:off x="4451400" y="4871880"/>
          <a:ext cx="2706480" cy="513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2" name="Object 1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51400" y="4871880"/>
                    <a:ext cx="270648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3" name="Object 36"/>
              <p:cNvSpPr txBox="1"/>
              <p:nvPr/>
            </p:nvSpPr>
            <p:spPr>
              <a:xfrm>
                <a:off x="3249720" y="5353200"/>
                <a:ext cx="16635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56"/>
          <p:cNvSpPr/>
          <p:nvPr/>
        </p:nvSpPr>
        <p:spPr>
          <a:xfrm>
            <a:off x="723960" y="963720"/>
            <a:ext cx="79372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зьмем на графике функции                      точку                               и        проведем касательную  (</a:t>
            </a:r>
            <a:r>
              <a:rPr b="0" i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. Дадим аргументу         прира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огда  функция получит приращение                                               .  Проведем касательную к кривой                  в точке                            , которая образует с осью абсцисс   угол              ,              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25160" y="301320"/>
            <a:ext cx="71550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Calibri"/>
              </a:rPr>
              <a:t>Геометрический смысл дифференци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6F2E-DB8B-41FF-8D3E-D323362CE98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6075360" y="1023840"/>
          <a:ext cx="1563840" cy="3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75360" y="1023840"/>
                    <a:ext cx="156384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 flipV="1">
            <a:off x="2411280" y="328464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395280" y="580536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2050920" y="314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6086520" y="580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14"/>
          <p:cNvGraphicFramePr/>
          <p:nvPr/>
        </p:nvGraphicFramePr>
        <p:xfrm>
          <a:off x="1187280" y="3522600"/>
          <a:ext cx="11527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522600"/>
                    <a:ext cx="11527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1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6"/>
          <p:cNvGraphicFramePr/>
          <p:nvPr/>
        </p:nvGraphicFramePr>
        <p:xfrm>
          <a:off x="1476360" y="5013360"/>
          <a:ext cx="7207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5013360"/>
                    <a:ext cx="7207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18"/>
          <p:cNvGraphicFramePr/>
          <p:nvPr/>
        </p:nvGraphicFramePr>
        <p:xfrm>
          <a:off x="2771640" y="5661000"/>
          <a:ext cx="4302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5661000"/>
                    <a:ext cx="430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20"/>
          <p:cNvGraphicFramePr/>
          <p:nvPr/>
        </p:nvGraphicFramePr>
        <p:xfrm>
          <a:off x="4572000" y="5734080"/>
          <a:ext cx="115092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6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5734080"/>
                    <a:ext cx="11509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Line 22"/>
          <p:cNvSpPr/>
          <p:nvPr/>
        </p:nvSpPr>
        <p:spPr>
          <a:xfrm>
            <a:off x="2411280" y="5300640"/>
            <a:ext cx="505080" cy="0"/>
          </a:xfrm>
          <a:prstGeom prst="line">
            <a:avLst/>
          </a:prstGeom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2916360" y="5300640"/>
            <a:ext cx="0" cy="504720"/>
          </a:xfrm>
          <a:prstGeom prst="line">
            <a:avLst/>
          </a:prstGeom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>
            <a:off x="2411280" y="3716280"/>
            <a:ext cx="2592360" cy="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>
            <a:off x="5003640" y="3716280"/>
            <a:ext cx="0" cy="2089080"/>
          </a:xfrm>
          <a:prstGeom prst="line">
            <a:avLst/>
          </a:prstGeom>
          <a:ln cap="rnd" w="9360">
            <a:solidFill>
              <a:srgbClr val="969696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26"/>
          <p:cNvSpPr/>
          <p:nvPr/>
        </p:nvSpPr>
        <p:spPr>
          <a:xfrm>
            <a:off x="2050920" y="3213000"/>
            <a:ext cx="3097440" cy="2232000"/>
          </a:xfrm>
          <a:custGeom>
            <a:avLst/>
            <a:gdLst>
              <a:gd name="textAreaLeft" fmla="*/ 0 w 3097440"/>
              <a:gd name="textAreaRight" fmla="*/ 3097800 w 309744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1951" h="1406">
                <a:moveTo>
                  <a:pt x="1951" y="0"/>
                </a:moveTo>
                <a:cubicBezTo>
                  <a:pt x="1928" y="106"/>
                  <a:pt x="1906" y="212"/>
                  <a:pt x="1815" y="363"/>
                </a:cubicBezTo>
                <a:cubicBezTo>
                  <a:pt x="1724" y="514"/>
                  <a:pt x="1589" y="756"/>
                  <a:pt x="1407" y="907"/>
                </a:cubicBezTo>
                <a:cubicBezTo>
                  <a:pt x="1225" y="1058"/>
                  <a:pt x="960" y="1187"/>
                  <a:pt x="726" y="1270"/>
                </a:cubicBezTo>
                <a:cubicBezTo>
                  <a:pt x="492" y="1353"/>
                  <a:pt x="246" y="1379"/>
                  <a:pt x="0" y="140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179280" y="4581360"/>
            <a:ext cx="5977080" cy="1368720"/>
          </a:xfrm>
          <a:prstGeom prst="line">
            <a:avLst/>
          </a:prstGeom>
          <a:ln w="25560">
            <a:solidFill>
              <a:srgbClr val="555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8"/>
          <p:cNvSpPr/>
          <p:nvPr/>
        </p:nvSpPr>
        <p:spPr>
          <a:xfrm>
            <a:off x="3645000" y="5172120"/>
            <a:ext cx="85680" cy="216000"/>
          </a:xfrm>
          <a:custGeom>
            <a:avLst/>
            <a:gdLst>
              <a:gd name="textAreaLeft" fmla="*/ 0 w 85680"/>
              <a:gd name="textAreaRight" fmla="*/ 85680 w 856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4" h="136">
                <a:moveTo>
                  <a:pt x="0" y="0"/>
                </a:moveTo>
                <a:cubicBezTo>
                  <a:pt x="19" y="11"/>
                  <a:pt x="38" y="22"/>
                  <a:pt x="46" y="45"/>
                </a:cubicBezTo>
                <a:cubicBezTo>
                  <a:pt x="54" y="68"/>
                  <a:pt x="50" y="102"/>
                  <a:pt x="46" y="136"/>
                </a:cubicBezTo>
              </a:path>
            </a:pathLst>
          </a:custGeom>
          <a:noFill/>
          <a:ln w="255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9"/>
          <p:cNvSpPr/>
          <p:nvPr/>
        </p:nvSpPr>
        <p:spPr>
          <a:xfrm>
            <a:off x="3399840" y="505224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0"/>
          <p:cNvSpPr/>
          <p:nvPr/>
        </p:nvSpPr>
        <p:spPr>
          <a:xfrm flipH="1">
            <a:off x="2484360" y="3357720"/>
            <a:ext cx="295128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1"/>
          <p:cNvSpPr/>
          <p:nvPr/>
        </p:nvSpPr>
        <p:spPr>
          <a:xfrm>
            <a:off x="5895360" y="4150440"/>
            <a:ext cx="4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541c"/>
                </a:solidFill>
                <a:latin typeface="Arial"/>
                <a:ea typeface="Arial"/>
              </a:rPr>
              <a:t>(</a:t>
            </a:r>
            <a:r>
              <a:rPr b="1" i="1" lang="en-US" sz="1800" spc="-1" strike="noStrike">
                <a:solidFill>
                  <a:srgbClr val="55541c"/>
                </a:solidFill>
                <a:latin typeface="Arial"/>
                <a:ea typeface="Arial"/>
              </a:rPr>
              <a:t>l</a:t>
            </a:r>
            <a:r>
              <a:rPr b="1" lang="ru-RU" sz="1800" spc="-1" strike="noStrike">
                <a:solidFill>
                  <a:srgbClr val="55541c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2"/>
          <p:cNvSpPr/>
          <p:nvPr/>
        </p:nvSpPr>
        <p:spPr>
          <a:xfrm>
            <a:off x="2701800" y="49410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3"/>
          <p:cNvSpPr/>
          <p:nvPr/>
        </p:nvSpPr>
        <p:spPr>
          <a:xfrm>
            <a:off x="2843280" y="530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34"/>
          <p:cNvSpPr/>
          <p:nvPr/>
        </p:nvSpPr>
        <p:spPr>
          <a:xfrm>
            <a:off x="4932360" y="3716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4"/>
          <p:cNvSpPr/>
          <p:nvPr/>
        </p:nvSpPr>
        <p:spPr>
          <a:xfrm>
            <a:off x="2406600" y="5353200"/>
            <a:ext cx="2592360" cy="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5"/>
          <p:cNvSpPr/>
          <p:nvPr/>
        </p:nvSpPr>
        <p:spPr>
          <a:xfrm>
            <a:off x="4992840" y="3728880"/>
            <a:ext cx="0" cy="1082880"/>
          </a:xfrm>
          <a:prstGeom prst="line">
            <a:avLst/>
          </a:prstGeom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34"/>
          <p:cNvSpPr/>
          <p:nvPr/>
        </p:nvSpPr>
        <p:spPr>
          <a:xfrm>
            <a:off x="4979880" y="47991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8"/>
          <p:cNvSpPr/>
          <p:nvPr/>
        </p:nvSpPr>
        <p:spPr>
          <a:xfrm>
            <a:off x="4995720" y="4683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39"/>
              <p:cNvSpPr txBox="1"/>
              <p:nvPr/>
            </p:nvSpPr>
            <p:spPr>
              <a:xfrm>
                <a:off x="6315120" y="2647800"/>
                <a:ext cx="1378080" cy="4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TextBox 40"/>
          <p:cNvSpPr/>
          <p:nvPr/>
        </p:nvSpPr>
        <p:spPr>
          <a:xfrm flipH="1">
            <a:off x="5113440" y="5133960"/>
            <a:ext cx="4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4"/>
          <p:cNvSpPr/>
          <p:nvPr/>
        </p:nvSpPr>
        <p:spPr>
          <a:xfrm>
            <a:off x="4979880" y="5292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2"/>
          <p:cNvSpPr/>
          <p:nvPr/>
        </p:nvSpPr>
        <p:spPr>
          <a:xfrm>
            <a:off x="4992840" y="3540240"/>
            <a:ext cx="4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4"/>
          <p:cNvSpPr/>
          <p:nvPr/>
        </p:nvSpPr>
        <p:spPr>
          <a:xfrm>
            <a:off x="6435720" y="3008160"/>
            <a:ext cx="9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7"/>
              <p:cNvSpPr txBox="1"/>
              <p:nvPr/>
            </p:nvSpPr>
            <p:spPr>
              <a:xfrm>
                <a:off x="5654520" y="1444680"/>
                <a:ext cx="420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48"/>
              <p:cNvSpPr txBox="1"/>
              <p:nvPr/>
            </p:nvSpPr>
            <p:spPr>
              <a:xfrm>
                <a:off x="7699320" y="1444680"/>
                <a:ext cx="612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49"/>
              <p:cNvSpPr txBox="1"/>
              <p:nvPr/>
            </p:nvSpPr>
            <p:spPr>
              <a:xfrm>
                <a:off x="4952880" y="1805040"/>
                <a:ext cx="26035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2" name="Object 6"/>
          <p:cNvGraphicFramePr/>
          <p:nvPr/>
        </p:nvGraphicFramePr>
        <p:xfrm>
          <a:off x="4091040" y="1023840"/>
          <a:ext cx="1082520" cy="42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91040" y="1023840"/>
                    <a:ext cx="1082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51"/>
          <p:cNvGraphicFramePr/>
          <p:nvPr/>
        </p:nvGraphicFramePr>
        <p:xfrm>
          <a:off x="4272120" y="2225520"/>
          <a:ext cx="1082520" cy="420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5" name="Object 5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72120" y="2225520"/>
                    <a:ext cx="1082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52"/>
          <p:cNvGraphicFramePr/>
          <p:nvPr/>
        </p:nvGraphicFramePr>
        <p:xfrm>
          <a:off x="6375240" y="2282760"/>
          <a:ext cx="1563840" cy="365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Object 5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75240" y="2282760"/>
                    <a:ext cx="156384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8" name="Object 56"/>
              <p:cNvSpPr txBox="1"/>
              <p:nvPr/>
            </p:nvSpPr>
            <p:spPr>
              <a:xfrm>
                <a:off x="5322960" y="2776680"/>
                <a:ext cx="43344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B1E2-7350-46B3-A4C4-F6C794A0B18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0" y="320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2413800" y="41108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8"/>
          <p:cNvSpPr/>
          <p:nvPr/>
        </p:nvSpPr>
        <p:spPr>
          <a:xfrm>
            <a:off x="1045080" y="5156280"/>
            <a:ext cx="2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0"/>
              <p:cNvSpPr txBox="1"/>
              <p:nvPr/>
            </p:nvSpPr>
            <p:spPr>
              <a:xfrm>
                <a:off x="1265400" y="1324080"/>
                <a:ext cx="6494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Δ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TextBox 40"/>
          <p:cNvSpPr/>
          <p:nvPr/>
        </p:nvSpPr>
        <p:spPr>
          <a:xfrm>
            <a:off x="1325520" y="603360"/>
            <a:ext cx="60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  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прямоугольн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треугольнике</a:t>
            </a:r>
            <a:r>
              <a:rPr b="0" i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MK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0"/>
          <p:cNvGraphicFramePr/>
          <p:nvPr/>
        </p:nvGraphicFramePr>
        <p:xfrm>
          <a:off x="1084320" y="2286000"/>
          <a:ext cx="270648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4320" y="2286000"/>
                    <a:ext cx="270648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5" name="Object 19"/>
              <p:cNvSpPr txBox="1"/>
              <p:nvPr/>
            </p:nvSpPr>
            <p:spPr>
              <a:xfrm>
                <a:off x="3952800" y="2276640"/>
                <a:ext cx="2200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TextBox 43"/>
          <p:cNvSpPr/>
          <p:nvPr/>
        </p:nvSpPr>
        <p:spPr>
          <a:xfrm>
            <a:off x="1144440" y="3129120"/>
            <a:ext cx="685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</a:t>
            </a: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,    дифференциал функции есть приращение ординаты касательной, проведенной к графи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функции                      в  данной точке, когда аргумент          получает приращение              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6"/>
          <p:cNvGraphicFramePr/>
          <p:nvPr/>
        </p:nvGraphicFramePr>
        <p:xfrm>
          <a:off x="2347920" y="4030560"/>
          <a:ext cx="1082520" cy="4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7920" y="4030560"/>
                    <a:ext cx="1082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097760" y="4030560"/>
                <a:ext cx="420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2"/>
              <p:cNvSpPr txBox="1"/>
              <p:nvPr/>
            </p:nvSpPr>
            <p:spPr>
              <a:xfrm>
                <a:off x="3670200" y="4451400"/>
                <a:ext cx="612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68360" y="1444320"/>
            <a:ext cx="825192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728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7281b"/>
                </a:solidFill>
                <a:uFillTx/>
                <a:latin typeface="Calibri"/>
              </a:rPr>
              <a:t>Т е о р е м а  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 инвариантности формы дифференциал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 Пусть функци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дифференцируема в точке      ,                                                                а функция                            независимой переменной       дифференцируема в соответствующей точке       . Тогда справедливо равенст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28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81b"/>
                </a:solidFill>
                <a:latin typeface="Calibri"/>
              </a:rPr>
              <a:t>З а м е ч а н и е  2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иближенных вычислений часто используют свойство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5DB3-4BC4-4F50-85E7-39D3D2C9588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5473800" y="2046240"/>
          <a:ext cx="129672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3800" y="2046240"/>
                    <a:ext cx="12967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8"/>
          <p:cNvGraphicFramePr/>
          <p:nvPr/>
        </p:nvGraphicFramePr>
        <p:xfrm>
          <a:off x="4390920" y="2706840"/>
          <a:ext cx="374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0920" y="2706840"/>
                    <a:ext cx="37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10"/>
          <p:cNvGraphicFramePr/>
          <p:nvPr/>
        </p:nvGraphicFramePr>
        <p:xfrm>
          <a:off x="2347920" y="3129120"/>
          <a:ext cx="1655640" cy="57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7920" y="3129120"/>
                    <a:ext cx="165564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1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12"/>
          <p:cNvGraphicFramePr/>
          <p:nvPr/>
        </p:nvGraphicFramePr>
        <p:xfrm>
          <a:off x="7699320" y="3187800"/>
          <a:ext cx="37476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9320" y="3187800"/>
                    <a:ext cx="37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14"/>
          <p:cNvGraphicFramePr/>
          <p:nvPr/>
        </p:nvGraphicFramePr>
        <p:xfrm>
          <a:off x="6796080" y="3728880"/>
          <a:ext cx="37476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96080" y="372888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16"/>
          <p:cNvGraphicFramePr/>
          <p:nvPr/>
        </p:nvGraphicFramePr>
        <p:xfrm>
          <a:off x="2768760" y="4694400"/>
          <a:ext cx="4464000" cy="598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1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68760" y="4694400"/>
                    <a:ext cx="446400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18"/>
          <p:cNvGraphicFramePr/>
          <p:nvPr/>
        </p:nvGraphicFramePr>
        <p:xfrm>
          <a:off x="4211640" y="5627520"/>
          <a:ext cx="1512720" cy="567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4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11640" y="5627520"/>
                    <a:ext cx="151272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B667-E87E-4A13-9185-141F6C00559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Calibri"/>
              </a:rPr>
              <a:t>ПРОИЗВОДНЫЕ  ВЫСШИХ  ПОРЯД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ные второго, третьего  и т.д. поряд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и                       в точке         определяются по правилу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8" name="Object 5"/>
          <p:cNvGraphicFramePr/>
          <p:nvPr/>
        </p:nvGraphicFramePr>
        <p:xfrm>
          <a:off x="1625760" y="2166840"/>
          <a:ext cx="1322280" cy="5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5760" y="2166840"/>
                    <a:ext cx="132228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4"/>
          <p:cNvGraphicFramePr/>
          <p:nvPr/>
        </p:nvGraphicFramePr>
        <p:xfrm>
          <a:off x="4151160" y="2166840"/>
          <a:ext cx="3747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1160" y="216684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9"/>
          <p:cNvGraphicFramePr/>
          <p:nvPr/>
        </p:nvGraphicFramePr>
        <p:xfrm>
          <a:off x="2484360" y="2781360"/>
          <a:ext cx="2951280" cy="73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2781360"/>
                    <a:ext cx="29512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Rectangle 12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11"/>
          <p:cNvGraphicFramePr/>
          <p:nvPr/>
        </p:nvGraphicFramePr>
        <p:xfrm>
          <a:off x="2484360" y="3429000"/>
          <a:ext cx="3024360" cy="104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3429000"/>
                    <a:ext cx="302436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14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13"/>
          <p:cNvGraphicFramePr/>
          <p:nvPr/>
        </p:nvGraphicFramePr>
        <p:xfrm>
          <a:off x="2411280" y="4437000"/>
          <a:ext cx="6193080" cy="110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11280" y="4437000"/>
                    <a:ext cx="61930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есконечно малые величины их свойст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15253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пределение .</a:t>
            </a:r>
            <a:r>
              <a:rPr b="1" lang="ru-RU" sz="3200" spc="-1" strike="noStrike">
                <a:solidFill>
                  <a:srgbClr val="07121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Функция          называется </a:t>
            </a:r>
            <a:r>
              <a:rPr b="0" i="1" lang="ru-RU" sz="2800" spc="-1" strike="noStrike">
                <a:solidFill>
                  <a:srgbClr val="071215"/>
                </a:solidFill>
                <a:latin typeface="Calibri"/>
              </a:rPr>
              <a:t>бесконечно малой величиной  </a:t>
            </a:r>
            <a:r>
              <a:rPr b="1" i="1" lang="ru-RU" sz="2800" spc="-1" strike="noStrike">
                <a:solidFill>
                  <a:srgbClr val="07121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при             , если ее предел равен нул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712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еорема. 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Если функция                        имеет при                            предел                                  , равный </a:t>
            </a:r>
            <a:r>
              <a:rPr b="0" i="1" lang="en-US" sz="2800" spc="-1" strike="noStrike">
                <a:solidFill>
                  <a:srgbClr val="071215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71215"/>
                </a:solidFill>
                <a:latin typeface="Calibri"/>
              </a:rPr>
              <a:t> ,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то                  ее можно представить в виде суммы этого числа </a:t>
            </a:r>
            <a:r>
              <a:rPr b="1" i="1" lang="en-US" sz="2800" spc="-1" strike="noStrike">
                <a:solidFill>
                  <a:srgbClr val="102c34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7121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и</a:t>
            </a:r>
            <a:r>
              <a:rPr b="0" i="1" lang="ru-RU" sz="2800" spc="-1" strike="noStrike">
                <a:solidFill>
                  <a:srgbClr val="07121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бесконечно малой величины                                      при                                              , т.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Объект 3"/>
          <p:cNvGraphicFramePr/>
          <p:nvPr/>
        </p:nvGraphicFramePr>
        <p:xfrm>
          <a:off x="4692600" y="1565280"/>
          <a:ext cx="81432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2600" y="1565280"/>
                    <a:ext cx="8143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Объект 4"/>
          <p:cNvGraphicFramePr/>
          <p:nvPr/>
        </p:nvGraphicFramePr>
        <p:xfrm>
          <a:off x="6375240" y="2106720"/>
          <a:ext cx="95760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5240" y="2106720"/>
                    <a:ext cx="95760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Объект 5"/>
          <p:cNvGraphicFramePr/>
          <p:nvPr/>
        </p:nvGraphicFramePr>
        <p:xfrm>
          <a:off x="4272120" y="2527200"/>
          <a:ext cx="185400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72120" y="2527200"/>
                    <a:ext cx="18540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Объект 6"/>
          <p:cNvGraphicFramePr/>
          <p:nvPr/>
        </p:nvGraphicFramePr>
        <p:xfrm>
          <a:off x="5113440" y="3368520"/>
          <a:ext cx="137628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13440" y="3368520"/>
                    <a:ext cx="13762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Объект 7"/>
          <p:cNvGraphicFramePr/>
          <p:nvPr/>
        </p:nvGraphicFramePr>
        <p:xfrm>
          <a:off x="1806480" y="5292720"/>
          <a:ext cx="95724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06480" y="529272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Объект 8"/>
          <p:cNvGraphicFramePr/>
          <p:nvPr/>
        </p:nvGraphicFramePr>
        <p:xfrm>
          <a:off x="3129120" y="5172120"/>
          <a:ext cx="1276200" cy="48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9120" y="5172120"/>
                    <a:ext cx="12762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Объект 9"/>
          <p:cNvGraphicFramePr/>
          <p:nvPr/>
        </p:nvGraphicFramePr>
        <p:xfrm>
          <a:off x="3309840" y="3909960"/>
          <a:ext cx="1265400" cy="58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" name="Объект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09840" y="3909960"/>
                    <a:ext cx="12654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Объект 10"/>
          <p:cNvGraphicFramePr/>
          <p:nvPr/>
        </p:nvGraphicFramePr>
        <p:xfrm>
          <a:off x="2166840" y="4030560"/>
          <a:ext cx="957240" cy="331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" name="Объект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66840" y="403056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Объект 11"/>
          <p:cNvGraphicFramePr/>
          <p:nvPr/>
        </p:nvGraphicFramePr>
        <p:xfrm>
          <a:off x="3309840" y="5713560"/>
          <a:ext cx="2303640" cy="47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2" name="Объект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309840" y="5713560"/>
                    <a:ext cx="230364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Объект 1"/>
          <p:cNvGraphicFramePr/>
          <p:nvPr/>
        </p:nvGraphicFramePr>
        <p:xfrm>
          <a:off x="5894280" y="4751280"/>
          <a:ext cx="814320" cy="588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4" name="Объект 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94280" y="4751280"/>
                    <a:ext cx="8143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3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вязь между существованием производной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 непрерывностью фун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520" y="1204920"/>
            <a:ext cx="871848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еорема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функция                 имеет производную в  точке             ,  то она непрерывна в этой точ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2106720" y="2106720"/>
                <a:ext cx="5073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Text Box 4"/>
          <p:cNvSpPr/>
          <p:nvPr/>
        </p:nvSpPr>
        <p:spPr>
          <a:xfrm>
            <a:off x="1332000" y="2625840"/>
            <a:ext cx="50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1258920" y="2997360"/>
                <a:ext cx="2104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9"/>
              <p:cNvSpPr txBox="1"/>
              <p:nvPr/>
            </p:nvSpPr>
            <p:spPr>
              <a:xfrm>
                <a:off x="4932360" y="2827440"/>
                <a:ext cx="24764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AutoShape 10"/>
          <p:cNvSpPr/>
          <p:nvPr/>
        </p:nvSpPr>
        <p:spPr>
          <a:xfrm>
            <a:off x="4030560" y="318780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2"/>
              <p:cNvSpPr txBox="1"/>
              <p:nvPr/>
            </p:nvSpPr>
            <p:spPr>
              <a:xfrm>
                <a:off x="482760" y="4086360"/>
                <a:ext cx="43542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AutoShape 13"/>
          <p:cNvSpPr/>
          <p:nvPr/>
        </p:nvSpPr>
        <p:spPr>
          <a:xfrm rot="16200000">
            <a:off x="8209080" y="2925720"/>
            <a:ext cx="180720" cy="704880"/>
          </a:xfrm>
          <a:prstGeom prst="downArrow">
            <a:avLst>
              <a:gd name="adj1" fmla="val 50000"/>
              <a:gd name="adj2" fmla="val 3730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542880" y="4992840"/>
                <a:ext cx="4049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x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AutoShape 15"/>
          <p:cNvSpPr/>
          <p:nvPr/>
        </p:nvSpPr>
        <p:spPr>
          <a:xfrm>
            <a:off x="4451400" y="4572000"/>
            <a:ext cx="82440" cy="420840"/>
          </a:xfrm>
          <a:prstGeom prst="downArrow">
            <a:avLst>
              <a:gd name="adj1" fmla="val 50000"/>
              <a:gd name="adj2" fmla="val 379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7"/>
              <p:cNvSpPr txBox="1"/>
              <p:nvPr/>
            </p:nvSpPr>
            <p:spPr>
              <a:xfrm>
                <a:off x="2948040" y="6014880"/>
                <a:ext cx="36417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AutoShape 19"/>
          <p:cNvSpPr/>
          <p:nvPr/>
        </p:nvSpPr>
        <p:spPr>
          <a:xfrm>
            <a:off x="4390920" y="5473800"/>
            <a:ext cx="142920" cy="395280"/>
          </a:xfrm>
          <a:prstGeom prst="downArrow">
            <a:avLst>
              <a:gd name="adj1" fmla="val 50000"/>
              <a:gd name="adj2" fmla="val 376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10"/>
          <p:cNvGraphicFramePr/>
          <p:nvPr/>
        </p:nvGraphicFramePr>
        <p:xfrm>
          <a:off x="3970440" y="1263600"/>
          <a:ext cx="961920" cy="3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70440" y="1263600"/>
                    <a:ext cx="9619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9"/>
          <p:cNvGraphicFramePr/>
          <p:nvPr/>
        </p:nvGraphicFramePr>
        <p:xfrm>
          <a:off x="1925640" y="1685880"/>
          <a:ext cx="662040" cy="3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5640" y="1685880"/>
                    <a:ext cx="6620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89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Замечание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тное утверждение теоремы неверно, т.е. из непрерывности функ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очке         не следует существование производной функции                    в этой точ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 функция непрерывна в точке             но в этой точке функция не имеет производной.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5"/>
              <p:cNvSpPr txBox="1"/>
              <p:nvPr/>
            </p:nvSpPr>
            <p:spPr>
              <a:xfrm>
                <a:off x="5234040" y="2106720"/>
                <a:ext cx="1233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1986120" y="2587680"/>
                <a:ext cx="347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2106720" y="3129120"/>
                <a:ext cx="1233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5"/>
              <p:cNvSpPr txBox="1"/>
              <p:nvPr/>
            </p:nvSpPr>
            <p:spPr>
              <a:xfrm>
                <a:off x="2647800" y="3670200"/>
                <a:ext cx="32450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5234040" y="5052960"/>
                <a:ext cx="828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4537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йствительно, для фун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очке         име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с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Прямая со стрелкой 6"/>
          <p:cNvCxnSpPr/>
          <p:nvPr/>
        </p:nvCxnSpPr>
        <p:spPr>
          <a:xfrm flipV="1">
            <a:off x="6587640" y="691920"/>
            <a:ext cx="1080" cy="2808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0" name="Прямая со стрелкой 20"/>
          <p:cNvCxnSpPr/>
          <p:nvPr/>
        </p:nvCxnSpPr>
        <p:spPr>
          <a:xfrm>
            <a:off x="5003280" y="3284280"/>
            <a:ext cx="3745800" cy="10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6588000" y="2997360"/>
                <a:ext cx="24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8596440" y="3424320"/>
                <a:ext cx="2664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6732720" y="620640"/>
                <a:ext cx="293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Прямая соединительная линия 25"/>
          <p:cNvSpPr/>
          <p:nvPr/>
        </p:nvSpPr>
        <p:spPr>
          <a:xfrm flipV="1">
            <a:off x="6588000" y="1699920"/>
            <a:ext cx="1729080" cy="1584360"/>
          </a:xfrm>
          <a:prstGeom prst="line">
            <a:avLst/>
          </a:prstGeom>
          <a:ln w="158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27"/>
          <p:cNvSpPr/>
          <p:nvPr/>
        </p:nvSpPr>
        <p:spPr>
          <a:xfrm flipH="1" flipV="1">
            <a:off x="4932000" y="1557360"/>
            <a:ext cx="1655640" cy="1727280"/>
          </a:xfrm>
          <a:prstGeom prst="line">
            <a:avLst/>
          </a:prstGeom>
          <a:ln w="158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1"/>
              <p:cNvSpPr txBox="1"/>
              <p:nvPr/>
            </p:nvSpPr>
            <p:spPr>
              <a:xfrm>
                <a:off x="7667640" y="1125360"/>
                <a:ext cx="857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395280" y="1484280"/>
                <a:ext cx="857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2227320" y="1504800"/>
                <a:ext cx="347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250920" y="2781360"/>
                <a:ext cx="4068720" cy="23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x</m:t>
                                </m:r>
                              </m:e>
                            </m:d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Δ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9"/>
              <p:cNvSpPr txBox="1"/>
              <p:nvPr/>
            </p:nvSpPr>
            <p:spPr>
              <a:xfrm>
                <a:off x="4788000" y="3933720"/>
                <a:ext cx="2457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TextBox 37"/>
          <p:cNvSpPr/>
          <p:nvPr/>
        </p:nvSpPr>
        <p:spPr>
          <a:xfrm>
            <a:off x="4716360" y="46767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существу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.е. функция не имеет производную в этой точк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право 38"/>
          <p:cNvSpPr/>
          <p:nvPr/>
        </p:nvSpPr>
        <p:spPr>
          <a:xfrm>
            <a:off x="7020000" y="4797360"/>
            <a:ext cx="504720" cy="21600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2400" y="603000"/>
            <a:ext cx="82040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br>
              <a:rPr sz="2200"/>
            </a:br>
            <a:br>
              <a:rPr sz="2200"/>
            </a:b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нятие дифференцируемости функции</a:t>
            </a:r>
            <a:br>
              <a:rPr sz="28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ункция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ределена в некоторой окрестности точки          Функция                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дифференцируемо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 точке                     если ее приращение представимо в виде  </a:t>
            </a:r>
            <a:br>
              <a:rPr sz="2200"/>
            </a:b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33cc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+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) −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) =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·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+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,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i="1" lang="ru-RU" sz="2200" spc="-1" strike="noStrike">
                <a:solidFill>
                  <a:srgbClr val="0033cc"/>
                </a:solidFill>
                <a:latin typeface="Calibri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— число,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42640" y="4090680"/>
            <a:ext cx="877572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висящее от 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Δх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а  </a:t>
            </a:r>
            <a:r>
              <a:rPr b="0" i="1" lang="ru-RU" sz="2200" spc="-1" strike="noStrike">
                <a:solidFill>
                  <a:srgbClr val="0033cc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(Δ</a:t>
            </a:r>
            <a:r>
              <a:rPr b="0" i="1" lang="ru-RU" sz="22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функция   более высокого порядк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лости чем 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ru-RU" sz="22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i="1" lang="en-US" sz="2200" spc="-1" strike="noStrike">
                <a:solidFill>
                  <a:srgbClr val="0033cc"/>
                </a:solidFill>
                <a:latin typeface="Calibri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ри 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Δх → 0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200"/>
            </a:br>
            <a:r>
              <a:rPr b="1" lang="ru-RU" sz="2400" spc="-1" strike="noStrike" u="sng">
                <a:solidFill>
                  <a:srgbClr val="a50021"/>
                </a:solidFill>
                <a:uFillTx/>
                <a:latin typeface="Calibri"/>
              </a:rPr>
              <a:t>Т е о р е м а  2</a:t>
            </a: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функция                       дифференцируема в точке               ,   то она непрерывна в этой точке.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братное утверждение невер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2"/>
          <p:cNvGraphicFramePr/>
          <p:nvPr/>
        </p:nvGraphicFramePr>
        <p:xfrm>
          <a:off x="4632480" y="5232240"/>
          <a:ext cx="1203120" cy="4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2480" y="5232240"/>
                    <a:ext cx="12031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4"/>
          <p:cNvGraphicFramePr/>
          <p:nvPr/>
        </p:nvGraphicFramePr>
        <p:xfrm>
          <a:off x="1444680" y="5834160"/>
          <a:ext cx="903240" cy="34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4680" y="5834160"/>
                    <a:ext cx="90324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1746360" y="2106720"/>
          <a:ext cx="961920" cy="36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46360" y="2106720"/>
                    <a:ext cx="9619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1"/>
          <p:cNvGraphicFramePr/>
          <p:nvPr/>
        </p:nvGraphicFramePr>
        <p:xfrm>
          <a:off x="8299440" y="2106720"/>
          <a:ext cx="660240" cy="30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99440" y="2106720"/>
                    <a:ext cx="6602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2"/>
          <p:cNvGraphicFramePr/>
          <p:nvPr/>
        </p:nvGraphicFramePr>
        <p:xfrm>
          <a:off x="7699320" y="2647800"/>
          <a:ext cx="662040" cy="301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99320" y="2647800"/>
                    <a:ext cx="6620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1685880" y="2647800"/>
          <a:ext cx="961920" cy="362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85880" y="2647800"/>
                    <a:ext cx="9619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240" y="182160"/>
            <a:ext cx="9144000" cy="63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еорема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                  является дифференцируемой в точ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и только тогда, когда она имеет производную в эт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е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оказательство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функция                является дифференцируемой в точке              т.е. ее приращение можно представить в  виде           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·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+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им обе части    этого выражения на 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Δх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получи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Object 12"/>
          <p:cNvGraphicFramePr/>
          <p:nvPr/>
        </p:nvGraphicFramePr>
        <p:xfrm>
          <a:off x="482760" y="1144440"/>
          <a:ext cx="661680" cy="3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144440"/>
                    <a:ext cx="66168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0"/>
          <p:cNvGraphicFramePr/>
          <p:nvPr/>
        </p:nvGraphicFramePr>
        <p:xfrm>
          <a:off x="2948040" y="542880"/>
          <a:ext cx="961920" cy="3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8040" y="542880"/>
                    <a:ext cx="9619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8"/>
          <p:cNvGraphicFramePr/>
          <p:nvPr/>
        </p:nvGraphicFramePr>
        <p:xfrm>
          <a:off x="4813200" y="2346480"/>
          <a:ext cx="962280" cy="36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13200" y="2346480"/>
                    <a:ext cx="9622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0"/>
          <p:cNvGraphicFramePr/>
          <p:nvPr/>
        </p:nvGraphicFramePr>
        <p:xfrm>
          <a:off x="3909960" y="2948040"/>
          <a:ext cx="662040" cy="30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09960" y="2948040"/>
                    <a:ext cx="6620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6" name="Object 14"/>
              <p:cNvSpPr txBox="1"/>
              <p:nvPr/>
            </p:nvSpPr>
            <p:spPr>
              <a:xfrm>
                <a:off x="542880" y="4451400"/>
                <a:ext cx="6997680" cy="20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limLow>
                          <m:e>
                            <m:f>
                              <m:num>
                                <m:r>
                                  <m:t xml:space="preserve">Δy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e>
                          <m:lim/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limLow>
                          <m:e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</m:e>
                          <m:lim/>
                        </m:limLow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2760" y="48276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усть теперь  функция                       имеет производную в точ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огда  имеет место следующе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обозначить                            то   выражение          можно записать в форм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Object 10"/>
          <p:cNvGraphicFramePr/>
          <p:nvPr/>
        </p:nvGraphicFramePr>
        <p:xfrm>
          <a:off x="3849840" y="603360"/>
          <a:ext cx="1158840" cy="43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9840" y="603360"/>
                    <a:ext cx="115884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2"/>
          <p:cNvGraphicFramePr/>
          <p:nvPr/>
        </p:nvGraphicFramePr>
        <p:xfrm>
          <a:off x="1746360" y="1263600"/>
          <a:ext cx="662040" cy="3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6360" y="1263600"/>
                    <a:ext cx="6620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2948040" y="1444680"/>
                <a:ext cx="22953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1265400" y="2827440"/>
                <a:ext cx="3911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878040" y="4210200"/>
                <a:ext cx="55926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8"/>
              <p:cNvSpPr txBox="1"/>
              <p:nvPr/>
            </p:nvSpPr>
            <p:spPr>
              <a:xfrm>
                <a:off x="905040" y="4932360"/>
                <a:ext cx="39448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х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AutoShape 13"/>
          <p:cNvSpPr/>
          <p:nvPr/>
        </p:nvSpPr>
        <p:spPr>
          <a:xfrm flipH="1">
            <a:off x="3367800" y="3610080"/>
            <a:ext cx="181080" cy="600120"/>
          </a:xfrm>
          <a:prstGeom prst="downArrow">
            <a:avLst>
              <a:gd name="adj1" fmla="val 50000"/>
              <a:gd name="adj2" fmla="val 3714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3129120" y="5533920"/>
                <a:ext cx="1492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6977160" y="5533920"/>
                <a:ext cx="4874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2"/>
              <p:cNvSpPr txBox="1"/>
              <p:nvPr/>
            </p:nvSpPr>
            <p:spPr>
              <a:xfrm>
                <a:off x="3730680" y="6134040"/>
                <a:ext cx="38066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нятие дифференциала  функ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560" y="1600200"/>
            <a:ext cx="896148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усть функция              дифференцируема в некоторой точк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, тогда ее приращение  в этой точке можно представить  в сл. вид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93300"/>
                </a:solidFill>
                <a:latin typeface="Calibri"/>
              </a:rPr>
              <a:t>Определение.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ервое слагаемое            данного представления называется главной частью </a:t>
            </a:r>
            <a:r>
              <a:rPr b="0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ращения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 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93300"/>
                </a:solidFill>
                <a:latin typeface="Calibri"/>
              </a:rPr>
              <a:t>Определение.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лавная часть приращения          называется </a:t>
            </a:r>
            <a:r>
              <a:rPr b="0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фференциалом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функции в точке         и обозначается символом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1925640" y="2887560"/>
                <a:ext cx="3303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2647800" y="1685880"/>
                <a:ext cx="8035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482760" y="2346480"/>
                <a:ext cx="387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4932360" y="3549600"/>
                <a:ext cx="9223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7"/>
              <p:cNvSpPr txBox="1"/>
              <p:nvPr/>
            </p:nvSpPr>
            <p:spPr>
              <a:xfrm>
                <a:off x="5894280" y="4091040"/>
                <a:ext cx="9525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6315120" y="4751280"/>
                <a:ext cx="9223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9"/>
              <p:cNvSpPr txBox="1"/>
              <p:nvPr/>
            </p:nvSpPr>
            <p:spPr>
              <a:xfrm>
                <a:off x="5775480" y="5172120"/>
                <a:ext cx="387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1986120" y="5773680"/>
                <a:ext cx="1519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AΔ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1"/>
              <p:cNvSpPr txBox="1"/>
              <p:nvPr/>
            </p:nvSpPr>
            <p:spPr>
              <a:xfrm>
                <a:off x="4030560" y="5773680"/>
                <a:ext cx="2025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09:12:28Z</dcterms:created>
  <dc:creator>Admin</dc:creator>
  <dc:description/>
  <dc:language>en-US</dc:language>
  <cp:lastModifiedBy>Пользователь</cp:lastModifiedBy>
  <dcterms:modified xsi:type="dcterms:W3CDTF">2018-07-01T12:34:22Z</dcterms:modified>
  <cp:revision>118</cp:revision>
  <dc:subject/>
  <dc:title>Лекция № 7</dc:title>
</cp:coreProperties>
</file>