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A1A7-8756-444A-93C6-5495BBB81C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C519-BA32-4F5F-BA15-831EDCD50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260B-F604-4BF9-A3F8-F830ED83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152-2695-4A7C-8CDD-76B87156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90F-2EF1-40C1-B165-EC5A135E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899-C11A-4A87-A738-585BF895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CC8B-7E1D-4087-94DD-C8242F33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31A1-35D6-4B77-96D0-174440A8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BAA5-404E-4300-8D9B-6CB2696F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64E8-D5C7-4D1B-8442-FAD44E5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904E-77EB-4CFB-903B-2BED2FC9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17B6-C451-4A20-AA98-92732563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68A0-896F-4826-8BDB-165F5AD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BE3-560A-4356-A8FA-A1A5A1C8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CC34-4383-4E05-96F1-276EED38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D813-8A40-4176-9B5B-93243621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241C-AE7B-4356-B13C-F6683043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8564-EA1F-483D-BE79-BE36DD6D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9DBF-14B5-489F-866C-CFA2B8A2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655-9168-4D6D-9197-F0E088FB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500-3E95-4B40-8D58-4160022A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933-3960-4B18-8EEB-AD587716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F1A-53F2-4609-9C63-9475CB8E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A6C-437E-4FC7-A05D-BAD3637F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58B-4C40-4650-BD34-181502B4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EEC-A00D-4F37-8F57-898004CC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F4FC-32A9-438F-BBBE-7C974ED232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4E1-9738-41A9-AC6D-281D0301A4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38744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БСТВЕННЫЕ  ЗНАЧЕН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ОБСТВЕННЫЕ  ЗНА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ОБСТВЕННЫЕ  ВЕ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АТР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28760" y="1357200"/>
          <a:ext cx="6006960" cy="11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357200"/>
                    <a:ext cx="60069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2"/>
          <p:cNvGraphicFramePr/>
          <p:nvPr/>
        </p:nvGraphicFramePr>
        <p:xfrm>
          <a:off x="318960" y="2577960"/>
          <a:ext cx="80391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960" y="2577960"/>
                    <a:ext cx="80391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3"/>
          <p:cNvGraphicFramePr/>
          <p:nvPr/>
        </p:nvGraphicFramePr>
        <p:xfrm>
          <a:off x="357120" y="3786120"/>
          <a:ext cx="4154400" cy="11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20" y="3786120"/>
                    <a:ext cx="415440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9"/>
          <p:cNvSpPr/>
          <p:nvPr/>
        </p:nvSpPr>
        <p:spPr>
          <a:xfrm>
            <a:off x="4932720" y="3714840"/>
            <a:ext cx="15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ож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9"/>
          <p:cNvGraphicFramePr/>
          <p:nvPr/>
        </p:nvGraphicFramePr>
        <p:xfrm>
          <a:off x="6772320" y="3857760"/>
          <a:ext cx="1060560" cy="5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72320" y="3857760"/>
                    <a:ext cx="1060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"/>
          <p:cNvGraphicFramePr/>
          <p:nvPr/>
        </p:nvGraphicFramePr>
        <p:xfrm>
          <a:off x="4572000" y="4929120"/>
          <a:ext cx="3651120" cy="113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29120"/>
                    <a:ext cx="365112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1"/>
          <p:cNvGraphicFramePr/>
          <p:nvPr/>
        </p:nvGraphicFramePr>
        <p:xfrm>
          <a:off x="558720" y="1428840"/>
          <a:ext cx="288612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28840"/>
                    <a:ext cx="28861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6"/>
          <p:cNvSpPr/>
          <p:nvPr/>
        </p:nvSpPr>
        <p:spPr>
          <a:xfrm>
            <a:off x="3848400" y="1214280"/>
            <a:ext cx="485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является собственным век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с    собств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м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Объект 18"/>
              <p:cNvSpPr txBox="1"/>
              <p:nvPr/>
            </p:nvSpPr>
            <p:spPr>
              <a:xfrm>
                <a:off x="5286240" y="185724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3"/>
          <p:cNvGraphicFramePr/>
          <p:nvPr/>
        </p:nvGraphicFramePr>
        <p:xfrm>
          <a:off x="5737320" y="2357280"/>
          <a:ext cx="126180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37320" y="2357280"/>
                    <a:ext cx="12618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Box 9"/>
          <p:cNvSpPr/>
          <p:nvPr/>
        </p:nvSpPr>
        <p:spPr>
          <a:xfrm>
            <a:off x="428760" y="3214800"/>
            <a:ext cx="588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Аналогично для собственного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учим след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6572160" y="3214800"/>
          <a:ext cx="1133640" cy="56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3214800"/>
                    <a:ext cx="11336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3929040" y="3857760"/>
          <a:ext cx="2616120" cy="14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9040" y="3857760"/>
                    <a:ext cx="261612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собственных значений ма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448200" y="1357200"/>
            <a:ext cx="81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оизведение собственных значений матрицы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вно ее определител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Число  отличных от нуля собственных знач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равно ее ра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се собственные значения матрицы отличны от ну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лько и только тогда, когда  матрица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вырожд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1"/>
          <p:cNvGraphicFramePr/>
          <p:nvPr/>
        </p:nvGraphicFramePr>
        <p:xfrm>
          <a:off x="4429080" y="2000160"/>
          <a:ext cx="402264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2000160"/>
                    <a:ext cx="40226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Объект 18"/>
              <p:cNvSpPr txBox="1"/>
              <p:nvPr/>
            </p:nvSpPr>
            <p:spPr>
              <a:xfrm>
                <a:off x="7643880" y="142884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143080" y="364320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6143760" y="478620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собственных значений ма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42440" y="1428840"/>
            <a:ext cx="8186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  собственное значение невырожд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, то                      собственное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  собственное значение матрицы        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ое значение  матрицы     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1f1f99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туральное числ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Объект 18"/>
              <p:cNvSpPr txBox="1"/>
              <p:nvPr/>
            </p:nvSpPr>
            <p:spPr>
              <a:xfrm>
                <a:off x="2286000" y="207792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6" name="Object 4"/>
          <p:cNvGraphicFramePr/>
          <p:nvPr/>
        </p:nvGraphicFramePr>
        <p:xfrm>
          <a:off x="1503360" y="1500120"/>
          <a:ext cx="117792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1500120"/>
                    <a:ext cx="11779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6"/>
          <p:cNvGraphicFramePr/>
          <p:nvPr/>
        </p:nvGraphicFramePr>
        <p:xfrm>
          <a:off x="3483000" y="1785960"/>
          <a:ext cx="151776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3000" y="1785960"/>
                    <a:ext cx="1517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2643120" y="2571840"/>
          <a:ext cx="58896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571840"/>
                    <a:ext cx="5889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1571760" y="3187800"/>
          <a:ext cx="1177920" cy="45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71760" y="3187800"/>
                    <a:ext cx="11779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7429680" y="32148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5" name="Object 10"/>
          <p:cNvGraphicFramePr/>
          <p:nvPr/>
        </p:nvGraphicFramePr>
        <p:xfrm>
          <a:off x="836640" y="3714840"/>
          <a:ext cx="80640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6640" y="3714840"/>
                    <a:ext cx="8064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1"/>
          <p:cNvGraphicFramePr/>
          <p:nvPr/>
        </p:nvGraphicFramePr>
        <p:xfrm>
          <a:off x="6429240" y="3714840"/>
          <a:ext cx="52704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29240" y="3714840"/>
                    <a:ext cx="527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71680" y="1785960"/>
                <a:ext cx="409572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3" name="Object 22"/>
          <p:cNvGraphicFramePr/>
          <p:nvPr/>
        </p:nvGraphicFramePr>
        <p:xfrm>
          <a:off x="6643800" y="2357280"/>
          <a:ext cx="36504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2357280"/>
                    <a:ext cx="3650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21"/>
          <p:cNvGraphicFramePr/>
          <p:nvPr/>
        </p:nvGraphicFramePr>
        <p:xfrm>
          <a:off x="6572160" y="2857680"/>
          <a:ext cx="347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72160" y="2857680"/>
                    <a:ext cx="347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7143840" y="2928960"/>
          <a:ext cx="124308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3840" y="2928960"/>
                    <a:ext cx="12430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9"/>
          <p:cNvGraphicFramePr/>
          <p:nvPr/>
        </p:nvGraphicFramePr>
        <p:xfrm>
          <a:off x="5429160" y="3429000"/>
          <a:ext cx="365040" cy="49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29160" y="3429000"/>
                    <a:ext cx="3650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8"/>
          <p:cNvGraphicFramePr/>
          <p:nvPr/>
        </p:nvGraphicFramePr>
        <p:xfrm>
          <a:off x="1857240" y="3929040"/>
          <a:ext cx="85896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3929040"/>
                    <a:ext cx="8589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25"/>
          <p:cNvSpPr/>
          <p:nvPr/>
        </p:nvSpPr>
        <p:spPr>
          <a:xfrm>
            <a:off x="4429080" y="7725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357120" y="1143000"/>
            <a:ext cx="82155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из характеристического   уравн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но собственное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и      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 поиск соответствующих   числу        собственных векторов              матрицы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водится к  решению линейной системы                                   с постоянной квадратной матрицей                       поря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29"/>
          <p:cNvGraphicFramePr/>
          <p:nvPr/>
        </p:nvGraphicFramePr>
        <p:xfrm>
          <a:off x="3571920" y="4500720"/>
          <a:ext cx="2211480" cy="51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920" y="4500720"/>
                    <a:ext cx="221148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32"/>
          <p:cNvGraphicFramePr/>
          <p:nvPr/>
        </p:nvGraphicFramePr>
        <p:xfrm>
          <a:off x="3929040" y="5072040"/>
          <a:ext cx="1206360" cy="49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9040" y="5072040"/>
                    <a:ext cx="1206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1"/>
          <p:cNvGraphicFramePr/>
          <p:nvPr/>
        </p:nvGraphicFramePr>
        <p:xfrm>
          <a:off x="6786720" y="5072040"/>
          <a:ext cx="52992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1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6720" y="5072040"/>
                    <a:ext cx="529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35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нейная зависимость век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6760" y="1599840"/>
            <a:ext cx="8177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                      линейного векторного пространства          называются </a:t>
            </a: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линейно зависим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существуют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не все равные нулю, такие, что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              (1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линейного векторного пространства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независимыми,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полнение равенства (1) возможно только при услов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1"/>
          <p:cNvGraphicFramePr/>
          <p:nvPr/>
        </p:nvGraphicFramePr>
        <p:xfrm>
          <a:off x="4857840" y="1571760"/>
          <a:ext cx="130644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571760"/>
                    <a:ext cx="1306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"/>
          <p:cNvSpPr/>
          <p:nvPr/>
        </p:nvSpPr>
        <p:spPr>
          <a:xfrm>
            <a:off x="4449600" y="10584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4643280" y="1928880"/>
          <a:ext cx="38448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28880"/>
                    <a:ext cx="3844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6"/>
          <p:cNvGraphicFramePr/>
          <p:nvPr/>
        </p:nvGraphicFramePr>
        <p:xfrm>
          <a:off x="1143000" y="2714760"/>
          <a:ext cx="14907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714760"/>
                    <a:ext cx="1490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8"/>
          <p:cNvGraphicFramePr/>
          <p:nvPr/>
        </p:nvGraphicFramePr>
        <p:xfrm>
          <a:off x="1214280" y="3571920"/>
          <a:ext cx="3665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4280" y="3571920"/>
                    <a:ext cx="3665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0"/>
          <p:cNvGraphicFramePr/>
          <p:nvPr/>
        </p:nvGraphicFramePr>
        <p:xfrm>
          <a:off x="5357880" y="5286240"/>
          <a:ext cx="295272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5286240"/>
                    <a:ext cx="2952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3"/>
          <p:cNvGraphicFramePr/>
          <p:nvPr/>
        </p:nvGraphicFramePr>
        <p:xfrm>
          <a:off x="4643280" y="4000680"/>
          <a:ext cx="13068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4000680"/>
                    <a:ext cx="1306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88800" y="1450800"/>
            <a:ext cx="828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сегда имеет бесконечное множество реш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 котором число базисных  (то есть максим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линейно независимых)  решений равно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    ранг матрицы  ,  то есть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отрицательное число,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1"/>
          <p:cNvGraphicFramePr/>
          <p:nvPr/>
        </p:nvGraphicFramePr>
        <p:xfrm>
          <a:off x="2071800" y="1428840"/>
          <a:ext cx="2614680" cy="6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428840"/>
                    <a:ext cx="26146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2"/>
          <p:cNvGraphicFramePr/>
          <p:nvPr/>
        </p:nvGraphicFramePr>
        <p:xfrm>
          <a:off x="6357960" y="3071880"/>
          <a:ext cx="1096920" cy="58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7960" y="3071880"/>
                    <a:ext cx="1096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214280" y="3643200"/>
          <a:ext cx="712800" cy="5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4280" y="3643200"/>
                    <a:ext cx="7128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6"/>
          <p:cNvGraphicFramePr/>
          <p:nvPr/>
        </p:nvGraphicFramePr>
        <p:xfrm>
          <a:off x="4286160" y="4214880"/>
          <a:ext cx="21384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4214880"/>
                    <a:ext cx="2138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7"/>
          <p:cNvGraphicFramePr/>
          <p:nvPr/>
        </p:nvGraphicFramePr>
        <p:xfrm>
          <a:off x="7572240" y="3643200"/>
          <a:ext cx="36540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2240" y="3643200"/>
                    <a:ext cx="3654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6"/>
          <p:cNvGraphicFramePr/>
          <p:nvPr/>
        </p:nvGraphicFramePr>
        <p:xfrm>
          <a:off x="2357280" y="4143240"/>
          <a:ext cx="58608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4143240"/>
                    <a:ext cx="5860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15"/>
          <p:cNvGraphicFramePr/>
          <p:nvPr/>
        </p:nvGraphicFramePr>
        <p:xfrm>
          <a:off x="6572160" y="4143240"/>
          <a:ext cx="53028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4143240"/>
                    <a:ext cx="530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Rectangle 21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27"/>
          <p:cNvSpPr/>
          <p:nvPr/>
        </p:nvSpPr>
        <p:spPr>
          <a:xfrm>
            <a:off x="428760" y="128592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этому  любому собственному значению квадра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соответствует хотя бы один линей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зависимый собственный в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Более того, число линейно независимых собственных векторов,   отвечающих собственному значени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и              не превосходит числ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428760" y="1357200"/>
            <a:ext cx="8143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1f1f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простое собственное значение матрицы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тогда  этому   числу  отвечает  ровно  один линейно независимый собственный век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оторый находим из системы                         , например, с помощью метода Гау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"/>
          <p:cNvGraphicFramePr/>
          <p:nvPr/>
        </p:nvGraphicFramePr>
        <p:xfrm>
          <a:off x="1928880" y="1428840"/>
          <a:ext cx="7365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428840"/>
                    <a:ext cx="7365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857160" y="3000240"/>
          <a:ext cx="117972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3000240"/>
                    <a:ext cx="11797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4"/>
          <p:cNvGraphicFramePr/>
          <p:nvPr/>
        </p:nvGraphicFramePr>
        <p:xfrm>
          <a:off x="6286680" y="3071880"/>
          <a:ext cx="22111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3071880"/>
                    <a:ext cx="22111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-34200" y="1571760"/>
            <a:ext cx="92012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1f1f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лучай, когда характеристическое у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меет комплексный корень               кратност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ак как данное алгебраическое уравнение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ействительными коэффициентами, то оно обяз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меет корень           комплексно–сопряженный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тношению  к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6"/>
              <p:cNvSpPr txBox="1"/>
              <p:nvPr/>
            </p:nvSpPr>
            <p:spPr>
              <a:xfrm>
                <a:off x="1357200" y="2500200"/>
                <a:ext cx="592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25" name="Object 2"/>
          <p:cNvGraphicFramePr/>
          <p:nvPr/>
        </p:nvGraphicFramePr>
        <p:xfrm>
          <a:off x="4714920" y="3214800"/>
          <a:ext cx="4017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3214800"/>
                    <a:ext cx="4017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7273800" y="3294000"/>
          <a:ext cx="94140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3800" y="3294000"/>
                    <a:ext cx="94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5"/>
          <p:cNvGraphicFramePr/>
          <p:nvPr/>
        </p:nvGraphicFramePr>
        <p:xfrm>
          <a:off x="2786040" y="4929120"/>
          <a:ext cx="46836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6040" y="4929120"/>
                    <a:ext cx="468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1"/>
          <p:cNvGraphicFramePr/>
          <p:nvPr/>
        </p:nvGraphicFramePr>
        <p:xfrm>
          <a:off x="2571840" y="5429160"/>
          <a:ext cx="40140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542916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ссмотрим  квадратную матрицу  порядка         с постоянными действительными эле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Число         называется собственным значением, а ненулевой вектор      называется соответствующим собственным вектором матрицы         если выполняется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Объект 5"/>
              <p:cNvSpPr txBox="1"/>
              <p:nvPr/>
            </p:nvSpPr>
            <p:spPr>
              <a:xfrm>
                <a:off x="3181320" y="2492280"/>
                <a:ext cx="21207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Объект 7"/>
              <p:cNvSpPr txBox="1"/>
              <p:nvPr/>
            </p:nvSpPr>
            <p:spPr>
              <a:xfrm>
                <a:off x="7740720" y="1557360"/>
                <a:ext cx="280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Объект 8"/>
              <p:cNvSpPr txBox="1"/>
              <p:nvPr/>
            </p:nvSpPr>
            <p:spPr>
              <a:xfrm>
                <a:off x="6804000" y="1989000"/>
                <a:ext cx="393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16"/>
              <p:cNvSpPr txBox="1"/>
              <p:nvPr/>
            </p:nvSpPr>
            <p:spPr>
              <a:xfrm>
                <a:off x="3708360" y="386064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Объект 17"/>
              <p:cNvSpPr txBox="1"/>
              <p:nvPr/>
            </p:nvSpPr>
            <p:spPr>
              <a:xfrm>
                <a:off x="4932360" y="4365720"/>
                <a:ext cx="309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18"/>
              <p:cNvSpPr txBox="1"/>
              <p:nvPr/>
            </p:nvSpPr>
            <p:spPr>
              <a:xfrm>
                <a:off x="8028000" y="4941720"/>
                <a:ext cx="3380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Объект 20"/>
              <p:cNvSpPr txBox="1"/>
              <p:nvPr/>
            </p:nvSpPr>
            <p:spPr>
              <a:xfrm>
                <a:off x="4954680" y="5516640"/>
                <a:ext cx="2570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428760" y="1428840"/>
            <a:ext cx="824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ь корня          равна  числу                  Поэтому следует найти собственные векторы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ответствующие собственному значению 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алее нужно  построить к ним комплексно-сопряж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, которые являются собств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ами, соответствующими собств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ю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1"/>
          <p:cNvGraphicFramePr/>
          <p:nvPr/>
        </p:nvGraphicFramePr>
        <p:xfrm>
          <a:off x="3059280" y="1428840"/>
          <a:ext cx="46800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28840"/>
                    <a:ext cx="4680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5796000" y="1463760"/>
          <a:ext cx="4269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1463760"/>
                    <a:ext cx="426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786720" y="2500200"/>
          <a:ext cx="40140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6720" y="250020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2143080" y="4714920"/>
          <a:ext cx="46836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4714920"/>
                    <a:ext cx="468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1768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395280" y="1628640"/>
            <a:ext cx="820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усть у матрицы 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есть кратное собств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        кратности         Тогда, решая сис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будет найдено         линейно независимых соб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ов,  отвечающих числу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ичем число           удовлетворяет двойному неравенств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Объект 2"/>
          <p:cNvGraphicFramePr/>
          <p:nvPr/>
        </p:nvGraphicFramePr>
        <p:xfrm>
          <a:off x="2050920" y="2205000"/>
          <a:ext cx="33336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205000"/>
                    <a:ext cx="333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Объект 5"/>
              <p:cNvSpPr txBox="1"/>
              <p:nvPr/>
            </p:nvSpPr>
            <p:spPr>
              <a:xfrm>
                <a:off x="4140360" y="2276640"/>
                <a:ext cx="704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Объект 7"/>
              <p:cNvSpPr txBox="1"/>
              <p:nvPr/>
            </p:nvSpPr>
            <p:spPr>
              <a:xfrm>
                <a:off x="2627280" y="2852640"/>
                <a:ext cx="57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Объект 9"/>
              <p:cNvSpPr txBox="1"/>
              <p:nvPr/>
            </p:nvSpPr>
            <p:spPr>
              <a:xfrm>
                <a:off x="5003640" y="3357720"/>
                <a:ext cx="397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Объект 11"/>
              <p:cNvSpPr txBox="1"/>
              <p:nvPr/>
            </p:nvSpPr>
            <p:spPr>
              <a:xfrm>
                <a:off x="2556000" y="4581360"/>
                <a:ext cx="1455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Объект 13"/>
              <p:cNvSpPr txBox="1"/>
              <p:nvPr/>
            </p:nvSpPr>
            <p:spPr>
              <a:xfrm>
                <a:off x="1258920" y="5084640"/>
                <a:ext cx="1644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Объект 14"/>
              <p:cNvSpPr txBox="1"/>
              <p:nvPr/>
            </p:nvSpPr>
            <p:spPr>
              <a:xfrm>
                <a:off x="2700360" y="4005360"/>
                <a:ext cx="579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768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4"/>
          <p:cNvSpPr/>
          <p:nvPr/>
        </p:nvSpPr>
        <p:spPr>
          <a:xfrm>
            <a:off x="900000" y="184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3552"/>
          <p:cNvSpPr/>
          <p:nvPr/>
        </p:nvSpPr>
        <p:spPr>
          <a:xfrm>
            <a:off x="468360" y="1413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.  Если оказывается, что                то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ого значения         будет найдено столько линейно независимых собственных векторов, какова кратность рассматриваемого собственного значения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Объект 23571"/>
              <p:cNvSpPr txBox="1"/>
              <p:nvPr/>
            </p:nvSpPr>
            <p:spPr>
              <a:xfrm>
                <a:off x="5691240" y="1592280"/>
                <a:ext cx="12571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0" name="Объект 23572"/>
          <p:cNvGraphicFramePr/>
          <p:nvPr/>
        </p:nvGraphicFramePr>
        <p:xfrm>
          <a:off x="3924360" y="1978200"/>
          <a:ext cx="40140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Объект 235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78200"/>
                    <a:ext cx="40140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Объект 23573"/>
          <p:cNvGraphicFramePr/>
          <p:nvPr/>
        </p:nvGraphicFramePr>
        <p:xfrm>
          <a:off x="8101080" y="3068640"/>
          <a:ext cx="4014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Объект 235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306864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1"/>
          <p:cNvSpPr/>
          <p:nvPr/>
        </p:nvSpPr>
        <p:spPr>
          <a:xfrm>
            <a:off x="395280" y="1413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Найти собственные значения и собственные векторы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Объект 3"/>
              <p:cNvSpPr txBox="1"/>
              <p:nvPr/>
            </p:nvSpPr>
            <p:spPr>
              <a:xfrm>
                <a:off x="3132000" y="2492280"/>
                <a:ext cx="1586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TextBox 4"/>
          <p:cNvSpPr/>
          <p:nvPr/>
        </p:nvSpPr>
        <p:spPr>
          <a:xfrm>
            <a:off x="584280" y="3716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584280" y="3645000"/>
            <a:ext cx="7875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Найдем собственные значения матр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785880" y="4292640"/>
                <a:ext cx="7170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λ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Объект 5"/>
              <p:cNvSpPr txBox="1"/>
              <p:nvPr/>
            </p:nvSpPr>
            <p:spPr>
              <a:xfrm>
                <a:off x="3513240" y="5229360"/>
                <a:ext cx="1828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Объект 2"/>
              <p:cNvSpPr txBox="1"/>
              <p:nvPr/>
            </p:nvSpPr>
            <p:spPr>
              <a:xfrm>
                <a:off x="1096920" y="1457280"/>
                <a:ext cx="7574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TextBox 6"/>
          <p:cNvSpPr/>
          <p:nvPr/>
        </p:nvSpPr>
        <p:spPr>
          <a:xfrm>
            <a:off x="698760" y="1413000"/>
            <a:ext cx="49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ое значение кра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Объект 10"/>
              <p:cNvSpPr txBox="1"/>
              <p:nvPr/>
            </p:nvSpPr>
            <p:spPr>
              <a:xfrm>
                <a:off x="5718240" y="1413000"/>
                <a:ext cx="6620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Box 11"/>
          <p:cNvSpPr/>
          <p:nvPr/>
        </p:nvSpPr>
        <p:spPr>
          <a:xfrm>
            <a:off x="1476360" y="184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Объект 14"/>
          <p:cNvGraphicFramePr/>
          <p:nvPr/>
        </p:nvGraphicFramePr>
        <p:xfrm>
          <a:off x="684360" y="1916280"/>
          <a:ext cx="60879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Объект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60879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5" name="Объект 16"/>
              <p:cNvSpPr txBox="1"/>
              <p:nvPr/>
            </p:nvSpPr>
            <p:spPr>
              <a:xfrm>
                <a:off x="684360" y="3284640"/>
                <a:ext cx="311940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Объект 18"/>
              <p:cNvSpPr txBox="1"/>
              <p:nvPr/>
            </p:nvSpPr>
            <p:spPr>
              <a:xfrm>
                <a:off x="4518000" y="3429000"/>
                <a:ext cx="356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  <m:r>
                                <m:t xml:space="preserve"> </m:t>
                              </m:r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98" name="Прямая соединительная линия 20"/>
          <p:cNvSpPr/>
          <p:nvPr/>
        </p:nvSpPr>
        <p:spPr>
          <a:xfrm>
            <a:off x="5370480" y="3429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Соединительная линия уступом 22"/>
          <p:cNvCxnSpPr/>
          <p:nvPr/>
        </p:nvCxnSpPr>
        <p:spPr>
          <a:xfrm flipV="1" rot="10800000">
            <a:off x="5764320" y="3790440"/>
            <a:ext cx="536760" cy="215280"/>
          </a:xfrm>
          <a:prstGeom prst="bentConnector3">
            <a:avLst>
              <a:gd name="adj1" fmla="val 50000"/>
            </a:avLst>
          </a:prstGeom>
          <a:ln w="34920">
            <a:solidFill>
              <a:srgbClr val="cc0066"/>
            </a:solidFill>
            <a:miter/>
            <a:tailEnd len="med" type="triangle" w="med"/>
          </a:ln>
        </p:spPr>
      </p:cxnSp>
      <p:sp>
        <p:nvSpPr>
          <p:cNvPr id="400" name="Прямая соединительная линия 37"/>
          <p:cNvSpPr/>
          <p:nvPr/>
        </p:nvSpPr>
        <p:spPr>
          <a:xfrm>
            <a:off x="7667640" y="3429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38"/>
          <p:cNvSpPr/>
          <p:nvPr/>
        </p:nvSpPr>
        <p:spPr>
          <a:xfrm flipH="1">
            <a:off x="6804000" y="3789360"/>
            <a:ext cx="1152720" cy="144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6"/>
          <p:cNvSpPr/>
          <p:nvPr/>
        </p:nvSpPr>
        <p:spPr>
          <a:xfrm>
            <a:off x="9936000" y="6858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Объект 1"/>
              <p:cNvSpPr txBox="1"/>
              <p:nvPr/>
            </p:nvSpPr>
            <p:spPr>
              <a:xfrm>
                <a:off x="860400" y="4653000"/>
                <a:ext cx="1427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9"/>
              <p:cNvSpPr txBox="1"/>
              <p:nvPr/>
            </p:nvSpPr>
            <p:spPr>
              <a:xfrm>
                <a:off x="2700360" y="4797360"/>
                <a:ext cx="3301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Объект 3"/>
              <p:cNvSpPr txBox="1"/>
              <p:nvPr/>
            </p:nvSpPr>
            <p:spPr>
              <a:xfrm>
                <a:off x="3529080" y="4444920"/>
                <a:ext cx="10126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Объект 5"/>
              <p:cNvSpPr txBox="1"/>
              <p:nvPr/>
            </p:nvSpPr>
            <p:spPr>
              <a:xfrm>
                <a:off x="2465280" y="5413320"/>
                <a:ext cx="8496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25"/>
          <p:cNvSpPr/>
          <p:nvPr/>
        </p:nvSpPr>
        <p:spPr>
          <a:xfrm>
            <a:off x="4951080" y="515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4968720" y="9727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1407600" y="5516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жество всех собственных значений матрицы  называется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спектром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.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едставим равенство (1) в сл.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диничная матрица порядка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венство (2) является системой линейных алгебраических уравнений относительно вектора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4405320" y="3141720"/>
                <a:ext cx="3092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λE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71640" y="3141720"/>
                <a:ext cx="2268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971640" y="3860640"/>
                <a:ext cx="55404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Объект 7"/>
              <p:cNvSpPr txBox="1"/>
              <p:nvPr/>
            </p:nvSpPr>
            <p:spPr>
              <a:xfrm>
                <a:off x="5796000" y="3897360"/>
                <a:ext cx="2808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Объект 17"/>
              <p:cNvSpPr txBox="1"/>
              <p:nvPr/>
            </p:nvSpPr>
            <p:spPr>
              <a:xfrm>
                <a:off x="5580000" y="4869000"/>
                <a:ext cx="309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вида (2) всегда совместна, так как всегда имеет нулев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(2) имеет тривиальное (нулевое             ) решение, если определитель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(2)  имеет ненулевые решения               , 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7"/>
              <p:cNvSpPr txBox="1"/>
              <p:nvPr/>
            </p:nvSpPr>
            <p:spPr>
              <a:xfrm>
                <a:off x="6653160" y="2708280"/>
                <a:ext cx="727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6300720" y="3213000"/>
                <a:ext cx="1795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6588000" y="3860640"/>
                <a:ext cx="727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≠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2916360" y="4581360"/>
                <a:ext cx="2914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2556000" y="4437000"/>
                <a:ext cx="43290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Box 9"/>
          <p:cNvSpPr/>
          <p:nvPr/>
        </p:nvSpPr>
        <p:spPr>
          <a:xfrm>
            <a:off x="447840" y="1557360"/>
            <a:ext cx="81565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равнение (3) называется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характеристиче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уравнением матрицы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ешения уравнения (3) называются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собственными значениями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равнение (3) можно представить в сл.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Объект 18"/>
              <p:cNvSpPr txBox="1"/>
              <p:nvPr/>
            </p:nvSpPr>
            <p:spPr>
              <a:xfrm>
                <a:off x="4140360" y="22050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3780000" y="3357720"/>
                <a:ext cx="338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280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ычислив определитель,   разложив его по элементам первой строки, и сгруппировав подобные члены,  получим алгебраическое уравнение степе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тносительно     , а               где постоянные действительные 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гочлен       ой степени  относительно       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характеристическим многочленом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665360" y="3141720"/>
                <a:ext cx="5929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Объект 7"/>
              <p:cNvSpPr txBox="1"/>
              <p:nvPr/>
            </p:nvSpPr>
            <p:spPr>
              <a:xfrm>
                <a:off x="6948360" y="2708280"/>
                <a:ext cx="281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Объект 16"/>
              <p:cNvSpPr txBox="1"/>
              <p:nvPr/>
            </p:nvSpPr>
            <p:spPr>
              <a:xfrm>
                <a:off x="2556000" y="393372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3995640" y="3933720"/>
                <a:ext cx="1684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4071960" y="4429080"/>
                <a:ext cx="18208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" name="Object 12"/>
          <p:cNvGraphicFramePr/>
          <p:nvPr/>
        </p:nvGraphicFramePr>
        <p:xfrm>
          <a:off x="2000160" y="5143680"/>
          <a:ext cx="533520" cy="3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5143680"/>
                    <a:ext cx="5335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6357960" y="507204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" name="Объект 18"/>
          <p:cNvGraphicFramePr/>
          <p:nvPr/>
        </p:nvGraphicFramePr>
        <p:xfrm>
          <a:off x="7424640" y="5643720"/>
          <a:ext cx="4334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4640" y="5643720"/>
                    <a:ext cx="4334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гласно основной теореме алгебры характеристическое уравнение всегда имеет ровно корней       (с учетом их кратности),  которые в общем случае являются комплексными числ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Теорема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Любая постоянная квадратная матр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рядка           имеет с учетом кратности ро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ых значений, совпадающих с корн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характеристическ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Объект 7"/>
              <p:cNvSpPr txBox="1"/>
              <p:nvPr/>
            </p:nvSpPr>
            <p:spPr>
              <a:xfrm>
                <a:off x="1857240" y="285768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7358040" y="471492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6"/>
              <p:cNvSpPr txBox="1"/>
              <p:nvPr/>
            </p:nvSpPr>
            <p:spPr>
              <a:xfrm>
                <a:off x="2000160" y="471492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Объект 18"/>
              <p:cNvSpPr txBox="1"/>
              <p:nvPr/>
            </p:nvSpPr>
            <p:spPr>
              <a:xfrm>
                <a:off x="7858080" y="4000680"/>
                <a:ext cx="371520" cy="42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428760" y="1357200"/>
            <a:ext cx="81439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адача нахождения соб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й матрицы           сводится к ре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характеристического уравнения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ти собственные значения  и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Объект 18"/>
              <p:cNvSpPr txBox="1"/>
              <p:nvPr/>
            </p:nvSpPr>
            <p:spPr>
              <a:xfrm>
                <a:off x="3357720" y="20718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1" name="Object 14"/>
          <p:cNvGraphicFramePr/>
          <p:nvPr/>
        </p:nvGraphicFramePr>
        <p:xfrm>
          <a:off x="5286240" y="2643120"/>
          <a:ext cx="5572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2643120"/>
                    <a:ext cx="557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5"/>
          <p:cNvGraphicFramePr/>
          <p:nvPr/>
        </p:nvGraphicFramePr>
        <p:xfrm>
          <a:off x="2071800" y="3714840"/>
          <a:ext cx="191916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3714840"/>
                    <a:ext cx="19191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18"/>
          <p:cNvSpPr/>
          <p:nvPr/>
        </p:nvSpPr>
        <p:spPr>
          <a:xfrm>
            <a:off x="459360" y="5072040"/>
            <a:ext cx="79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ставляем характеристическ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500040" y="1428840"/>
          <a:ext cx="472608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428840"/>
                    <a:ext cx="47260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714240" y="3000240"/>
          <a:ext cx="383868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3000240"/>
                    <a:ext cx="38386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"/>
          <p:cNvGraphicFramePr/>
          <p:nvPr/>
        </p:nvGraphicFramePr>
        <p:xfrm>
          <a:off x="5715000" y="2357280"/>
          <a:ext cx="1917720" cy="8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357280"/>
                    <a:ext cx="1917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1"/>
          <p:cNvGraphicFramePr/>
          <p:nvPr/>
        </p:nvGraphicFramePr>
        <p:xfrm>
          <a:off x="5786280" y="3500280"/>
          <a:ext cx="1684440" cy="84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6280" y="3500280"/>
                    <a:ext cx="168444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7" name="Прямая со стрелкой 15"/>
          <p:cNvCxnSpPr/>
          <p:nvPr/>
        </p:nvCxnSpPr>
        <p:spPr>
          <a:xfrm flipV="1">
            <a:off x="4571640" y="2928240"/>
            <a:ext cx="1143720" cy="57204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178" name="Прямая со стрелкой 17"/>
          <p:cNvCxnSpPr/>
          <p:nvPr/>
        </p:nvCxnSpPr>
        <p:spPr>
          <a:xfrm>
            <a:off x="4571640" y="3499920"/>
            <a:ext cx="1143720" cy="71532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arrow" w="med"/>
          </a:ln>
        </p:spPr>
      </p:cxnSp>
      <p:sp>
        <p:nvSpPr>
          <p:cNvPr id="179" name="TextBox 21"/>
          <p:cNvSpPr/>
          <p:nvPr/>
        </p:nvSpPr>
        <p:spPr>
          <a:xfrm>
            <a:off x="571680" y="4143240"/>
            <a:ext cx="480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м собственный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ответствующий собстве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12"/>
          <p:cNvGraphicFramePr/>
          <p:nvPr/>
        </p:nvGraphicFramePr>
        <p:xfrm>
          <a:off x="5572080" y="4500720"/>
          <a:ext cx="2949480" cy="93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72080" y="4500720"/>
                    <a:ext cx="294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3"/>
          <p:cNvGraphicFramePr/>
          <p:nvPr/>
        </p:nvGraphicFramePr>
        <p:xfrm>
          <a:off x="2428920" y="5286240"/>
          <a:ext cx="1917720" cy="84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5286240"/>
                    <a:ext cx="1917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MANYA</cp:lastModifiedBy>
  <dcterms:modified xsi:type="dcterms:W3CDTF">2014-10-16T19:15:06Z</dcterms:modified>
  <cp:revision>66</cp:revision>
  <dc:subject/>
  <dc:title>Определители второго и третьего порядка.</dc:title>
</cp:coreProperties>
</file>