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84.png" ContentType="image/png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65.wmf" ContentType="image/x-wmf"/>
  <Override PartName="/ppt/media/image82.png" ContentType="image/png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E98D-21C8-4582-AA74-3C5FD5435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00F-FD97-4520-9D7E-85276E60D3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8FAA-7EA3-49E5-A356-7858FFDC0D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2A0-D4D5-408C-A885-7BAD4F10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36A-FFC0-4E19-81D5-EC03439F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EFB-21CA-425F-AC9A-50C2146D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4CE-EAE3-4A1D-A7A9-299441EA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35CA-5599-4398-AAF5-E5AE5A9E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E217-9735-4298-9024-082779E2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F6A5-CCE2-4F1D-AF99-3476F08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0F21-6D5F-4F59-A9CF-B916FA1D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980F-CB54-4C13-8BBC-9D5B3289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5ED-7BF9-48EA-8C63-A9E2E82F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B86A-70BE-4749-A4A4-6BDEE5B3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A00-457E-4536-A187-3AB56B16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8327-3990-4EFE-9AE8-A889BD03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FB99-CB5C-4442-81D0-45563FA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2195-EFEF-4984-93C2-056C2356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8866-9AC0-4044-9C3E-AE104D41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3E6-CE93-4BCC-951D-4A6F236A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CAC-8838-4527-9EF9-442D1A9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4C9-F698-4FD2-B4FC-E72AA6A1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6C7-97D0-4D83-A1A6-55C81191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DC6B-3618-4BA4-98B3-B52F5A7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808-AB19-42D6-97A3-16966DB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99E-2360-43B6-8A4A-92CB33B9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57D-5A50-410D-905B-B08B9BE8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8F7-FC85-4AEE-9FB2-7C718E4118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7DBC-7DF9-44DC-98E5-E6331836D9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190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. Базис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284640"/>
            <a:ext cx="66294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ые векторные простра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ая зависимость ве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азис и размерность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ко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трица пер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ой элемент      линейного пространства           разлагается по базису                          этого пространства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динственн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Доказательство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положим   обратное, пусть элемент        разлагается по базису                   двумя различными способами:             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4608360" y="17146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17146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2928960" y="221472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2147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6858000" y="2143080"/>
          <a:ext cx="14540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143080"/>
                    <a:ext cx="1454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2928960" y="428616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286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6715080" y="4143240"/>
          <a:ext cx="14540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5080" y="414324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2905200" y="5214960"/>
          <a:ext cx="405288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5200" y="5214960"/>
                    <a:ext cx="40528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357120" y="1285920"/>
          <a:ext cx="511992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285920"/>
                    <a:ext cx="51199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654280"/>
          <a:ext cx="82645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654280"/>
                    <a:ext cx="8264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7"/>
          <p:cNvSpPr/>
          <p:nvPr/>
        </p:nvSpPr>
        <p:spPr>
          <a:xfrm>
            <a:off x="504720" y="3214800"/>
            <a:ext cx="801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силу линейной независимости базисных эле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, равенство               справедливо  тольк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олько тогд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714240" y="3714840"/>
          <a:ext cx="145440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37148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5"/>
          <p:cNvGraphicFramePr/>
          <p:nvPr/>
        </p:nvGraphicFramePr>
        <p:xfrm>
          <a:off x="4071960" y="3714840"/>
          <a:ext cx="7254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714840"/>
                    <a:ext cx="725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571680" y="4714920"/>
          <a:ext cx="574020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714920"/>
                    <a:ext cx="57402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571680" y="5357880"/>
          <a:ext cx="416232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5357880"/>
                    <a:ext cx="4162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13"/>
          <p:cNvSpPr/>
          <p:nvPr/>
        </p:nvSpPr>
        <p:spPr>
          <a:xfrm>
            <a:off x="4997520" y="53578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6760" y="135720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з этих равенств, в силу аксиом 1-8 линейного векторного пространств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Object 2"/>
          <p:cNvGraphicFramePr/>
          <p:nvPr/>
        </p:nvGraphicFramePr>
        <p:xfrm>
          <a:off x="560520" y="4857840"/>
          <a:ext cx="76327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4857840"/>
                    <a:ext cx="7632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1913040" y="5643720"/>
          <a:ext cx="5506920" cy="56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3040" y="5643720"/>
                    <a:ext cx="55069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9"/>
          <p:cNvSpPr/>
          <p:nvPr/>
        </p:nvSpPr>
        <p:spPr>
          <a:xfrm>
            <a:off x="642960" y="1668600"/>
            <a:ext cx="802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элементы                         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ы по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3500280" y="1778040"/>
          <a:ext cx="128592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1778040"/>
                    <a:ext cx="1285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2928960" y="207180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0718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572000" y="2286000"/>
          <a:ext cx="15937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286000"/>
                    <a:ext cx="1593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2571840" y="3000240"/>
          <a:ext cx="3665520" cy="91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1840" y="3000240"/>
                    <a:ext cx="36655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1) означает, что при сложении двух элементов линейного пространства           их координаты склад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2) означает, что при умножении элемента линейного пространства        на некоторое число         координаты этого элемента умножаются на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6286680" y="2071800"/>
          <a:ext cx="3520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2071800"/>
                    <a:ext cx="352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4572000" y="372096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20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Объект 6"/>
              <p:cNvSpPr txBox="1"/>
              <p:nvPr/>
            </p:nvSpPr>
            <p:spPr>
              <a:xfrm>
                <a:off x="8001000" y="380196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9" name="Object 6"/>
          <p:cNvGraphicFramePr/>
          <p:nvPr/>
        </p:nvGraphicFramePr>
        <p:xfrm>
          <a:off x="7358040" y="4286160"/>
          <a:ext cx="3650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58040" y="4286160"/>
                    <a:ext cx="365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линей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базис,  состоящий и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ов, то это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ется размерностью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само пространство называется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ым или вектор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 обозначается чере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152e"/>
                </a:solidFill>
                <a:latin typeface="Arial"/>
              </a:rPr>
              <a:t>dim L.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7858080" y="1643040"/>
          <a:ext cx="3524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1643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642960" y="34290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4290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"/>
          <p:cNvGraphicFramePr/>
          <p:nvPr/>
        </p:nvGraphicFramePr>
        <p:xfrm>
          <a:off x="6072120" y="46432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4643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пространство, в котором не существует баз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ется бесконечномерным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любые два базиса содержат  одинаковое числ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 плоскости равна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равна т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8143920" y="5214960"/>
          <a:ext cx="3841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920" y="5214960"/>
                    <a:ext cx="384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8"/>
          <p:cNvGraphicFramePr/>
          <p:nvPr/>
        </p:nvGraphicFramePr>
        <p:xfrm>
          <a:off x="6429240" y="5072040"/>
          <a:ext cx="5130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5072040"/>
                    <a:ext cx="51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11858760" y="30718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58760" y="30718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57120" y="142884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         и                               два произво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ого линейного пространств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ы                             разложим по 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7"/>
          <p:cNvGraphicFramePr/>
          <p:nvPr/>
        </p:nvGraphicFramePr>
        <p:xfrm>
          <a:off x="1357200" y="1495440"/>
          <a:ext cx="14544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954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6"/>
          <p:cNvGraphicFramePr/>
          <p:nvPr/>
        </p:nvGraphicFramePr>
        <p:xfrm>
          <a:off x="3357720" y="1382760"/>
          <a:ext cx="192852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382760"/>
                    <a:ext cx="19285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8"/>
          <p:cNvGraphicFramePr/>
          <p:nvPr/>
        </p:nvGraphicFramePr>
        <p:xfrm>
          <a:off x="6858000" y="2000160"/>
          <a:ext cx="51264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00016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500040" y="3143160"/>
          <a:ext cx="145404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314316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9"/>
          <p:cNvGraphicFramePr/>
          <p:nvPr/>
        </p:nvGraphicFramePr>
        <p:xfrm>
          <a:off x="2143080" y="2571840"/>
          <a:ext cx="192888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2571840"/>
                    <a:ext cx="1928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1"/>
          <p:cNvGraphicFramePr/>
          <p:nvPr/>
        </p:nvGraphicFramePr>
        <p:xfrm>
          <a:off x="2428920" y="3643200"/>
          <a:ext cx="4360680" cy="20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3643200"/>
                    <a:ext cx="4360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57120" y="1428840"/>
            <a:ext cx="828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7"/>
          <p:cNvGraphicFramePr/>
          <p:nvPr/>
        </p:nvGraphicFramePr>
        <p:xfrm>
          <a:off x="2863800" y="1571760"/>
          <a:ext cx="273852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571760"/>
                    <a:ext cx="27385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Box 11"/>
          <p:cNvSpPr/>
          <p:nvPr/>
        </p:nvSpPr>
        <p:spPr>
          <a:xfrm>
            <a:off x="718200" y="17859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озна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434880" y="4071960"/>
            <a:ext cx="776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атрицу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называют матрицей перехода от  н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к  старому базис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пределитель этой матрицы отличен от 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28760" y="1599840"/>
            <a:ext cx="828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Замечание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ый вектор          пространства  имеет координаты как в старом базисе, так и в но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ое связывает координаты                                      вектора                                 в старом базисе и координаты      вектора        в новом базисе, где          –  матрица перехода от нового базиса к ста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5572080" y="19288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9288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"/>
          <p:cNvGraphicFramePr/>
          <p:nvPr/>
        </p:nvGraphicFramePr>
        <p:xfrm>
          <a:off x="8143920" y="18572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3920" y="18572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0"/>
          <p:cNvGraphicFramePr/>
          <p:nvPr/>
        </p:nvGraphicFramePr>
        <p:xfrm>
          <a:off x="4357800" y="3000240"/>
          <a:ext cx="42685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7800" y="3000240"/>
                    <a:ext cx="4268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3"/>
          <p:cNvGraphicFramePr/>
          <p:nvPr/>
        </p:nvGraphicFramePr>
        <p:xfrm>
          <a:off x="5572080" y="3500280"/>
          <a:ext cx="17859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350028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4"/>
          <p:cNvGraphicFramePr/>
          <p:nvPr/>
        </p:nvGraphicFramePr>
        <p:xfrm>
          <a:off x="4286160" y="4643280"/>
          <a:ext cx="320760" cy="35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4643280"/>
                    <a:ext cx="3207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5"/>
          <p:cNvGraphicFramePr/>
          <p:nvPr/>
        </p:nvGraphicFramePr>
        <p:xfrm>
          <a:off x="7858080" y="4500720"/>
          <a:ext cx="5032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58080" y="4500720"/>
                    <a:ext cx="50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8"/>
          <p:cNvGraphicFramePr/>
          <p:nvPr/>
        </p:nvGraphicFramePr>
        <p:xfrm>
          <a:off x="2500200" y="4071960"/>
          <a:ext cx="1785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0200" y="407196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6760" y="13572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м  произведением  векторов         и           линейного векторного пространства          называется число, обозначаем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довлетворяющее следующим 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.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2286000" y="228600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3286080" y="2214720"/>
          <a:ext cx="32076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214720"/>
                    <a:ext cx="3207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"/>
          <p:cNvGraphicFramePr/>
          <p:nvPr/>
        </p:nvGraphicFramePr>
        <p:xfrm>
          <a:off x="2928960" y="278604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786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"/>
          <p:cNvGraphicFramePr/>
          <p:nvPr/>
        </p:nvGraphicFramePr>
        <p:xfrm>
          <a:off x="785880" y="3286080"/>
          <a:ext cx="8967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3286080"/>
                    <a:ext cx="896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785880" y="4000680"/>
          <a:ext cx="20113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4000680"/>
                    <a:ext cx="20113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3"/>
          <p:cNvGraphicFramePr/>
          <p:nvPr/>
        </p:nvGraphicFramePr>
        <p:xfrm>
          <a:off x="2928960" y="4000680"/>
          <a:ext cx="1490760" cy="47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4000680"/>
                    <a:ext cx="149076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5"/>
          <p:cNvGraphicFramePr/>
          <p:nvPr/>
        </p:nvGraphicFramePr>
        <p:xfrm>
          <a:off x="857160" y="4572000"/>
          <a:ext cx="36021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4572000"/>
                    <a:ext cx="3602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7"/>
          <p:cNvGraphicFramePr/>
          <p:nvPr/>
        </p:nvGraphicFramePr>
        <p:xfrm>
          <a:off x="4602240" y="4595760"/>
          <a:ext cx="175572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2240" y="4595760"/>
                    <a:ext cx="1755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9"/>
          <p:cNvGraphicFramePr/>
          <p:nvPr/>
        </p:nvGraphicFramePr>
        <p:xfrm>
          <a:off x="857160" y="5214960"/>
          <a:ext cx="244944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7160" y="5214960"/>
                    <a:ext cx="2449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21"/>
          <p:cNvGraphicFramePr/>
          <p:nvPr/>
        </p:nvGraphicFramePr>
        <p:xfrm>
          <a:off x="3514680" y="5240160"/>
          <a:ext cx="2776680" cy="474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14680" y="5240160"/>
                    <a:ext cx="2776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24"/>
          <p:cNvGraphicFramePr/>
          <p:nvPr/>
        </p:nvGraphicFramePr>
        <p:xfrm>
          <a:off x="2786040" y="5786280"/>
          <a:ext cx="11430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4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86040" y="5786280"/>
                    <a:ext cx="114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26"/>
          <p:cNvGraphicFramePr/>
          <p:nvPr/>
        </p:nvGraphicFramePr>
        <p:xfrm>
          <a:off x="1000080" y="5786280"/>
          <a:ext cx="141300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00080" y="5786280"/>
                    <a:ext cx="141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зывается линейным векторным пространством,  если для любых его элементов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называемых  векторами  этого  пространства,  и любого действительного числа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 определены  в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 что верны следующие аксио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4"/>
              <p:cNvSpPr txBox="1"/>
              <p:nvPr/>
            </p:nvSpPr>
            <p:spPr>
              <a:xfrm>
                <a:off x="2124000" y="256536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916360" y="2522520"/>
                <a:ext cx="280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6"/>
              <p:cNvSpPr txBox="1"/>
              <p:nvPr/>
            </p:nvSpPr>
            <p:spPr>
              <a:xfrm>
                <a:off x="7502400" y="301608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7"/>
              <p:cNvSpPr txBox="1"/>
              <p:nvPr/>
            </p:nvSpPr>
            <p:spPr>
              <a:xfrm>
                <a:off x="4356000" y="3573360"/>
                <a:ext cx="7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8"/>
              <p:cNvSpPr txBox="1"/>
              <p:nvPr/>
            </p:nvSpPr>
            <p:spPr>
              <a:xfrm>
                <a:off x="5916600" y="3573360"/>
                <a:ext cx="6476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"/>
          <p:cNvGraphicFramePr/>
          <p:nvPr/>
        </p:nvGraphicFramePr>
        <p:xfrm>
          <a:off x="428760" y="1285920"/>
          <a:ext cx="145404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85920"/>
                    <a:ext cx="1454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Box 6"/>
          <p:cNvSpPr/>
          <p:nvPr/>
        </p:nvSpPr>
        <p:spPr>
          <a:xfrm>
            <a:off x="357120" y="1322280"/>
            <a:ext cx="8358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гда, ког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улевой эле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пространство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котором определено 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ов,  называется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вклидовым простран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о            является евклидовым, так как 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и в нем определено скаля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ед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4143240" y="1357200"/>
          <a:ext cx="6588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1357200"/>
                    <a:ext cx="658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"/>
          <p:cNvGraphicFramePr/>
          <p:nvPr/>
        </p:nvGraphicFramePr>
        <p:xfrm>
          <a:off x="2643120" y="1785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1785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8"/>
          <p:cNvGraphicFramePr/>
          <p:nvPr/>
        </p:nvGraphicFramePr>
        <p:xfrm>
          <a:off x="7858080" y="235728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080" y="2357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9"/>
          <p:cNvGraphicFramePr/>
          <p:nvPr/>
        </p:nvGraphicFramePr>
        <p:xfrm>
          <a:off x="2714760" y="4143240"/>
          <a:ext cx="49356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4143240"/>
                    <a:ext cx="493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1428480"/>
            <a:ext cx="82486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юбом евклидовом пространстве опре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длин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е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стояние между двумя векто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синус угла   между векторами        и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8"/>
          <p:cNvGraphicFramePr/>
          <p:nvPr/>
        </p:nvGraphicFramePr>
        <p:xfrm>
          <a:off x="3143160" y="2143080"/>
          <a:ext cx="151776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143080"/>
                    <a:ext cx="1517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3214800" y="3357720"/>
          <a:ext cx="198432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3357720"/>
                    <a:ext cx="19843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-1643040" y="1500120"/>
          <a:ext cx="14292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643040" y="1500120"/>
                    <a:ext cx="142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5"/>
          <p:cNvGraphicFramePr/>
          <p:nvPr/>
        </p:nvGraphicFramePr>
        <p:xfrm>
          <a:off x="5572080" y="4102200"/>
          <a:ext cx="28404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4102200"/>
                    <a:ext cx="2840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3"/>
          <p:cNvGraphicFramePr/>
          <p:nvPr/>
        </p:nvGraphicFramePr>
        <p:xfrm>
          <a:off x="3929040" y="4714920"/>
          <a:ext cx="157176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9040" y="4714920"/>
                    <a:ext cx="1571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"/>
          <p:cNvGraphicFramePr/>
          <p:nvPr/>
        </p:nvGraphicFramePr>
        <p:xfrm>
          <a:off x="-1071720" y="1928880"/>
          <a:ext cx="37152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1071720" y="1928880"/>
                    <a:ext cx="3715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14"/>
          <p:cNvSpPr/>
          <p:nvPr/>
        </p:nvSpPr>
        <p:spPr>
          <a:xfrm>
            <a:off x="4692600" y="126792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2520" y="2339280"/>
            <a:ext cx="25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18"/>
          <p:cNvGraphicFramePr/>
          <p:nvPr/>
        </p:nvGraphicFramePr>
        <p:xfrm>
          <a:off x="6357960" y="4057560"/>
          <a:ext cx="301680" cy="44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7960" y="4057560"/>
                    <a:ext cx="30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тогональные элементы. Ортонормированный бази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6760" y="1571400"/>
            <a:ext cx="8177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                        евклид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называется ортогональным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любы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ый  баз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вклидова  пространства  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ртонормирован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3857760" y="156852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15685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3"/>
          <p:cNvGraphicFramePr/>
          <p:nvPr/>
        </p:nvGraphicFramePr>
        <p:xfrm>
          <a:off x="2643120" y="20066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0066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571680" y="2416320"/>
          <a:ext cx="14540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2416320"/>
                    <a:ext cx="145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0"/>
          <p:cNvGraphicFramePr/>
          <p:nvPr/>
        </p:nvGraphicFramePr>
        <p:xfrm>
          <a:off x="3929040" y="2452680"/>
          <a:ext cx="18367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2452680"/>
                    <a:ext cx="183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3"/>
          <p:cNvGraphicFramePr/>
          <p:nvPr/>
        </p:nvGraphicFramePr>
        <p:xfrm>
          <a:off x="6215040" y="2925720"/>
          <a:ext cx="15080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5040" y="29257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5"/>
          <p:cNvGraphicFramePr/>
          <p:nvPr/>
        </p:nvGraphicFramePr>
        <p:xfrm>
          <a:off x="4357800" y="3435480"/>
          <a:ext cx="352440" cy="4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5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7800" y="34354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6"/>
          <p:cNvGraphicFramePr/>
          <p:nvPr/>
        </p:nvGraphicFramePr>
        <p:xfrm>
          <a:off x="4857840" y="3960720"/>
          <a:ext cx="1342800" cy="5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7840" y="3960720"/>
                    <a:ext cx="13428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7"/>
          <p:cNvGraphicFramePr/>
          <p:nvPr/>
        </p:nvGraphicFramePr>
        <p:xfrm>
          <a:off x="6424560" y="3954600"/>
          <a:ext cx="1719360" cy="47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4560" y="3954600"/>
                    <a:ext cx="1719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56760" y="1599840"/>
            <a:ext cx="8358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–                          базис в  евклидовом пространстве        .  Тогда   векторов, вычисленных по форму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т  ортогональный базис  в  евклид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е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2257560" y="1785960"/>
          <a:ext cx="15652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1785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2928960" y="24354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4354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8"/>
          <p:cNvGraphicFramePr/>
          <p:nvPr/>
        </p:nvGraphicFramePr>
        <p:xfrm>
          <a:off x="1571760" y="3429000"/>
          <a:ext cx="10047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3429000"/>
                    <a:ext cx="1004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Object 10"/>
          <p:cNvGraphicFramePr/>
          <p:nvPr/>
        </p:nvGraphicFramePr>
        <p:xfrm>
          <a:off x="3214800" y="3143160"/>
          <a:ext cx="21841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3143160"/>
                    <a:ext cx="2184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2"/>
          <p:cNvGraphicFramePr/>
          <p:nvPr/>
        </p:nvGraphicFramePr>
        <p:xfrm>
          <a:off x="6000840" y="3286080"/>
          <a:ext cx="164448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3286080"/>
                    <a:ext cx="1644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4"/>
          <p:cNvGraphicFramePr/>
          <p:nvPr/>
        </p:nvGraphicFramePr>
        <p:xfrm>
          <a:off x="1571760" y="4071960"/>
          <a:ext cx="3098520" cy="90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4071960"/>
                    <a:ext cx="309852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7"/>
          <p:cNvGraphicFramePr/>
          <p:nvPr/>
        </p:nvGraphicFramePr>
        <p:xfrm>
          <a:off x="2643120" y="5506920"/>
          <a:ext cx="3524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43120" y="55069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760" y="1356840"/>
            <a:ext cx="82152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цесс построения указан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ого базиса                            по не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ному                        базису   называется  процес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изации  Шмид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ормированием вектора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мена его вектором         ,  имеющим длину,  равну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4214880" y="228600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28600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1928880" y="2928960"/>
          <a:ext cx="1565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928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6429240" y="4214880"/>
          <a:ext cx="28440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240" y="4214880"/>
                    <a:ext cx="284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7"/>
          <p:cNvGraphicFramePr/>
          <p:nvPr/>
        </p:nvGraphicFramePr>
        <p:xfrm>
          <a:off x="3714840" y="4500720"/>
          <a:ext cx="393480" cy="92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4840" y="4500720"/>
                    <a:ext cx="393480" cy="9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яснить, являются л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 завис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ставим матрицу, у которой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троками являются векторы                        .  Приведем ее к ступенчатому в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500040" y="2214720"/>
          <a:ext cx="810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14720"/>
                    <a:ext cx="810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3"/>
          <p:cNvGraphicFramePr/>
          <p:nvPr/>
        </p:nvGraphicFramePr>
        <p:xfrm>
          <a:off x="4714920" y="4071960"/>
          <a:ext cx="1865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4071960"/>
                    <a:ext cx="1865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0040" y="1428480"/>
            <a:ext cx="82152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1000080" y="1457280"/>
          <a:ext cx="72309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457280"/>
                    <a:ext cx="7230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33" name="Прямая со стрелкой 22"/>
          <p:cNvCxnSpPr/>
          <p:nvPr/>
        </p:nvCxnSpPr>
        <p:spPr>
          <a:xfrm flipH="1" flipV="1">
            <a:off x="2626920" y="2994840"/>
            <a:ext cx="2865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4" name="Прямая со стрелкой 26"/>
          <p:cNvCxnSpPr/>
          <p:nvPr/>
        </p:nvCxnSpPr>
        <p:spPr>
          <a:xfrm flipH="1" flipV="1">
            <a:off x="2642400" y="2142360"/>
            <a:ext cx="5007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5" name="Прямая со стрелкой 27"/>
          <p:cNvCxnSpPr/>
          <p:nvPr/>
        </p:nvCxnSpPr>
        <p:spPr>
          <a:xfrm flipH="1" flipV="1">
            <a:off x="2643120" y="2571480"/>
            <a:ext cx="643320" cy="216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436" name="Прямая соединительная линия 29"/>
          <p:cNvSpPr/>
          <p:nvPr/>
        </p:nvSpPr>
        <p:spPr>
          <a:xfrm>
            <a:off x="3071880" y="1785960"/>
            <a:ext cx="0" cy="3571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2"/>
          <p:cNvSpPr/>
          <p:nvPr/>
        </p:nvSpPr>
        <p:spPr>
          <a:xfrm flipH="1">
            <a:off x="3284640" y="1714680"/>
            <a:ext cx="1440" cy="85716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37"/>
          <p:cNvSpPr/>
          <p:nvPr/>
        </p:nvSpPr>
        <p:spPr>
          <a:xfrm flipH="1">
            <a:off x="2928960" y="1785960"/>
            <a:ext cx="1440" cy="121428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6"/>
          <p:cNvSpPr/>
          <p:nvPr/>
        </p:nvSpPr>
        <p:spPr>
          <a:xfrm>
            <a:off x="571680" y="385776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Ранг системы векторов   равен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 Векторы линейно зависи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457720" cy="1403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469960" cy="1260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1819440" cy="1152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9" descr=""/>
          <p:cNvPicPr/>
          <p:nvPr/>
        </p:nvPicPr>
        <p:blipFill>
          <a:blip r:embed="rId4"/>
          <a:stretch/>
        </p:blipFill>
        <p:spPr>
          <a:xfrm>
            <a:off x="395280" y="3124080"/>
            <a:ext cx="7835760" cy="1160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" descr=""/>
          <p:cNvPicPr/>
          <p:nvPr/>
        </p:nvPicPr>
        <p:blipFill>
          <a:blip r:embed="rId5"/>
          <a:stretch/>
        </p:blipFill>
        <p:spPr>
          <a:xfrm>
            <a:off x="395280" y="4376880"/>
            <a:ext cx="7658280" cy="649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11"/>
              <p:cNvSpPr txBox="1"/>
              <p:nvPr/>
            </p:nvSpPr>
            <p:spPr>
              <a:xfrm>
                <a:off x="1547640" y="4799160"/>
                <a:ext cx="2495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Прямоугольник 12"/>
          <p:cNvSpPr/>
          <p:nvPr/>
        </p:nvSpPr>
        <p:spPr>
          <a:xfrm>
            <a:off x="468360" y="53132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координаты данного разложения удовлетворяют линейной системе алгебраических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Объект 5"/>
              <p:cNvSpPr txBox="1"/>
              <p:nvPr/>
            </p:nvSpPr>
            <p:spPr>
              <a:xfrm>
                <a:off x="900000" y="1628640"/>
                <a:ext cx="2170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Объект 7"/>
              <p:cNvSpPr txBox="1"/>
              <p:nvPr/>
            </p:nvSpPr>
            <p:spPr>
              <a:xfrm>
                <a:off x="3276720" y="1628640"/>
                <a:ext cx="234468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Объект 9"/>
              <p:cNvSpPr txBox="1"/>
              <p:nvPr/>
            </p:nvSpPr>
            <p:spPr>
              <a:xfrm>
                <a:off x="5796000" y="1700280"/>
                <a:ext cx="25891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0" name="Picture 7" descr=""/>
          <p:cNvPicPr/>
          <p:nvPr/>
        </p:nvPicPr>
        <p:blipFill>
          <a:blip r:embed="rId1"/>
          <a:stretch/>
        </p:blipFill>
        <p:spPr>
          <a:xfrm>
            <a:off x="428760" y="2817720"/>
            <a:ext cx="5151240" cy="3419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13"/>
              <p:cNvSpPr txBox="1"/>
              <p:nvPr/>
            </p:nvSpPr>
            <p:spPr>
              <a:xfrm>
                <a:off x="5724360" y="4905360"/>
                <a:ext cx="2787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14200" y="1341360"/>
            <a:ext cx="8715600" cy="4332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rcRect l="-2059" t="0" r="-2059" b="0"/>
          <a:stretch/>
        </p:blipFill>
        <p:spPr>
          <a:xfrm>
            <a:off x="611280" y="1484280"/>
            <a:ext cx="7561080" cy="208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468360" y="3286080"/>
            <a:ext cx="705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488360" cy="2235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763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5"/>
              <p:cNvSpPr txBox="1"/>
              <p:nvPr/>
            </p:nvSpPr>
            <p:spPr>
              <a:xfrm>
                <a:off x="2700360" y="1484280"/>
                <a:ext cx="35956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1800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Объект 7"/>
              <p:cNvSpPr txBox="1"/>
              <p:nvPr/>
            </p:nvSpPr>
            <p:spPr>
              <a:xfrm>
                <a:off x="971640" y="4653000"/>
                <a:ext cx="195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3419640" y="49388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Объект 10"/>
              <p:cNvSpPr txBox="1"/>
              <p:nvPr/>
            </p:nvSpPr>
            <p:spPr>
              <a:xfrm>
                <a:off x="4859280" y="4686480"/>
                <a:ext cx="19512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37440" cy="468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428760" y="2214720"/>
          <a:ext cx="2889000" cy="52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214720"/>
                    <a:ext cx="2889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3714840" y="2238480"/>
          <a:ext cx="287964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2238480"/>
                    <a:ext cx="2879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3"/>
          <p:cNvGraphicFramePr/>
          <p:nvPr/>
        </p:nvGraphicFramePr>
        <p:xfrm>
          <a:off x="428760" y="2928960"/>
          <a:ext cx="2595600" cy="5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928960"/>
                    <a:ext cx="25956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3635280" y="3068640"/>
          <a:ext cx="2741760" cy="47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3068640"/>
                    <a:ext cx="2741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16"/>
          <p:cNvSpPr/>
          <p:nvPr/>
        </p:nvSpPr>
        <p:spPr>
          <a:xfrm>
            <a:off x="357120" y="3857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ножество всех векторов плоскости или трехмерного пространства является линейным пространством относительно операций сложения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екторов и умножения векторов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215200" cy="255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28760" y="4071960"/>
            <a:ext cx="8143920" cy="130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4786200" y="1643040"/>
          <a:ext cx="13068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643040"/>
                    <a:ext cx="130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643280" y="1973160"/>
          <a:ext cx="3844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73160"/>
                    <a:ext cx="3844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 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векторов 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пространства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является линейно независимой тогда и только тогда, когда матриц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,  столбцы  (строки)  которой составлены из этих векторов, имеет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нг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Следств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, состоящая более чем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n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екторов пространств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,  линейно зависи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6386400" y="1643040"/>
          <a:ext cx="1623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6400" y="1643040"/>
                    <a:ext cx="1623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3214800" y="2143080"/>
          <a:ext cx="5936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14308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4572000" y="5000760"/>
          <a:ext cx="59364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00076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35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произвольное линей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ая независимая система элементов                     пространства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азисо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го пространства, если любой элемент      пространства         является линейной комбинацией этих элементов,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                           некоторые числа называемы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ординатами элемента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относительно базис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643040" y="1428840"/>
          <a:ext cx="639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428840"/>
                    <a:ext cx="639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"/>
          <p:cNvGraphicFramePr/>
          <p:nvPr/>
        </p:nvGraphicFramePr>
        <p:xfrm>
          <a:off x="2357280" y="2500200"/>
          <a:ext cx="14544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2500200"/>
                    <a:ext cx="1454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6072120" y="2577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2577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8072280" y="321480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2280" y="32148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2714760" y="3643200"/>
          <a:ext cx="352440" cy="4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36432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"/>
          <p:cNvGraphicFramePr/>
          <p:nvPr/>
        </p:nvGraphicFramePr>
        <p:xfrm>
          <a:off x="3803760" y="4143240"/>
          <a:ext cx="405432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3760" y="4143240"/>
                    <a:ext cx="4054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8"/>
          <p:cNvGraphicFramePr/>
          <p:nvPr/>
        </p:nvGraphicFramePr>
        <p:xfrm>
          <a:off x="1214280" y="4786200"/>
          <a:ext cx="178920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4280" y="4786200"/>
                    <a:ext cx="1789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9"/>
          <p:cNvGraphicFramePr/>
          <p:nvPr/>
        </p:nvGraphicFramePr>
        <p:xfrm>
          <a:off x="4572000" y="5429160"/>
          <a:ext cx="32076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5429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"/>
          <p:cNvGraphicFramePr/>
          <p:nvPr/>
        </p:nvGraphicFramePr>
        <p:xfrm>
          <a:off x="3571920" y="5786280"/>
          <a:ext cx="1809720" cy="59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71920" y="5786280"/>
                    <a:ext cx="1809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                                                 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ием элемента         по бази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лоскости любые два неколлине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ространства любые три  некомплан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"/>
          <p:cNvGraphicFramePr/>
          <p:nvPr/>
        </p:nvGraphicFramePr>
        <p:xfrm>
          <a:off x="2428920" y="1428840"/>
          <a:ext cx="40543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28840"/>
                    <a:ext cx="4054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4071960" y="2143080"/>
          <a:ext cx="320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21430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6143760" y="2071800"/>
          <a:ext cx="153828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2071800"/>
                    <a:ext cx="153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10-24T08:08:38Z</dcterms:modified>
  <cp:revision>136</cp:revision>
  <dc:subject/>
  <dc:title>Определители второго и третьего порядка.</dc:title>
</cp:coreProperties>
</file>