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78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65.wmf" ContentType="image/x-wmf"/>
  <Override PartName="/ppt/media/image82.png" ContentType="image/png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4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866-668C-4A48-81CA-9613634B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954-14A4-438F-AF9D-5619814A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420-AF28-46BB-94B6-69D0837E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D54-DC67-491A-96EE-106593AF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2D26-DE20-444D-9AE2-B31C7C6F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9982-247B-4389-B9F5-4F6CEABD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FC98-27DE-4CF7-B2A5-BEE7F506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F603-2F58-48B3-BDD8-A2F2920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B36-D483-4675-82BD-2D16AA7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CFFE-00DC-4CF9-8469-77C713BA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65AF-A371-4C8B-84A1-3DC5E05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95B-4FCC-47B9-B26A-4A2C0EF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5DB-8041-43C4-936B-2EA28D7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DC35-86DF-4D76-9C03-1FA36EB7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4749-7415-4E44-BF00-E6A6573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A22-95F9-4E3B-A582-A892110D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2937-43B2-4C27-8918-FE9B528B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458-89EF-41C2-93F1-72607880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FE0-AA29-4BB9-A040-23FC1C72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BC8-8B20-4B78-BADE-80541EC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228-7012-4DD4-A314-54766EC8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E24-8ABF-4146-9741-99DCBDB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D15-EF06-4417-9CA9-7F730723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54B-DC3C-4E28-BD2F-0F21288C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8FE-96D8-42D7-8AD0-5A8F6B4E7C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B59-FC6E-497F-82F0-B8AAA785BA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image" Target="../media/image54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азличные виды уравнения прямой на плоскост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37672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4920" cy="129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98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2233800" cy="51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237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3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Точка пересечения прямых,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х общими  уравн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ходится как решени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824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оординаты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y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середины  отрезка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 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между  точкам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6596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5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стояние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 точками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012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 параллель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 условие параллельност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двух прямых, имеющих угловые коэффициенты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7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перпендикуляр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условие перпендикулярности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двух прямых,  имеющих  угловые коэффициенты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203640" y="3201840"/>
            <a:ext cx="2736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 общее уравнение пря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ешим уравнение относительно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 уравнение прямой с угловым коэффициен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заключаем: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k = 2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987640" y="2060640"/>
          <a:ext cx="32083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060640"/>
                    <a:ext cx="32083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2"/>
          <p:cNvGraphicFramePr/>
          <p:nvPr/>
        </p:nvGraphicFramePr>
        <p:xfrm>
          <a:off x="5651640" y="3789360"/>
          <a:ext cx="230508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789360"/>
                    <a:ext cx="2305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1547640" y="4240080"/>
          <a:ext cx="2517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240080"/>
                    <a:ext cx="2517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5"/>
          <p:cNvGraphicFramePr/>
          <p:nvPr/>
        </p:nvGraphicFramePr>
        <p:xfrm>
          <a:off x="4427640" y="4221000"/>
          <a:ext cx="7920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4221000"/>
                    <a:ext cx="792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ь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(-1;3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оставляющей с осью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135</a:t>
            </a:r>
            <a:r>
              <a:rPr b="0" i="1" lang="ru-RU" sz="2000" spc="-1" strike="noStrike" baseline="30000">
                <a:solidFill>
                  <a:srgbClr val="66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к как в данном случа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k=tg135</a:t>
            </a:r>
            <a:r>
              <a:rPr b="0" i="1" lang="en-US" sz="2800" spc="-1" strike="noStrike" baseline="30000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=-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-1, y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уравнение прямой буде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вид: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-3=-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: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 искомое уравнение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 р и м е р 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оставить уравнение прямой, проходящей через точку пересечения прям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лельно прямо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)  Найдем точку пересечения двух прямых, для этого, реш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искомая точка пересечения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оставим уравнение прямой, проходящей через данную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ьно прямо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1692360" y="2060640"/>
          <a:ext cx="23032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2303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6"/>
          <p:cNvGraphicFramePr/>
          <p:nvPr/>
        </p:nvGraphicFramePr>
        <p:xfrm>
          <a:off x="4643280" y="1989000"/>
          <a:ext cx="28800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89000"/>
                    <a:ext cx="2880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8"/>
          <p:cNvGraphicFramePr/>
          <p:nvPr/>
        </p:nvGraphicFramePr>
        <p:xfrm>
          <a:off x="2843280" y="2708280"/>
          <a:ext cx="24480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708280"/>
                    <a:ext cx="2448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9"/>
          <p:cNvGraphicFramePr/>
          <p:nvPr/>
        </p:nvGraphicFramePr>
        <p:xfrm>
          <a:off x="1332000" y="3645000"/>
          <a:ext cx="3168720" cy="13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45000"/>
                    <a:ext cx="3168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0"/>
          <p:cNvGraphicFramePr/>
          <p:nvPr/>
        </p:nvGraphicFramePr>
        <p:xfrm>
          <a:off x="4572000" y="4005360"/>
          <a:ext cx="647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005360"/>
                    <a:ext cx="647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1"/>
          <p:cNvGraphicFramePr/>
          <p:nvPr/>
        </p:nvGraphicFramePr>
        <p:xfrm>
          <a:off x="5580000" y="3645000"/>
          <a:ext cx="129564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3645000"/>
                    <a:ext cx="1295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2"/>
          <p:cNvGraphicFramePr/>
          <p:nvPr/>
        </p:nvGraphicFramePr>
        <p:xfrm>
          <a:off x="3924360" y="5589720"/>
          <a:ext cx="2448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5589720"/>
                    <a:ext cx="2448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ем угловой коэффициент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словия параллельности двух прямых находим угловой коэффициент искомой прямо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ходим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гловым коэффици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5724360" y="1601640"/>
          <a:ext cx="2160720" cy="5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601640"/>
                    <a:ext cx="216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"/>
          <p:cNvGraphicFramePr/>
          <p:nvPr/>
        </p:nvGraphicFramePr>
        <p:xfrm>
          <a:off x="1425600" y="1955880"/>
          <a:ext cx="32004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1955880"/>
                    <a:ext cx="3200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2" descr=""/>
          <p:cNvPicPr/>
          <p:nvPr/>
        </p:nvPicPr>
        <p:blipFill>
          <a:blip r:embed="rId5"/>
          <a:stretch/>
        </p:blipFill>
        <p:spPr>
          <a:xfrm>
            <a:off x="3924360" y="3357720"/>
            <a:ext cx="2160360" cy="50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13"/>
          <p:cNvGraphicFramePr/>
          <p:nvPr/>
        </p:nvGraphicFramePr>
        <p:xfrm>
          <a:off x="1403280" y="4508640"/>
          <a:ext cx="273708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508640"/>
                    <a:ext cx="2737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5"/>
          <p:cNvGraphicFramePr/>
          <p:nvPr/>
        </p:nvGraphicFramePr>
        <p:xfrm>
          <a:off x="4427640" y="4653000"/>
          <a:ext cx="5047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4653000"/>
                    <a:ext cx="50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6"/>
          <p:cNvGraphicFramePr/>
          <p:nvPr/>
        </p:nvGraphicFramePr>
        <p:xfrm>
          <a:off x="5219640" y="4508640"/>
          <a:ext cx="2879640" cy="58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508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8"/>
          <p:cNvGraphicFramePr/>
          <p:nvPr/>
        </p:nvGraphicFramePr>
        <p:xfrm>
          <a:off x="3203640" y="5300640"/>
          <a:ext cx="2879640" cy="582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5300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715000" y="1643040"/>
          <a:ext cx="2160720" cy="515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5000" y="164304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76920" y="1599840"/>
            <a:ext cx="41241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ектор  перпендикулярен направляющему вектору прямой       , то он называется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нормальным вектором  прям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86200" y="3941280"/>
            <a:ext cx="4214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ая задана  об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 нормальным век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5715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296" name="Прямая со стрелкой 7"/>
          <p:cNvCxnSpPr/>
          <p:nvPr/>
        </p:nvCxnSpPr>
        <p:spPr>
          <a:xfrm flipH="1" flipV="1">
            <a:off x="3214080" y="2214360"/>
            <a:ext cx="500760" cy="7149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297" name="Object 4"/>
          <p:cNvGraphicFramePr/>
          <p:nvPr/>
        </p:nvGraphicFramePr>
        <p:xfrm>
          <a:off x="3571920" y="1951200"/>
          <a:ext cx="32220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9512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9" name="Прямая со стрелкой 14"/>
          <p:cNvCxnSpPr/>
          <p:nvPr/>
        </p:nvCxnSpPr>
        <p:spPr>
          <a:xfrm flipV="1">
            <a:off x="3357360" y="3561840"/>
            <a:ext cx="633960" cy="5104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300" name="Object 3"/>
          <p:cNvGraphicFramePr/>
          <p:nvPr/>
        </p:nvGraphicFramePr>
        <p:xfrm>
          <a:off x="4071960" y="3214800"/>
          <a:ext cx="3222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1960" y="32148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7250040" y="1428840"/>
          <a:ext cx="32220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50040" y="142884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8643960" y="2143080"/>
          <a:ext cx="322200" cy="54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43960" y="214308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6429240" y="2571840"/>
          <a:ext cx="225720" cy="45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240" y="2571840"/>
                    <a:ext cx="225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071960" y="2286000"/>
          <a:ext cx="2253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71960" y="228600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8061480" y="3214800"/>
          <a:ext cx="22536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61480" y="3214800"/>
                    <a:ext cx="225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5648400" y="4653000"/>
          <a:ext cx="213840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48400" y="465300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6715080" y="5006880"/>
          <a:ext cx="1225440" cy="493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5080" y="5006880"/>
                    <a:ext cx="12254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1.Уравнение прямой с угловым коэффициентом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угловой коэффициент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2865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716360" y="4508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α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угол наклона прямой к оси Ох, г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3"/>
          <p:cNvGraphicFramePr/>
          <p:nvPr/>
        </p:nvGraphicFramePr>
        <p:xfrm>
          <a:off x="5940360" y="4149720"/>
          <a:ext cx="133848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149720"/>
                    <a:ext cx="1338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35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99072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4"/>
          <a:stretch/>
        </p:blipFill>
        <p:spPr>
          <a:xfrm>
            <a:off x="6012000" y="5013360"/>
            <a:ext cx="863640" cy="34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2"/>
          <p:cNvSpPr/>
          <p:nvPr/>
        </p:nvSpPr>
        <p:spPr>
          <a:xfrm>
            <a:off x="4788000" y="537372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b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ордината точки пересечения прямой с осью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2600" y="1599840"/>
            <a:ext cx="4714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    , которая про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меет  нормаль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14240" y="4071960"/>
            <a:ext cx="7972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ы,  их скалярное произведени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иском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2000160" y="2000160"/>
          <a:ext cx="225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0016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2643120" y="2428920"/>
          <a:ext cx="14716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428920"/>
                    <a:ext cx="14716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4"/>
          <p:cNvGraphicFramePr/>
          <p:nvPr/>
        </p:nvGraphicFramePr>
        <p:xfrm>
          <a:off x="857160" y="3357720"/>
          <a:ext cx="145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357720"/>
                    <a:ext cx="145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5" descr="C:\Users\MANYA\Desktop\фото.JPG"/>
          <p:cNvPicPr/>
          <p:nvPr/>
        </p:nvPicPr>
        <p:blipFill>
          <a:blip r:embed="rId7"/>
          <a:stretch/>
        </p:blipFill>
        <p:spPr>
          <a:xfrm>
            <a:off x="5286240" y="1500120"/>
            <a:ext cx="350064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7"/>
          <p:cNvGraphicFramePr/>
          <p:nvPr/>
        </p:nvGraphicFramePr>
        <p:xfrm>
          <a:off x="3714840" y="4000680"/>
          <a:ext cx="351612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4840" y="4000680"/>
                    <a:ext cx="35161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1928880" y="4857840"/>
          <a:ext cx="531324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8880" y="4857840"/>
                    <a:ext cx="5313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8684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ямой, зад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м урав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формул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C:\Users\MANYA\Desktop\фото.JPG"/>
          <p:cNvPicPr/>
          <p:nvPr/>
        </p:nvPicPr>
        <p:blipFill>
          <a:blip r:embed="rId1"/>
          <a:stretch/>
        </p:blipFill>
        <p:spPr>
          <a:xfrm>
            <a:off x="4786200" y="1500120"/>
            <a:ext cx="407196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4"/>
          <p:cNvGraphicFramePr/>
          <p:nvPr/>
        </p:nvGraphicFramePr>
        <p:xfrm>
          <a:off x="2428920" y="2143080"/>
          <a:ext cx="14716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143080"/>
                    <a:ext cx="14716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5"/>
          <p:cNvGraphicFramePr/>
          <p:nvPr/>
        </p:nvGraphicFramePr>
        <p:xfrm>
          <a:off x="1290600" y="3571920"/>
          <a:ext cx="2138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357192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"/>
          <p:cNvGraphicFramePr/>
          <p:nvPr/>
        </p:nvGraphicFramePr>
        <p:xfrm>
          <a:off x="2928960" y="4714920"/>
          <a:ext cx="255600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28960" y="471492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2960" y="1599840"/>
            <a:ext cx="8143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                       до 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ной  общим урав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1320" y="2714760"/>
            <a:ext cx="7972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5000760" y="1571760"/>
          <a:ext cx="114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571760"/>
                    <a:ext cx="114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5429160" y="2071800"/>
          <a:ext cx="198936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071800"/>
                    <a:ext cx="1989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3000240" y="2714760"/>
          <a:ext cx="25560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71476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1"/>
          <p:cNvGraphicFramePr/>
          <p:nvPr/>
        </p:nvGraphicFramePr>
        <p:xfrm>
          <a:off x="3071880" y="3786120"/>
          <a:ext cx="2816280" cy="9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1880" y="3786120"/>
                    <a:ext cx="28162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287880" y="1643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5880" y="20001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1. 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–  геометрическое место точек на плоскости,  равноудаленных от некоторой точки, называемой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712800" y="3244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17"/>
          <p:cNvGraphicFramePr/>
          <p:nvPr/>
        </p:nvGraphicFramePr>
        <p:xfrm>
          <a:off x="5143680" y="3214800"/>
          <a:ext cx="231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3214800"/>
                    <a:ext cx="231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Прямоугольник 10"/>
          <p:cNvSpPr/>
          <p:nvPr/>
        </p:nvSpPr>
        <p:spPr>
          <a:xfrm>
            <a:off x="714240" y="401148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очка О(0;0) –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r -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Ox, Oy -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изображен на рис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17"/>
          <p:cNvCxnSpPr/>
          <p:nvPr/>
        </p:nvCxnSpPr>
        <p:spPr>
          <a:xfrm flipH="1" flipV="1">
            <a:off x="7571520" y="3357000"/>
            <a:ext cx="72360" cy="28580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65" name="Прямая со стрелкой 25"/>
          <p:cNvCxnSpPr/>
          <p:nvPr/>
        </p:nvCxnSpPr>
        <p:spPr>
          <a:xfrm>
            <a:off x="6214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graphicFrame>
        <p:nvGraphicFramePr>
          <p:cNvPr id="366" name="Object 11"/>
          <p:cNvGraphicFramePr/>
          <p:nvPr/>
        </p:nvGraphicFramePr>
        <p:xfrm>
          <a:off x="7786800" y="3357720"/>
          <a:ext cx="298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86800" y="3357720"/>
                    <a:ext cx="298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643960" y="4929120"/>
          <a:ext cx="27288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43960" y="4929120"/>
                    <a:ext cx="2728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7358040" y="4500720"/>
          <a:ext cx="27144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500720"/>
                    <a:ext cx="271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2" name="Прямая со стрелкой 32"/>
          <p:cNvCxnSpPr/>
          <p:nvPr/>
        </p:nvCxnSpPr>
        <p:spPr>
          <a:xfrm flipV="1">
            <a:off x="7643520" y="4214880"/>
            <a:ext cx="786600" cy="643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triangle" w="med"/>
          </a:ln>
        </p:spPr>
      </p:cxnSp>
      <p:sp>
        <p:nvSpPr>
          <p:cNvPr id="373" name="Прямоугольник 35"/>
          <p:cNvSpPr/>
          <p:nvPr/>
        </p:nvSpPr>
        <p:spPr>
          <a:xfrm>
            <a:off x="7121160" y="6130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7"/>
          <p:cNvSpPr/>
          <p:nvPr/>
        </p:nvSpPr>
        <p:spPr>
          <a:xfrm>
            <a:off x="714600" y="28576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7"/>
          <p:cNvGraphicFramePr/>
          <p:nvPr/>
        </p:nvGraphicFramePr>
        <p:xfrm>
          <a:off x="2503440" y="2071800"/>
          <a:ext cx="40608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071800"/>
                    <a:ext cx="4060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17"/>
          <p:cNvCxnSpPr/>
          <p:nvPr/>
        </p:nvCxnSpPr>
        <p:spPr>
          <a:xfrm flipH="1" flipV="1">
            <a:off x="7571520" y="2356920"/>
            <a:ext cx="72360" cy="38584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84" name="Прямая со стрелкой 25"/>
          <p:cNvCxnSpPr/>
          <p:nvPr/>
        </p:nvCxnSpPr>
        <p:spPr>
          <a:xfrm>
            <a:off x="6295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graphicFrame>
        <p:nvGraphicFramePr>
          <p:cNvPr id="385" name="Object 3"/>
          <p:cNvGraphicFramePr/>
          <p:nvPr/>
        </p:nvGraphicFramePr>
        <p:xfrm>
          <a:off x="7072200" y="2857680"/>
          <a:ext cx="37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2857680"/>
                    <a:ext cx="37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8604360" y="4905360"/>
          <a:ext cx="3538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04360" y="4905360"/>
                    <a:ext cx="353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7358040" y="4714920"/>
          <a:ext cx="271440" cy="3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714920"/>
                    <a:ext cx="271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1" name="Прямая со стрелкой 32"/>
          <p:cNvCxnSpPr/>
          <p:nvPr/>
        </p:nvCxnSpPr>
        <p:spPr>
          <a:xfrm flipV="1">
            <a:off x="7642800" y="2999880"/>
            <a:ext cx="1143720" cy="1858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triangle" w="med"/>
          </a:ln>
        </p:spPr>
      </p:cxnSp>
      <p:sp>
        <p:nvSpPr>
          <p:cNvPr id="392" name="Прямоугольник 18"/>
          <p:cNvSpPr/>
          <p:nvPr/>
        </p:nvSpPr>
        <p:spPr>
          <a:xfrm>
            <a:off x="928800" y="1500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ь, задаваемая урав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00120" y="3444120"/>
            <a:ext cx="618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очка 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ямые    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окружности (2) изобра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.2  и  получается из окружност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ем (1) параллельным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ктор  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514440" y="3168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6"/>
          <p:cNvGraphicFramePr/>
          <p:nvPr/>
        </p:nvGraphicFramePr>
        <p:xfrm>
          <a:off x="1857240" y="3433680"/>
          <a:ext cx="12826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433680"/>
                    <a:ext cx="128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9"/>
          <p:cNvGraphicFramePr/>
          <p:nvPr/>
        </p:nvGraphicFramePr>
        <p:xfrm>
          <a:off x="2413080" y="4148280"/>
          <a:ext cx="1801800" cy="49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3080" y="4148280"/>
                    <a:ext cx="1801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0"/>
          <p:cNvGraphicFramePr/>
          <p:nvPr/>
        </p:nvGraphicFramePr>
        <p:xfrm>
          <a:off x="2357280" y="6000840"/>
          <a:ext cx="65412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57280" y="6000840"/>
                    <a:ext cx="654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Прямоугольник 34"/>
          <p:cNvSpPr/>
          <p:nvPr/>
        </p:nvSpPr>
        <p:spPr>
          <a:xfrm>
            <a:off x="6978240" y="6000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1"/>
          <p:cNvGraphicFramePr/>
          <p:nvPr/>
        </p:nvGraphicFramePr>
        <p:xfrm>
          <a:off x="8545680" y="2517840"/>
          <a:ext cx="32544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5680" y="2517840"/>
                    <a:ext cx="325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ая соединительная линия 40"/>
          <p:cNvSpPr/>
          <p:nvPr/>
        </p:nvSpPr>
        <p:spPr>
          <a:xfrm>
            <a:off x="7500960" y="3071880"/>
            <a:ext cx="121428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3"/>
          <p:cNvSpPr/>
          <p:nvPr/>
        </p:nvSpPr>
        <p:spPr>
          <a:xfrm>
            <a:off x="8714520" y="3143160"/>
            <a:ext cx="71640" cy="17146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22"/>
          <p:cNvGraphicFramePr/>
          <p:nvPr/>
        </p:nvGraphicFramePr>
        <p:xfrm>
          <a:off x="7143840" y="2286000"/>
          <a:ext cx="2984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43840" y="2286000"/>
                    <a:ext cx="298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еделение. 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для каждой из которых сумма расстояний до двух данных точек, называемых фокусами, есть величина постоя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координаты которых в некоторой прямоугольной системе координат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довлетворяе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             уравнение (1) является уравнением окружности радиуса          с центром в начале координат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6"/>
          <p:cNvSpPr/>
          <p:nvPr/>
        </p:nvSpPr>
        <p:spPr>
          <a:xfrm>
            <a:off x="142920" y="50004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522440" y="3959280"/>
                <a:ext cx="2978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Объект 4"/>
              <p:cNvSpPr txBox="1"/>
              <p:nvPr/>
            </p:nvSpPr>
            <p:spPr>
              <a:xfrm>
                <a:off x="1409760" y="5340240"/>
                <a:ext cx="641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Объект 7"/>
              <p:cNvSpPr txBox="1"/>
              <p:nvPr/>
            </p:nvSpPr>
            <p:spPr>
              <a:xfrm>
                <a:off x="1893960" y="5769000"/>
                <a:ext cx="230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5" name="Picture 2" descr="C:\Users\MANYA\Desktop\фото (3).JPG"/>
          <p:cNvPicPr/>
          <p:nvPr/>
        </p:nvPicPr>
        <p:blipFill>
          <a:blip r:embed="rId1"/>
          <a:stretch/>
        </p:blipFill>
        <p:spPr>
          <a:xfrm>
            <a:off x="5214960" y="350028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Центр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а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ершины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    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и симметрии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ы эллипса – точки,                             где                    если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         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142920" y="189072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8"/>
              <p:cNvSpPr txBox="1"/>
              <p:nvPr/>
            </p:nvSpPr>
            <p:spPr>
              <a:xfrm>
                <a:off x="4792680" y="2313000"/>
                <a:ext cx="34513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10"/>
              <p:cNvSpPr txBox="1"/>
              <p:nvPr/>
            </p:nvSpPr>
            <p:spPr>
              <a:xfrm>
                <a:off x="1407960" y="2708280"/>
                <a:ext cx="1795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ъект 12"/>
              <p:cNvSpPr txBox="1"/>
              <p:nvPr/>
            </p:nvSpPr>
            <p:spPr>
              <a:xfrm>
                <a:off x="1403280" y="3068640"/>
                <a:ext cx="370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ъект 14"/>
              <p:cNvSpPr txBox="1"/>
              <p:nvPr/>
            </p:nvSpPr>
            <p:spPr>
              <a:xfrm>
                <a:off x="4284720" y="3789360"/>
                <a:ext cx="146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ъект 16"/>
              <p:cNvSpPr txBox="1"/>
              <p:nvPr/>
            </p:nvSpPr>
            <p:spPr>
              <a:xfrm>
                <a:off x="6300720" y="3789360"/>
                <a:ext cx="1063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8"/>
              <p:cNvSpPr txBox="1"/>
              <p:nvPr/>
            </p:nvSpPr>
            <p:spPr>
              <a:xfrm>
                <a:off x="8101080" y="3789360"/>
                <a:ext cx="547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Объект 20"/>
              <p:cNvSpPr txBox="1"/>
              <p:nvPr/>
            </p:nvSpPr>
            <p:spPr>
              <a:xfrm>
                <a:off x="971640" y="4149720"/>
                <a:ext cx="1469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22"/>
              <p:cNvSpPr txBox="1"/>
              <p:nvPr/>
            </p:nvSpPr>
            <p:spPr>
              <a:xfrm>
                <a:off x="3059280" y="4149720"/>
                <a:ext cx="1064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23"/>
              <p:cNvSpPr txBox="1"/>
              <p:nvPr/>
            </p:nvSpPr>
            <p:spPr>
              <a:xfrm>
                <a:off x="4994280" y="4221000"/>
                <a:ext cx="568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Picture 84" descr=""/>
          <p:cNvPicPr/>
          <p:nvPr/>
        </p:nvPicPr>
        <p:blipFill>
          <a:blip r:embed="rId1"/>
          <a:stretch/>
        </p:blipFill>
        <p:spPr>
          <a:xfrm>
            <a:off x="2771640" y="4554360"/>
            <a:ext cx="358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93280" y="1628640"/>
            <a:ext cx="777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липс, задаваемый уравн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142920" y="196200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Объект 7"/>
              <p:cNvSpPr txBox="1"/>
              <p:nvPr/>
            </p:nvSpPr>
            <p:spPr>
              <a:xfrm>
                <a:off x="5219640" y="1700280"/>
                <a:ext cx="3067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605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Гипербо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геометрическое место точек на плоскости, для каждой из которых модуль разности расстояний до двух данных точек, называемых фокусами, есть величина постоя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)    или                          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2920" y="1962000"/>
            <a:ext cx="3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Объект 7"/>
              <p:cNvSpPr txBox="1"/>
              <p:nvPr/>
            </p:nvSpPr>
            <p:spPr>
              <a:xfrm>
                <a:off x="1763640" y="4548240"/>
                <a:ext cx="13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9"/>
              <p:cNvSpPr txBox="1"/>
              <p:nvPr/>
            </p:nvSpPr>
            <p:spPr>
              <a:xfrm>
                <a:off x="5003640" y="458136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6988320" cy="428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с заданным угловым коэффициен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ри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295280" cy="52380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20"/>
          <p:cNvCxnSpPr>
            <a:stCxn id="132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21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(х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;у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148360" y="3860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4033800" cy="93852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76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64278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9786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болы, задаваемые уравнениями: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3"/>
              <p:cNvSpPr txBox="1"/>
              <p:nvPr/>
            </p:nvSpPr>
            <p:spPr>
              <a:xfrm>
                <a:off x="1795320" y="1989000"/>
                <a:ext cx="2216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5"/>
              <p:cNvSpPr txBox="1"/>
              <p:nvPr/>
            </p:nvSpPr>
            <p:spPr>
              <a:xfrm>
                <a:off x="5219640" y="1989000"/>
                <a:ext cx="2090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Прямоугольник 17"/>
          <p:cNvSpPr/>
          <p:nvPr/>
        </p:nvSpPr>
        <p:spPr>
          <a:xfrm>
            <a:off x="757800" y="2781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ш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3" descr=""/>
          <p:cNvPicPr/>
          <p:nvPr/>
        </p:nvPicPr>
        <p:blipFill>
          <a:blip r:embed="rId2"/>
          <a:stretch/>
        </p:blipFill>
        <p:spPr>
          <a:xfrm>
            <a:off x="2131920" y="2565360"/>
            <a:ext cx="6112080" cy="827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10"/>
              <p:cNvSpPr txBox="1"/>
              <p:nvPr/>
            </p:nvSpPr>
            <p:spPr>
              <a:xfrm>
                <a:off x="1071720" y="3214800"/>
                <a:ext cx="960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12"/>
              <p:cNvSpPr txBox="1"/>
              <p:nvPr/>
            </p:nvSpPr>
            <p:spPr>
              <a:xfrm>
                <a:off x="3286080" y="3214800"/>
                <a:ext cx="863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Прямоугольник 19"/>
          <p:cNvSpPr/>
          <p:nvPr/>
        </p:nvSpPr>
        <p:spPr>
          <a:xfrm>
            <a:off x="571680" y="3629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  некоторое число,  называемое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метром 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ь абсцис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вляется осью симметрии параболы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Объект 20"/>
          <p:cNvGraphicFramePr/>
          <p:nvPr/>
        </p:nvGraphicFramePr>
        <p:xfrm>
          <a:off x="1282680" y="3684600"/>
          <a:ext cx="57456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3684600"/>
                    <a:ext cx="5745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Box 10"/>
          <p:cNvSpPr/>
          <p:nvPr/>
        </p:nvSpPr>
        <p:spPr>
          <a:xfrm>
            <a:off x="714240" y="1643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бо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геометрическое место точек на плоскости, равноудаленных от данной точки, называемой фокусом,  и данной прямой,  называемой директрис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3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7"/>
          <p:cNvSpPr/>
          <p:nvPr/>
        </p:nvSpPr>
        <p:spPr>
          <a:xfrm>
            <a:off x="1071720" y="277344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оническое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8"/>
          <p:cNvSpPr/>
          <p:nvPr/>
        </p:nvSpPr>
        <p:spPr>
          <a:xfrm>
            <a:off x="2431440" y="321480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143000" y="150120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4"/>
          <p:cNvSpPr/>
          <p:nvPr/>
        </p:nvSpPr>
        <p:spPr>
          <a:xfrm>
            <a:off x="928800" y="2000160"/>
            <a:ext cx="7929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: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ы параболы:             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риса:                   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ы, задаваемые урав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              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некоторое число, называем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метром параб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св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33"/>
          <p:cNvGraphicFramePr/>
          <p:nvPr/>
        </p:nvGraphicFramePr>
        <p:xfrm>
          <a:off x="3857760" y="2529000"/>
          <a:ext cx="8046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2529000"/>
                    <a:ext cx="804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7"/>
          <p:cNvGraphicFramePr/>
          <p:nvPr/>
        </p:nvGraphicFramePr>
        <p:xfrm>
          <a:off x="5429160" y="2500200"/>
          <a:ext cx="84132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500200"/>
                    <a:ext cx="841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39"/>
          <p:cNvGraphicFramePr/>
          <p:nvPr/>
        </p:nvGraphicFramePr>
        <p:xfrm>
          <a:off x="3438360" y="3143160"/>
          <a:ext cx="77652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8360" y="3143160"/>
                    <a:ext cx="77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41"/>
          <p:cNvGraphicFramePr/>
          <p:nvPr/>
        </p:nvGraphicFramePr>
        <p:xfrm>
          <a:off x="5295960" y="3137040"/>
          <a:ext cx="77616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3137040"/>
                    <a:ext cx="7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7"/>
          <p:cNvSpPr/>
          <p:nvPr/>
        </p:nvSpPr>
        <p:spPr>
          <a:xfrm>
            <a:off x="4449600" y="1342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0"/>
          <p:cNvGraphicFramePr/>
          <p:nvPr/>
        </p:nvGraphicFramePr>
        <p:xfrm>
          <a:off x="5715000" y="3786120"/>
          <a:ext cx="22208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786120"/>
                    <a:ext cx="2220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12"/>
          <p:cNvGraphicFramePr/>
          <p:nvPr/>
        </p:nvGraphicFramePr>
        <p:xfrm>
          <a:off x="1643040" y="4373640"/>
          <a:ext cx="24494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3040" y="4373640"/>
                    <a:ext cx="2449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5"/>
          <p:cNvGraphicFramePr/>
          <p:nvPr/>
        </p:nvGraphicFramePr>
        <p:xfrm>
          <a:off x="1571760" y="5072040"/>
          <a:ext cx="34740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072040"/>
                    <a:ext cx="347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3"/>
          <p:cNvGraphicFramePr/>
          <p:nvPr/>
        </p:nvGraphicFramePr>
        <p:xfrm>
          <a:off x="2963880" y="1662120"/>
          <a:ext cx="117936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1662120"/>
                    <a:ext cx="1179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642960" y="164304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усы параболы: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ри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 симметрии: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                     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8"/>
          <p:cNvGraphicFramePr/>
          <p:nvPr/>
        </p:nvGraphicFramePr>
        <p:xfrm>
          <a:off x="3500280" y="2071800"/>
          <a:ext cx="1362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2071800"/>
                    <a:ext cx="1362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0"/>
          <p:cNvGraphicFramePr/>
          <p:nvPr/>
        </p:nvGraphicFramePr>
        <p:xfrm>
          <a:off x="5756400" y="2071800"/>
          <a:ext cx="13158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2071800"/>
                    <a:ext cx="13158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12"/>
          <p:cNvGraphicFramePr/>
          <p:nvPr/>
        </p:nvGraphicFramePr>
        <p:xfrm>
          <a:off x="3571920" y="2714760"/>
          <a:ext cx="102384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2714760"/>
                    <a:ext cx="1023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4"/>
          <p:cNvGraphicFramePr/>
          <p:nvPr/>
        </p:nvGraphicFramePr>
        <p:xfrm>
          <a:off x="5857920" y="2786040"/>
          <a:ext cx="89532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278604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16"/>
          <p:cNvGraphicFramePr/>
          <p:nvPr/>
        </p:nvGraphicFramePr>
        <p:xfrm>
          <a:off x="3143160" y="3214800"/>
          <a:ext cx="94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14800"/>
                    <a:ext cx="94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8"/>
          <p:cNvGraphicFramePr/>
          <p:nvPr/>
        </p:nvGraphicFramePr>
        <p:xfrm>
          <a:off x="5111640" y="3211560"/>
          <a:ext cx="858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1640" y="3211560"/>
                    <a:ext cx="858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9"/>
          <p:cNvSpPr/>
          <p:nvPr/>
        </p:nvSpPr>
        <p:spPr>
          <a:xfrm>
            <a:off x="941760" y="1643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12"/>
          <p:cNvGraphicFramePr/>
          <p:nvPr/>
        </p:nvGraphicFramePr>
        <p:xfrm>
          <a:off x="4284720" y="1589040"/>
          <a:ext cx="40734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89040"/>
                    <a:ext cx="4073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Прямоугольник 25"/>
          <p:cNvSpPr/>
          <p:nvPr/>
        </p:nvSpPr>
        <p:spPr>
          <a:xfrm>
            <a:off x="857160" y="2219400"/>
            <a:ext cx="792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числа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е равны одновременно нулю, преобразуется к каноническому виду методом выделения полных квадратов и последующим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646560" y="3646800"/>
            <a:ext cx="567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кривой   определяется числами   А  и 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714240" y="4091760"/>
            <a:ext cx="657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, то              – окру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и                  то             – эллип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, то        – гиперб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дно из чисе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нулю, то –  пара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27"/>
          <p:cNvGraphicFramePr/>
          <p:nvPr/>
        </p:nvGraphicFramePr>
        <p:xfrm>
          <a:off x="2071800" y="4786200"/>
          <a:ext cx="868320" cy="2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4786200"/>
                    <a:ext cx="868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29"/>
          <p:cNvGraphicFramePr/>
          <p:nvPr/>
        </p:nvGraphicFramePr>
        <p:xfrm>
          <a:off x="2071800" y="4429080"/>
          <a:ext cx="61740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4429080"/>
                    <a:ext cx="617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0"/>
          <p:cNvGraphicFramePr/>
          <p:nvPr/>
        </p:nvGraphicFramePr>
        <p:xfrm>
          <a:off x="3357720" y="4429080"/>
          <a:ext cx="85068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429080"/>
                    <a:ext cx="8506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32"/>
          <p:cNvGraphicFramePr/>
          <p:nvPr/>
        </p:nvGraphicFramePr>
        <p:xfrm>
          <a:off x="2143080" y="4154400"/>
          <a:ext cx="617760" cy="27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9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4154400"/>
                    <a:ext cx="617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3"/>
          <p:cNvGraphicFramePr/>
          <p:nvPr/>
        </p:nvGraphicFramePr>
        <p:xfrm>
          <a:off x="3500280" y="4071960"/>
          <a:ext cx="38736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1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40719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35"/>
          <p:cNvGraphicFramePr/>
          <p:nvPr/>
        </p:nvGraphicFramePr>
        <p:xfrm>
          <a:off x="5000760" y="4429080"/>
          <a:ext cx="3873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3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442908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36"/>
          <p:cNvGraphicFramePr/>
          <p:nvPr/>
        </p:nvGraphicFramePr>
        <p:xfrm>
          <a:off x="3571920" y="4714920"/>
          <a:ext cx="38736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5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1920" y="471492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37"/>
          <p:cNvGraphicFramePr/>
          <p:nvPr/>
        </p:nvGraphicFramePr>
        <p:xfrm>
          <a:off x="6786720" y="5000760"/>
          <a:ext cx="387360" cy="365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7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50007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, но не имеющей углового коэффициента, пр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=Х</a:t>
            </a:r>
            <a:r>
              <a:rPr b="0" lang="ru-RU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136692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399564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292720" y="1989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6"/>
          <p:cNvCxnSpPr>
            <a:stCxn id="149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Text Box 17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64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003640" y="32846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508720" y="1699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>
            <a:off x="5076720" y="220500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236000" y="321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219640" y="1557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437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219640" y="206064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508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94836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5"/>
          <p:cNvCxnSpPr>
            <a:stCxn id="164" idx="0"/>
          </p:cNvCxnSpPr>
          <p:nvPr/>
        </p:nvCxnSpPr>
        <p:spPr>
          <a:xfrm>
            <a:off x="6948000" y="2276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Text Box 16"/>
          <p:cNvSpPr/>
          <p:nvPr/>
        </p:nvSpPr>
        <p:spPr>
          <a:xfrm>
            <a:off x="5940360" y="285264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9600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27813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550872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940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5867280" y="2924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"/>
          <p:cNvSpPr/>
          <p:nvPr/>
        </p:nvSpPr>
        <p:spPr>
          <a:xfrm>
            <a:off x="6877080" y="2276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6948360" y="2205000"/>
            <a:ext cx="88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73272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130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9217080" cy="617400"/>
          </a:xfrm>
          <a:prstGeom prst="rect">
            <a:avLst/>
          </a:prstGeom>
          <a:ln w="0">
            <a:noFill/>
          </a:ln>
        </p:spPr>
      </p:pic>
      <p:sp>
        <p:nvSpPr>
          <p:cNvPr id="178" name="Line 32"/>
          <p:cNvSpPr/>
          <p:nvPr/>
        </p:nvSpPr>
        <p:spPr>
          <a:xfrm>
            <a:off x="684360" y="3860640"/>
            <a:ext cx="806436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979164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Line 57"/>
          <p:cNvSpPr/>
          <p:nvPr/>
        </p:nvSpPr>
        <p:spPr>
          <a:xfrm flipV="1">
            <a:off x="6300720" y="4076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6012000" y="59500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630072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630072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"/>
          <p:cNvSpPr/>
          <p:nvPr/>
        </p:nvSpPr>
        <p:spPr>
          <a:xfrm>
            <a:off x="7740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5940360" y="4365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5940360" y="5157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7667640" y="4437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7667640" y="522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7740720" y="4365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7740720" y="5157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5940360" y="4005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0"/>
          <p:cNvSpPr/>
          <p:nvPr/>
        </p:nvSpPr>
        <p:spPr>
          <a:xfrm>
            <a:off x="8172360" y="587700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630252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6"/>
          <p:cNvSpPr/>
          <p:nvPr/>
        </p:nvSpPr>
        <p:spPr>
          <a:xfrm>
            <a:off x="7740720" y="59500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6300720" y="234936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867280" y="40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79600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667640" y="3933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88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673272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781200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867280" y="22766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229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7812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804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1000728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1"/>
          <p:cNvSpPr/>
          <p:nvPr/>
        </p:nvSpPr>
        <p:spPr>
          <a:xfrm>
            <a:off x="7740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6732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012000" y="3068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бщее уравнение прямой на плоскост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7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+By+C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гд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А,В,С –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у=у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, прямая параллельна оси 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Ох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 угловой коэффициент равен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х=х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прямая параллельна оси 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углового коэффициента не имеет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, то уравнение прямой принима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=kx+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A /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2700000" y="2708280"/>
            <a:ext cx="14292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942920" cy="51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195280" y="3716280"/>
            <a:ext cx="14436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19528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70000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гловой коэффициент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через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две точк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4032000" cy="188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089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стрый угол </a:t>
            </a:r>
            <a:r>
              <a:rPr b="1" i="1" lang="el-GR" sz="3200" spc="-1" strike="noStrike">
                <a:solidFill>
                  <a:srgbClr val="330033"/>
                </a:solidFill>
                <a:latin typeface="Times New Roman"/>
              </a:rPr>
              <a:t>φ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прямыми, 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ми  уравнениям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6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8:36:26Z</dcterms:created>
  <dc:creator>к.502</dc:creator>
  <dc:description/>
  <dc:language>en-US</dc:language>
  <cp:lastModifiedBy>MANYA</cp:lastModifiedBy>
  <dcterms:modified xsi:type="dcterms:W3CDTF">2014-09-18T19:46:27Z</dcterms:modified>
  <cp:revision>65</cp:revision>
  <dc:subject/>
  <dc:title>Уравнение прямой на плоскости</dc:title>
</cp:coreProperties>
</file>