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5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77.png" ContentType="image/png"/>
  <Override PartName="/ppt/media/image32.png" ContentType="image/png"/>
  <Override PartName="/ppt/media/image31.wmf" ContentType="image/x-wmf"/>
  <Override PartName="/ppt/media/image74.png" ContentType="image/png"/>
  <Override PartName="/ppt/media/image49.wmf" ContentType="image/x-wmf"/>
  <Override PartName="/ppt/media/image100.wmf" ContentType="image/x-wmf"/>
  <Override PartName="/ppt/media/image12.wmf" ContentType="image/x-wmf"/>
  <Override PartName="/ppt/media/image30.wmf" ContentType="image/x-wmf"/>
  <Override PartName="/ppt/media/image73.png" ContentType="image/png"/>
  <Override PartName="/ppt/media/image27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48.wmf" ContentType="image/x-wmf"/>
  <Override PartName="/ppt/media/image11.wmf" ContentType="image/x-wmf"/>
  <Override PartName="/ppt/media/image33.png" ContentType="image/png"/>
  <Override PartName="/ppt/media/image3.png" ContentType="image/png"/>
  <Override PartName="/ppt/media/image40.wmf" ContentType="image/x-wmf"/>
  <Override PartName="/ppt/media/image6.png" ContentType="image/png"/>
  <Override PartName="/ppt/media/image15.wmf" ContentType="image/x-wmf"/>
  <Override PartName="/ppt/media/image80.wmf" ContentType="image/x-wmf"/>
  <Override PartName="/ppt/media/image14.wmf" ContentType="image/x-wmf"/>
  <Override PartName="/ppt/media/image101.wmf" ContentType="image/x-wmf"/>
  <Override PartName="/ppt/media/image64.wmf" ContentType="image/x-wmf"/>
  <Override PartName="/ppt/media/image65.wmf" ContentType="image/x-wmf"/>
  <Override PartName="/ppt/media/image94.wmf" ContentType="image/x-wmf"/>
  <Override PartName="/ppt/media/image29.wmf" ContentType="image/x-wmf"/>
  <Override PartName="/ppt/media/image71.wmf" ContentType="image/x-wmf"/>
  <Override PartName="/ppt/media/image1.png" ContentType="image/png"/>
  <Override PartName="/ppt/media/image66.wmf" ContentType="image/x-wmf"/>
  <Override PartName="/ppt/media/image67.wmf" ContentType="image/x-wmf"/>
  <Override PartName="/ppt/media/image70.wmf" ContentType="image/x-wmf"/>
  <Override PartName="/ppt/media/image69.wmf" ContentType="image/x-wmf"/>
  <Override PartName="/ppt/media/image72.wmf" ContentType="image/x-wmf"/>
  <Override PartName="/ppt/media/image88.wmf" ContentType="image/x-wmf"/>
  <Override PartName="/ppt/media/image87.wmf" ContentType="image/x-wmf"/>
  <Override PartName="/ppt/media/image50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62.wmf" ContentType="image/x-wmf"/>
  <Override PartName="/ppt/media/image97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76.png" ContentType="image/png"/>
  <Override PartName="/ppt/media/image96.wmf" ContentType="image/x-wmf"/>
  <Override PartName="/ppt/media/image75.png" ContentType="image/png"/>
  <Override PartName="/ppt/media/image95.wmf" ContentType="image/x-wmf"/>
  <Override PartName="/ppt/media/image102.wmf" ContentType="image/x-wmf"/>
  <Override PartName="/ppt/media/image92.wmf" ContentType="image/x-wmf"/>
  <Override PartName="/ppt/media/image89.wmf" ContentType="image/x-wmf"/>
  <Override PartName="/ppt/media/image82.wmf" ContentType="image/x-wmf"/>
  <Override PartName="/ppt/media/image79.wmf" ContentType="image/x-wmf"/>
  <Override PartName="/ppt/media/image91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84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16.wmf" ContentType="image/x-wmf"/>
  <Override PartName="/ppt/media/image81.wmf" ContentType="image/x-wmf"/>
  <Override PartName="/ppt/media/image68.png" ContentType="image/png"/>
  <Override PartName="/ppt/media/image90.wmf" ContentType="image/x-wmf"/>
  <Override PartName="/ppt/media/image25.wmf" ContentType="image/x-wmf"/>
  <Override PartName="/ppt/media/image4.jpeg" ContentType="image/jpeg"/>
  <Override PartName="/ppt/media/image38.wmf" ContentType="image/x-wmf"/>
  <Override PartName="/ppt/media/image8.wmf" ContentType="image/x-wmf"/>
  <Override PartName="/ppt/media/image85.wmf" ContentType="image/x-wmf"/>
  <Override PartName="/ppt/media/image28.wmf" ContentType="image/x-wmf"/>
  <Override PartName="/ppt/media/image93.wmf" ContentType="image/x-wmf"/>
  <Override PartName="/ppt/media/image10.png" ContentType="image/png"/>
  <Override PartName="/ppt/media/image7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7234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98640" y="685440"/>
            <a:ext cx="48607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6103-9BAD-4007-88FC-845D36D8D4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F932-E5D2-4CDB-92E7-01F66C9E23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6AFA-4E72-4B29-8AEB-1C82C3420F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D3E-FA13-4F92-88A9-48175AFF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F6EE-46A1-4F31-BCCF-DEA0C32E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0109-FAA4-4577-93A1-6239C554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A802-CFAF-4299-BEDA-4081E4CE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F3FF-CD08-4554-96D5-2852DC31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3604-A4C3-485B-BD61-599C5EAF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AB75-D786-4257-BD0E-D668BEDE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5EB3-CDBB-4326-9270-594F3D7E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05BC-18CB-4691-8591-C73A95C4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9E94-AF5F-4667-9B1C-7BAFA36D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85D8-3FBC-4BFF-91C8-DF5453DB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8FB2-16E5-442E-B087-837F7613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994A-AA53-4D0E-9043-09424DD7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A9A6-9FA7-4E71-87A9-B638C2AD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B28C-4D65-4C29-9185-857F9054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536F-358F-4A2D-A708-DE327A67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12E9-57D7-48D7-87CD-C3BC9155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98754-D9BC-4BAC-AE5D-AA6AF1C4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0C2F6-04D9-474A-B7D6-76A922A1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B38D0-7A1E-495E-9355-4FCA9CB2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86FB0-35D4-4322-BEFA-1282D090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0B903-B8AA-4BFE-92A8-BEE825C5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8C6-A2D1-4D2C-8D64-2D2E0052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FA436-A7BD-439C-88A3-2599E690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52DCA-C026-4EB0-8328-121A0CD0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D093D-D414-4C80-8BA7-643F11C6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B88CE-AF16-439A-A7E3-2509A23B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0C5BE-0173-45DA-AE75-A4A72AD0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25856-D1E5-4656-BB5D-148EE579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817EC-3EBC-41F8-977E-920AB138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34242-F294-4DEE-B302-74B23426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E2ED2-4E12-4E25-B834-A05D7649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CF8E5-92B0-46E1-ABC8-BD8A4B2A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872-D5E5-4EF6-B1C5-6922EB77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DD581-546A-42B6-B478-F37C01AA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52DC9-5AF4-487F-B33C-B1D12B33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83EAB-48A3-4FAB-B48E-627C2719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34CF4-C1F2-40C4-BEC2-6E65475B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A1EC0-BD4B-4576-A821-E395C81A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DE39D-3197-4A73-96E1-65DC0026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3C326-D781-42D6-B272-8020C7F7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AF65F-97EE-41C5-B043-863695B7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B5279-1A75-46E4-92CD-4653466B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D4FA2-19DD-4E79-AB1A-4177FBBF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55A-1E80-4372-A707-91416224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F5DC8-7FD7-426C-A0D8-DF54ACF8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7C98A-D7E2-4B80-BF90-8A21D970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F4527-6ED1-49D4-A452-EA6411EF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3BCE5-1A7D-473A-A762-6572B014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1A073-B939-4AA7-BDB9-9509AD59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46A16-004B-4D00-B91E-FECC9BDA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0FD89-A0DF-4B28-8363-2F8CEB37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4EF86-A2DA-4829-8506-7DFDD4BC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EE963-718F-449D-9E15-66430C29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3F99A-BCE5-4710-A8A3-C082C8E5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9D7-EAB9-4327-85D1-0D9A0C58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2571E-663E-4490-8478-657BF7BD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785-04DF-4709-9DFF-06A7879B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553-044C-45F0-8250-B48C412B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14E-6B9A-4537-A1E4-58ECE258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1476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85640" y="65577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4668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4B8D-4A43-4606-B3FA-56B36C33D76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828880" y="-6480"/>
            <a:ext cx="6900840" cy="6870960"/>
            <a:chOff x="2828880" y="-6480"/>
            <a:chExt cx="690084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828880" y="-6480"/>
              <a:ext cx="69008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835360" y="0"/>
              <a:ext cx="68864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83536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241680" y="6558120"/>
            <a:ext cx="21286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997000" y="6557760"/>
            <a:ext cx="311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7864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7313-72CD-46A0-BC2F-50582C090CE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022720" y="6555960"/>
            <a:ext cx="21290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844280" y="6555960"/>
            <a:ext cx="3078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159320" y="655452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07BE-766A-475A-B026-3BAD8E93F7E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635040" y="1004400"/>
            <a:ext cx="459252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634680" y="998280"/>
            <a:ext cx="459252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1476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85640" y="65577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64668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EB6D-F38E-4A65-9096-83C60A2AA8D9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1152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85640" y="65559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49920" y="6552720"/>
            <a:ext cx="625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23B9-462F-4664-914C-AA9A1E7D83C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4.wmf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8.wmf"/><Relationship Id="rId2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5.wm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image" Target="../media/image6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2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7.wmf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3.wm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image" Target="../media/image99.wmf"/><Relationship Id="rId4" Type="http://schemas.openxmlformats.org/officeDocument/2006/relationships/image" Target="../media/image100.wmf"/><Relationship Id="rId5" Type="http://schemas.openxmlformats.org/officeDocument/2006/relationships/image" Target="../media/image101.wmf"/><Relationship Id="rId6" Type="http://schemas.openxmlformats.org/officeDocument/2006/relationships/image" Target="../media/image10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908440" y="500040"/>
            <a:ext cx="6815160" cy="2908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566880" y="4776840"/>
            <a:ext cx="5437080" cy="11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Лекция 1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6720" y="1557000"/>
            <a:ext cx="883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Чтобы вычислить новый интеграл, сделаем замену .                     В этом случа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2238480" y="1125360"/>
                <a:ext cx="478296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TextBox 7"/>
          <p:cNvSpPr/>
          <p:nvPr/>
        </p:nvSpPr>
        <p:spPr>
          <a:xfrm>
            <a:off x="848520" y="61372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ВЕТ: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"/>
              <p:cNvSpPr txBox="1"/>
              <p:nvPr/>
            </p:nvSpPr>
            <p:spPr>
              <a:xfrm>
                <a:off x="3492360" y="2781360"/>
                <a:ext cx="11448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18" name="Object 5"/>
          <p:cNvGraphicFramePr/>
          <p:nvPr/>
        </p:nvGraphicFramePr>
        <p:xfrm>
          <a:off x="922320" y="3114720"/>
          <a:ext cx="7074000" cy="18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2320" y="3114720"/>
                    <a:ext cx="7074000" cy="18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TextBox 9"/>
          <p:cNvSpPr/>
          <p:nvPr/>
        </p:nvSpPr>
        <p:spPr>
          <a:xfrm>
            <a:off x="495720" y="4911840"/>
            <a:ext cx="61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сюда находим искомый интегр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6"/>
              <p:cNvSpPr txBox="1"/>
              <p:nvPr/>
            </p:nvSpPr>
            <p:spPr>
              <a:xfrm>
                <a:off x="2786040" y="5284800"/>
                <a:ext cx="47563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7"/>
              <p:cNvSpPr txBox="1"/>
              <p:nvPr/>
            </p:nvSpPr>
            <p:spPr>
              <a:xfrm>
                <a:off x="2484360" y="5969160"/>
                <a:ext cx="2989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774720" y="109440"/>
            <a:ext cx="6973920" cy="5065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71440" y="765000"/>
            <a:ext cx="8353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rebuchet MS"/>
              </a:rPr>
              <a:t>Пример 4.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rebuchet MS"/>
              </a:rPr>
              <a:t>Решение.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Пуст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Для нахождения интеграла                   обозначим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5" name="Объект 5"/>
          <p:cNvGraphicFramePr/>
          <p:nvPr/>
        </p:nvGraphicFramePr>
        <p:xfrm>
          <a:off x="4502160" y="692280"/>
          <a:ext cx="138888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Объект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2160" y="692280"/>
                    <a:ext cx="13888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Объект 6"/>
          <p:cNvGraphicFramePr/>
          <p:nvPr/>
        </p:nvGraphicFramePr>
        <p:xfrm>
          <a:off x="252360" y="1700280"/>
          <a:ext cx="2978280" cy="151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Объект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2360" y="1700280"/>
                    <a:ext cx="297828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Объект 7"/>
          <p:cNvGraphicFramePr/>
          <p:nvPr/>
        </p:nvGraphicFramePr>
        <p:xfrm>
          <a:off x="4479840" y="1773360"/>
          <a:ext cx="4003920" cy="118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0" name="Объект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79840" y="1773360"/>
                    <a:ext cx="4003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Объект 8"/>
          <p:cNvGraphicFramePr/>
          <p:nvPr/>
        </p:nvGraphicFramePr>
        <p:xfrm>
          <a:off x="228600" y="3789360"/>
          <a:ext cx="2544840" cy="1619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2" name="Объект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" y="3789360"/>
                    <a:ext cx="254484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Объект 9"/>
          <p:cNvGraphicFramePr/>
          <p:nvPr/>
        </p:nvGraphicFramePr>
        <p:xfrm>
          <a:off x="4508640" y="3068640"/>
          <a:ext cx="1238040" cy="878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4" name="Объект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08640" y="3068640"/>
                    <a:ext cx="123804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Объект 11"/>
          <p:cNvGraphicFramePr/>
          <p:nvPr/>
        </p:nvGraphicFramePr>
        <p:xfrm>
          <a:off x="4448160" y="4076640"/>
          <a:ext cx="4014720" cy="973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36" name="Объект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448160" y="4076640"/>
                    <a:ext cx="40147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Стрелка вправо 12"/>
          <p:cNvSpPr/>
          <p:nvPr/>
        </p:nvSpPr>
        <p:spPr>
          <a:xfrm rot="20245200">
            <a:off x="3330360" y="2506680"/>
            <a:ext cx="1223640" cy="15228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трелка вправо 13"/>
          <p:cNvSpPr/>
          <p:nvPr/>
        </p:nvSpPr>
        <p:spPr>
          <a:xfrm rot="1041600">
            <a:off x="2835360" y="4309920"/>
            <a:ext cx="1584360" cy="17964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4"/>
          <p:cNvSpPr/>
          <p:nvPr/>
        </p:nvSpPr>
        <p:spPr>
          <a:xfrm>
            <a:off x="2602080" y="5013360"/>
            <a:ext cx="60325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Для  нахождения исходного интегр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получи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Объект 15"/>
          <p:cNvGraphicFramePr/>
          <p:nvPr/>
        </p:nvGraphicFramePr>
        <p:xfrm>
          <a:off x="2846520" y="5859360"/>
          <a:ext cx="4998960" cy="900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1" name="Объект 1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846520" y="5859360"/>
                    <a:ext cx="499896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Объект 5"/>
          <p:cNvGraphicFramePr/>
          <p:nvPr/>
        </p:nvGraphicFramePr>
        <p:xfrm>
          <a:off x="1692360" y="549360"/>
          <a:ext cx="559908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549360"/>
                    <a:ext cx="5599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Объект 6"/>
          <p:cNvGraphicFramePr/>
          <p:nvPr/>
        </p:nvGraphicFramePr>
        <p:xfrm>
          <a:off x="1758960" y="1844640"/>
          <a:ext cx="553572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8960" y="1844640"/>
                    <a:ext cx="55357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85640" y="3614400"/>
            <a:ext cx="12780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7" name="Объект 8"/>
          <p:cNvGraphicFramePr/>
          <p:nvPr/>
        </p:nvGraphicFramePr>
        <p:xfrm>
          <a:off x="2421000" y="3357720"/>
          <a:ext cx="424980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21000" y="3357720"/>
                    <a:ext cx="42498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80960" y="268200"/>
            <a:ext cx="7480440" cy="865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85280" y="1600200"/>
            <a:ext cx="747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rebuchet MS"/>
              </a:rPr>
              <a:t>Пример 4.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Используем формулу интегрирования по частям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Пусть</a:t>
            </a:r>
            <a:r>
              <a:rPr b="0" lang="ru-RU" sz="22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Тогда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   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Следовательно,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4"/>
              <p:cNvSpPr txBox="1"/>
              <p:nvPr/>
            </p:nvSpPr>
            <p:spPr>
              <a:xfrm>
                <a:off x="2417760" y="3068640"/>
                <a:ext cx="3951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2" name="Object 13"/>
          <p:cNvGraphicFramePr/>
          <p:nvPr/>
        </p:nvGraphicFramePr>
        <p:xfrm>
          <a:off x="2106720" y="3836880"/>
          <a:ext cx="2898720" cy="5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3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06720" y="3836880"/>
                    <a:ext cx="289872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4" name="Object 4"/>
              <p:cNvSpPr txBox="1"/>
              <p:nvPr/>
            </p:nvSpPr>
            <p:spPr>
              <a:xfrm>
                <a:off x="1774800" y="4592520"/>
                <a:ext cx="397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355" name="Объект 3"/>
          <p:cNvGraphicFramePr/>
          <p:nvPr/>
        </p:nvGraphicFramePr>
        <p:xfrm>
          <a:off x="5398920" y="1484280"/>
          <a:ext cx="1940040" cy="79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6" name="Объект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8920" y="1484280"/>
                    <a:ext cx="1940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6360" y="1268280"/>
            <a:ext cx="8839440" cy="36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Для нахождения                          применим формулу интегрирования по частям еще раз, пусть теперь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8" name="Object 3"/>
          <p:cNvGraphicFramePr/>
          <p:nvPr/>
        </p:nvGraphicFramePr>
        <p:xfrm>
          <a:off x="465120" y="2879640"/>
          <a:ext cx="4211640" cy="11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879640"/>
                    <a:ext cx="421164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TextBox 9"/>
          <p:cNvSpPr/>
          <p:nvPr/>
        </p:nvSpPr>
        <p:spPr>
          <a:xfrm>
            <a:off x="181080" y="4076640"/>
            <a:ext cx="779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Для первоначального интеграла получаем следующее   уравнение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1260360" y="404640"/>
                <a:ext cx="53294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396720" y="5099040"/>
                <a:ext cx="483552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Объект 1"/>
              <p:cNvSpPr txBox="1"/>
              <p:nvPr/>
            </p:nvSpPr>
            <p:spPr>
              <a:xfrm>
                <a:off x="3348000" y="1557360"/>
                <a:ext cx="1785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612360" y="2420640"/>
            <a:ext cx="73278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6"/>
              <p:cNvSpPr txBox="1"/>
              <p:nvPr/>
            </p:nvSpPr>
            <p:spPr>
              <a:xfrm>
                <a:off x="1893960" y="1700280"/>
                <a:ext cx="4289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1832040" y="2835360"/>
                <a:ext cx="47322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Box 12"/>
          <p:cNvSpPr/>
          <p:nvPr/>
        </p:nvSpPr>
        <p:spPr>
          <a:xfrm>
            <a:off x="1424520" y="41911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4"/>
          <p:cNvGraphicFramePr/>
          <p:nvPr/>
        </p:nvGraphicFramePr>
        <p:xfrm>
          <a:off x="2989440" y="3843360"/>
          <a:ext cx="301608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9440" y="3843360"/>
                    <a:ext cx="30160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0" name="Заголовок 3" descr=""/>
          <p:cNvPicPr/>
          <p:nvPr/>
        </p:nvPicPr>
        <p:blipFill>
          <a:blip r:embed="rId3"/>
          <a:stretch/>
        </p:blipFill>
        <p:spPr>
          <a:xfrm>
            <a:off x="341280" y="225360"/>
            <a:ext cx="889956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30240" y="311040"/>
            <a:ext cx="8759880" cy="96372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52000" y="1484280"/>
            <a:ext cx="82803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сновной прием нахождения таких интегралов состоит в сведения их к интегралам от рациональных функций (так называемая рационализация интеграла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ссмотрим интегралы вида                  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акие интегралы  рационализируются заменой переменной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73" name="Объект 5"/>
          <p:cNvGraphicFramePr/>
          <p:nvPr/>
        </p:nvGraphicFramePr>
        <p:xfrm>
          <a:off x="3348000" y="3860640"/>
          <a:ext cx="1668600" cy="6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4" name="Объект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3860640"/>
                    <a:ext cx="16686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Объект 6"/>
          <p:cNvGraphicFramePr/>
          <p:nvPr/>
        </p:nvGraphicFramePr>
        <p:xfrm>
          <a:off x="7164360" y="4508640"/>
          <a:ext cx="89532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6" name="Объект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4360" y="4508640"/>
                    <a:ext cx="8953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85280" y="188640"/>
            <a:ext cx="8047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ример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8000" y="1483920"/>
            <a:ext cx="8064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ынтегральная функция искомого интеграл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на как функция от радикала степеней 2 и 3. Наименьшее общее кратное чисел  2 и 3 равно 6. Данный интеграл является интегралом тип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им                    Тогда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79" name="Объект 5"/>
          <p:cNvGraphicFramePr/>
          <p:nvPr/>
        </p:nvGraphicFramePr>
        <p:xfrm>
          <a:off x="3492360" y="189000"/>
          <a:ext cx="141948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89000"/>
                    <a:ext cx="14194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Объект 7"/>
          <p:cNvGraphicFramePr/>
          <p:nvPr/>
        </p:nvGraphicFramePr>
        <p:xfrm>
          <a:off x="3565440" y="3933720"/>
          <a:ext cx="1668600" cy="6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2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5440" y="3933720"/>
                    <a:ext cx="16686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Объект 8"/>
          <p:cNvGraphicFramePr/>
          <p:nvPr/>
        </p:nvGraphicFramePr>
        <p:xfrm>
          <a:off x="2268360" y="4653000"/>
          <a:ext cx="92088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4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4653000"/>
                    <a:ext cx="9208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Объект 9"/>
          <p:cNvGraphicFramePr/>
          <p:nvPr/>
        </p:nvGraphicFramePr>
        <p:xfrm>
          <a:off x="396720" y="5229360"/>
          <a:ext cx="4827600" cy="52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6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720" y="5229360"/>
                    <a:ext cx="482760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81080" y="333000"/>
            <a:ext cx="84247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88" name="Объект 6"/>
          <p:cNvGraphicFramePr/>
          <p:nvPr/>
        </p:nvGraphicFramePr>
        <p:xfrm>
          <a:off x="1165320" y="333360"/>
          <a:ext cx="41734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333360"/>
                    <a:ext cx="41734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Объект 8"/>
          <p:cNvGraphicFramePr/>
          <p:nvPr/>
        </p:nvGraphicFramePr>
        <p:xfrm>
          <a:off x="282600" y="1579680"/>
          <a:ext cx="5616720" cy="101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2600" y="1579680"/>
                    <a:ext cx="561672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Объект 9"/>
          <p:cNvGraphicFramePr/>
          <p:nvPr/>
        </p:nvGraphicFramePr>
        <p:xfrm>
          <a:off x="252360" y="3284640"/>
          <a:ext cx="3764160" cy="203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Объект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2360" y="3284640"/>
                    <a:ext cx="376416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Стрелка вниз 10"/>
          <p:cNvSpPr/>
          <p:nvPr/>
        </p:nvSpPr>
        <p:spPr>
          <a:xfrm rot="3063000">
            <a:off x="3180600" y="2413800"/>
            <a:ext cx="142560" cy="1116000"/>
          </a:xfrm>
          <a:prstGeom prst="downArrow">
            <a:avLst>
              <a:gd name="adj1" fmla="val 50000"/>
              <a:gd name="adj2" fmla="val 50123"/>
            </a:avLst>
          </a:prstGeom>
          <a:solidFill>
            <a:srgbClr val="cf96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трелка вниз 14"/>
          <p:cNvSpPr/>
          <p:nvPr/>
        </p:nvSpPr>
        <p:spPr>
          <a:xfrm rot="19248600">
            <a:off x="5232240" y="2606400"/>
            <a:ext cx="144720" cy="1224000"/>
          </a:xfrm>
          <a:prstGeom prst="downArrow">
            <a:avLst>
              <a:gd name="adj1" fmla="val 50000"/>
              <a:gd name="adj2" fmla="val 49924"/>
            </a:avLst>
          </a:prstGeom>
          <a:solidFill>
            <a:srgbClr val="cf96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17"/>
          <p:cNvSpPr/>
          <p:nvPr/>
        </p:nvSpPr>
        <p:spPr>
          <a:xfrm>
            <a:off x="4405320" y="3738600"/>
            <a:ext cx="4032360" cy="1403280"/>
          </a:xfrm>
          <a:prstGeom prst="ellipse">
            <a:avLst/>
          </a:prstGeom>
          <a:solidFill>
            <a:srgbClr val="fef0d7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Объект 18"/>
          <p:cNvGraphicFramePr/>
          <p:nvPr/>
        </p:nvGraphicFramePr>
        <p:xfrm>
          <a:off x="4533840" y="4022640"/>
          <a:ext cx="377676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Объект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3840" y="4022640"/>
                    <a:ext cx="37767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Стрелка вниз 19"/>
          <p:cNvSpPr/>
          <p:nvPr/>
        </p:nvSpPr>
        <p:spPr>
          <a:xfrm flipH="1" rot="14172000">
            <a:off x="6225120" y="1553760"/>
            <a:ext cx="144360" cy="93492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cf96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Овал 21"/>
          <p:cNvSpPr/>
          <p:nvPr/>
        </p:nvSpPr>
        <p:spPr>
          <a:xfrm>
            <a:off x="6568920" y="1041480"/>
            <a:ext cx="2087640" cy="914400"/>
          </a:xfrm>
          <a:prstGeom prst="ellipse">
            <a:avLst/>
          </a:prstGeom>
          <a:solidFill>
            <a:srgbClr val="fef0d7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Объект 22"/>
          <p:cNvGraphicFramePr/>
          <p:nvPr/>
        </p:nvGraphicFramePr>
        <p:xfrm>
          <a:off x="6902280" y="1101600"/>
          <a:ext cx="1420920" cy="79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Объект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02280" y="1101600"/>
                    <a:ext cx="14209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81080" y="189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04" name="Объект 6"/>
          <p:cNvGraphicFramePr/>
          <p:nvPr/>
        </p:nvGraphicFramePr>
        <p:xfrm>
          <a:off x="1547640" y="333360"/>
          <a:ext cx="453420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33360"/>
                    <a:ext cx="45342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Объект 7"/>
          <p:cNvGraphicFramePr/>
          <p:nvPr/>
        </p:nvGraphicFramePr>
        <p:xfrm>
          <a:off x="1765440" y="1484280"/>
          <a:ext cx="375732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5440" y="1484280"/>
                    <a:ext cx="37573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Объект 8"/>
          <p:cNvGraphicFramePr/>
          <p:nvPr/>
        </p:nvGraphicFramePr>
        <p:xfrm>
          <a:off x="611280" y="2708280"/>
          <a:ext cx="628632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708280"/>
                    <a:ext cx="62863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TextBox 9"/>
          <p:cNvSpPr/>
          <p:nvPr/>
        </p:nvSpPr>
        <p:spPr>
          <a:xfrm>
            <a:off x="548280" y="407664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подстан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Объект 10"/>
          <p:cNvGraphicFramePr/>
          <p:nvPr/>
        </p:nvGraphicFramePr>
        <p:xfrm>
          <a:off x="684360" y="4646520"/>
          <a:ext cx="6067440" cy="93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4646520"/>
                    <a:ext cx="60674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TextBox 11"/>
          <p:cNvSpPr/>
          <p:nvPr/>
        </p:nvSpPr>
        <p:spPr>
          <a:xfrm>
            <a:off x="762480" y="595008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Объект 12"/>
          <p:cNvGraphicFramePr/>
          <p:nvPr/>
        </p:nvGraphicFramePr>
        <p:xfrm>
          <a:off x="2836800" y="5808600"/>
          <a:ext cx="451476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5" name="Объект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36800" y="5808600"/>
                    <a:ext cx="45147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79200" y="469800"/>
            <a:ext cx="8931600" cy="951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0" y="1557360"/>
            <a:ext cx="853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4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rebuchet MS"/>
              </a:rPr>
              <a:t>Теорема.  </a:t>
            </a:r>
            <a:r>
              <a:rPr b="0" i="1" lang="ru-RU" sz="2400" spc="-1" strike="noStrike">
                <a:solidFill>
                  <a:srgbClr val="a50021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Пусть функции                и                   дифференцируемы на некотором промежутке               и пусть на                     функция                          имеет первообразную. Тогда на интервале                                           также   имеет   первообразную,   т.е. существует                                                                                      ,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при этом имеет место следующее равенство: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Trebuchet MS"/>
              </a:rPr>
              <a:t>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4284720" y="1628640"/>
                <a:ext cx="9428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6"/>
              <p:cNvSpPr txBox="1"/>
              <p:nvPr/>
            </p:nvSpPr>
            <p:spPr>
              <a:xfrm>
                <a:off x="5869080" y="3141720"/>
                <a:ext cx="698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8"/>
              <p:cNvSpPr txBox="1"/>
              <p:nvPr/>
            </p:nvSpPr>
            <p:spPr>
              <a:xfrm>
                <a:off x="7524720" y="2276640"/>
                <a:ext cx="7938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5940360" y="2708280"/>
                <a:ext cx="1166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1"/>
              <p:cNvSpPr txBox="1"/>
              <p:nvPr/>
            </p:nvSpPr>
            <p:spPr>
              <a:xfrm>
                <a:off x="2340000" y="2708280"/>
                <a:ext cx="8780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2"/>
              <p:cNvSpPr txBox="1"/>
              <p:nvPr/>
            </p:nvSpPr>
            <p:spPr>
              <a:xfrm>
                <a:off x="6805440" y="3141720"/>
                <a:ext cx="13971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3"/>
              <p:cNvSpPr txBox="1"/>
              <p:nvPr/>
            </p:nvSpPr>
            <p:spPr>
              <a:xfrm>
                <a:off x="2557440" y="4149720"/>
                <a:ext cx="180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4"/>
              <p:cNvSpPr txBox="1"/>
              <p:nvPr/>
            </p:nvSpPr>
            <p:spPr>
              <a:xfrm>
                <a:off x="1405080" y="5373720"/>
                <a:ext cx="6192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6"/>
              <p:cNvSpPr txBox="1"/>
              <p:nvPr/>
            </p:nvSpPr>
            <p:spPr>
              <a:xfrm>
                <a:off x="6156360" y="1557360"/>
                <a:ext cx="8776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81080" y="189000"/>
          <a:ext cx="8424720" cy="4032000"/>
        </p:xfrm>
        <a:graphic>
          <a:graphicData uri="http://schemas.openxmlformats.org/drawingml/2006/table">
            <a:tbl>
              <a:tblPr/>
              <a:tblGrid>
                <a:gridCol w="4211640"/>
                <a:gridCol w="4213080"/>
              </a:tblGrid>
              <a:tr h="171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Интеграл содержит вы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Тригонометрическая за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77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7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7" name="Объект 6"/>
          <p:cNvGraphicFramePr/>
          <p:nvPr/>
        </p:nvGraphicFramePr>
        <p:xfrm>
          <a:off x="1620720" y="1989000"/>
          <a:ext cx="140364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989000"/>
                    <a:ext cx="1403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Объект 7"/>
          <p:cNvGraphicFramePr/>
          <p:nvPr/>
        </p:nvGraphicFramePr>
        <p:xfrm>
          <a:off x="1620720" y="2781360"/>
          <a:ext cx="140364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0720" y="2781360"/>
                    <a:ext cx="1403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Объект 8"/>
          <p:cNvGraphicFramePr/>
          <p:nvPr/>
        </p:nvGraphicFramePr>
        <p:xfrm>
          <a:off x="1620720" y="3500280"/>
          <a:ext cx="1433520" cy="67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20720" y="3500280"/>
                    <a:ext cx="143352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Объект 9"/>
          <p:cNvGraphicFramePr/>
          <p:nvPr/>
        </p:nvGraphicFramePr>
        <p:xfrm>
          <a:off x="5076720" y="1989000"/>
          <a:ext cx="191160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6720" y="1989000"/>
                    <a:ext cx="19116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Объект 10"/>
          <p:cNvGraphicFramePr/>
          <p:nvPr/>
        </p:nvGraphicFramePr>
        <p:xfrm>
          <a:off x="5221440" y="2852640"/>
          <a:ext cx="16938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Объект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21440" y="2852640"/>
                    <a:ext cx="16938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Объект 11"/>
          <p:cNvGraphicFramePr/>
          <p:nvPr/>
        </p:nvGraphicFramePr>
        <p:xfrm>
          <a:off x="5148360" y="3573360"/>
          <a:ext cx="2163600" cy="57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8" name="Объект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48360" y="3573360"/>
                    <a:ext cx="21636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TextBox 12"/>
          <p:cNvSpPr/>
          <p:nvPr/>
        </p:nvSpPr>
        <p:spPr>
          <a:xfrm>
            <a:off x="482760" y="443700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ример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Объект 13"/>
          <p:cNvGraphicFramePr/>
          <p:nvPr/>
        </p:nvGraphicFramePr>
        <p:xfrm>
          <a:off x="2889360" y="4149720"/>
          <a:ext cx="2030400" cy="104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1" name="Объект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89360" y="4149720"/>
                    <a:ext cx="20304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TextBox 14"/>
          <p:cNvSpPr/>
          <p:nvPr/>
        </p:nvSpPr>
        <p:spPr>
          <a:xfrm>
            <a:off x="620640" y="515772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ешение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ем заме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Объект 15"/>
          <p:cNvGraphicFramePr/>
          <p:nvPr/>
        </p:nvGraphicFramePr>
        <p:xfrm>
          <a:off x="4356000" y="5156280"/>
          <a:ext cx="1540080" cy="50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4" name="Объект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56000" y="5156280"/>
                    <a:ext cx="1540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Объект 16"/>
          <p:cNvGraphicFramePr/>
          <p:nvPr/>
        </p:nvGraphicFramePr>
        <p:xfrm>
          <a:off x="5918040" y="4908600"/>
          <a:ext cx="2359080" cy="1041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6" name="Объект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18040" y="4908600"/>
                    <a:ext cx="23590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Объект 17"/>
          <p:cNvGraphicFramePr/>
          <p:nvPr/>
        </p:nvGraphicFramePr>
        <p:xfrm>
          <a:off x="514440" y="5732640"/>
          <a:ext cx="5297400" cy="973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38" name="Объект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4440" y="5732640"/>
                    <a:ext cx="52974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Объект 6"/>
          <p:cNvGraphicFramePr/>
          <p:nvPr/>
        </p:nvGraphicFramePr>
        <p:xfrm>
          <a:off x="539640" y="404640"/>
          <a:ext cx="5856480" cy="22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4640"/>
                    <a:ext cx="5856480" cy="22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1" name="Группа 22"/>
          <p:cNvGrpSpPr/>
          <p:nvPr/>
        </p:nvGrpSpPr>
        <p:grpSpPr>
          <a:xfrm>
            <a:off x="647640" y="2906640"/>
            <a:ext cx="4149720" cy="1692360"/>
            <a:chOff x="647640" y="2906640"/>
            <a:chExt cx="4149720" cy="1692360"/>
          </a:xfrm>
        </p:grpSpPr>
        <p:grpSp>
          <p:nvGrpSpPr>
            <p:cNvPr id="442" name="Группа 7"/>
            <p:cNvGrpSpPr/>
            <p:nvPr/>
          </p:nvGrpSpPr>
          <p:grpSpPr>
            <a:xfrm>
              <a:off x="971280" y="2906640"/>
              <a:ext cx="3826080" cy="1692360"/>
              <a:chOff x="971280" y="2906640"/>
              <a:chExt cx="3826080" cy="1692360"/>
            </a:xfrm>
          </p:grpSpPr>
          <p:sp>
            <p:nvSpPr>
              <p:cNvPr id="443" name="Прямая соединительная линия 8"/>
              <p:cNvSpPr/>
              <p:nvPr/>
            </p:nvSpPr>
            <p:spPr>
              <a:xfrm>
                <a:off x="1042560" y="2906640"/>
                <a:ext cx="0" cy="1692360"/>
              </a:xfrm>
              <a:prstGeom prst="line">
                <a:avLst/>
              </a:prstGeom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Прямая соединительная линия 9"/>
              <p:cNvSpPr/>
              <p:nvPr/>
            </p:nvSpPr>
            <p:spPr>
              <a:xfrm>
                <a:off x="971280" y="4599000"/>
                <a:ext cx="3745440" cy="0"/>
              </a:xfrm>
              <a:prstGeom prst="line">
                <a:avLst/>
              </a:prstGeom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Прямая соединительная линия 10"/>
              <p:cNvSpPr/>
              <p:nvPr/>
            </p:nvSpPr>
            <p:spPr>
              <a:xfrm>
                <a:off x="1053720" y="2906640"/>
                <a:ext cx="3743640" cy="1692360"/>
              </a:xfrm>
              <a:prstGeom prst="line">
                <a:avLst/>
              </a:prstGeom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446" name="Объект 11"/>
              <p:cNvGraphicFramePr/>
              <p:nvPr/>
            </p:nvGraphicFramePr>
            <p:xfrm>
              <a:off x="2700360" y="3199680"/>
              <a:ext cx="1045800" cy="552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47" name="Объект 11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700360" y="3199680"/>
                        <a:ext cx="1045800" cy="552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48" name="Объект 12"/>
            <p:cNvGraphicFramePr/>
            <p:nvPr/>
          </p:nvGraphicFramePr>
          <p:xfrm>
            <a:off x="3492720" y="4130640"/>
            <a:ext cx="396720" cy="468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9" name="Объект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720" y="4130640"/>
                      <a:ext cx="39672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0" name="TextBox 13"/>
            <p:cNvSpPr/>
            <p:nvPr/>
          </p:nvSpPr>
          <p:spPr>
            <a:xfrm>
              <a:off x="2203200" y="4077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1" name="Объект 14"/>
            <p:cNvGraphicFramePr/>
            <p:nvPr/>
          </p:nvGraphicFramePr>
          <p:xfrm>
            <a:off x="647640" y="3673800"/>
            <a:ext cx="255600" cy="338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2" name="Объект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47640" y="3673800"/>
                      <a:ext cx="2556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3" name="Объект 15"/>
          <p:cNvGraphicFramePr/>
          <p:nvPr/>
        </p:nvGraphicFramePr>
        <p:xfrm>
          <a:off x="5797440" y="2401920"/>
          <a:ext cx="154008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4" name="Объект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7440" y="2401920"/>
                    <a:ext cx="1540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Объект 16"/>
          <p:cNvGraphicFramePr/>
          <p:nvPr/>
        </p:nvGraphicFramePr>
        <p:xfrm>
          <a:off x="5437080" y="3068640"/>
          <a:ext cx="2451240" cy="107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6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7080" y="3068640"/>
                    <a:ext cx="24512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Прямоугольник 17"/>
          <p:cNvSpPr/>
          <p:nvPr/>
        </p:nvSpPr>
        <p:spPr>
          <a:xfrm>
            <a:off x="2531880" y="522936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0f17"/>
                </a:solidFill>
                <a:latin typeface="Times New Roman"/>
                <a:ea typeface="Times New Roman"/>
              </a:rPr>
              <a:t>Обратная подстан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Объект 19"/>
          <p:cNvGraphicFramePr/>
          <p:nvPr/>
        </p:nvGraphicFramePr>
        <p:xfrm>
          <a:off x="5797440" y="4908600"/>
          <a:ext cx="2487600" cy="1054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9" name="Объект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7440" y="4908600"/>
                    <a:ext cx="24876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Прямоугольник 20"/>
          <p:cNvSpPr/>
          <p:nvPr/>
        </p:nvSpPr>
        <p:spPr>
          <a:xfrm>
            <a:off x="618120" y="609300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0f17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Объект 21"/>
          <p:cNvGraphicFramePr/>
          <p:nvPr/>
        </p:nvGraphicFramePr>
        <p:xfrm>
          <a:off x="2200320" y="5619600"/>
          <a:ext cx="1812960" cy="1054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2" name="Объект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00320" y="5619600"/>
                    <a:ext cx="18129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5"/>
          <p:cNvSpPr/>
          <p:nvPr/>
        </p:nvSpPr>
        <p:spPr>
          <a:xfrm>
            <a:off x="338400" y="23184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ример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Объект 6"/>
          <p:cNvGraphicFramePr/>
          <p:nvPr/>
        </p:nvGraphicFramePr>
        <p:xfrm>
          <a:off x="2746440" y="171360"/>
          <a:ext cx="180648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440" y="171360"/>
                    <a:ext cx="180648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Прямоугольник 8"/>
          <p:cNvSpPr/>
          <p:nvPr/>
        </p:nvSpPr>
        <p:spPr>
          <a:xfrm>
            <a:off x="661320" y="167148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ешение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ем заме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Объект 9"/>
          <p:cNvGraphicFramePr/>
          <p:nvPr/>
        </p:nvGraphicFramePr>
        <p:xfrm>
          <a:off x="5005440" y="498600"/>
          <a:ext cx="3567240" cy="200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8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5440" y="498600"/>
                    <a:ext cx="356724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9" name="Группа 10" descr=""/>
          <p:cNvPicPr/>
          <p:nvPr/>
        </p:nvPicPr>
        <p:blipFill>
          <a:blip r:embed="rId5"/>
          <a:stretch/>
        </p:blipFill>
        <p:spPr>
          <a:xfrm>
            <a:off x="182520" y="2341440"/>
            <a:ext cx="4621320" cy="177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Объект 19"/>
          <p:cNvGraphicFramePr/>
          <p:nvPr/>
        </p:nvGraphicFramePr>
        <p:xfrm>
          <a:off x="4032360" y="2822400"/>
          <a:ext cx="4703760" cy="100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1" name="Объект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32360" y="2822400"/>
                    <a:ext cx="470376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TextBox 20"/>
          <p:cNvSpPr/>
          <p:nvPr/>
        </p:nvSpPr>
        <p:spPr>
          <a:xfrm>
            <a:off x="388080" y="469584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Объект 21"/>
          <p:cNvGraphicFramePr/>
          <p:nvPr/>
        </p:nvGraphicFramePr>
        <p:xfrm>
          <a:off x="2482920" y="4437000"/>
          <a:ext cx="5745240" cy="1440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4" name="Объект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82920" y="4437000"/>
                    <a:ext cx="574524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Объект 22"/>
          <p:cNvGraphicFramePr/>
          <p:nvPr/>
        </p:nvGraphicFramePr>
        <p:xfrm>
          <a:off x="396720" y="5661000"/>
          <a:ext cx="2730600" cy="922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6" name="Объект 2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6720" y="5661000"/>
                    <a:ext cx="27306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Стрелка вниз 23"/>
          <p:cNvSpPr/>
          <p:nvPr/>
        </p:nvSpPr>
        <p:spPr>
          <a:xfrm rot="13978200">
            <a:off x="4536000" y="1161000"/>
            <a:ext cx="180720" cy="90000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Стрелка вниз 24"/>
          <p:cNvSpPr/>
          <p:nvPr/>
        </p:nvSpPr>
        <p:spPr>
          <a:xfrm>
            <a:off x="7273800" y="2421000"/>
            <a:ext cx="142920" cy="36036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5"/>
          <p:cNvSpPr/>
          <p:nvPr/>
        </p:nvSpPr>
        <p:spPr>
          <a:xfrm>
            <a:off x="6059880" y="606420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Объект 26"/>
          <p:cNvGraphicFramePr/>
          <p:nvPr/>
        </p:nvGraphicFramePr>
        <p:xfrm>
          <a:off x="7164360" y="5834160"/>
          <a:ext cx="1333440" cy="922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81" name="Объект 2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164360" y="5834160"/>
                    <a:ext cx="13334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Прямоугольник 6" descr=""/>
          <p:cNvPicPr/>
          <p:nvPr/>
        </p:nvPicPr>
        <p:blipFill>
          <a:blip r:embed="rId1"/>
          <a:stretch/>
        </p:blipFill>
        <p:spPr>
          <a:xfrm>
            <a:off x="743040" y="1427040"/>
            <a:ext cx="7065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Заголовок 1" descr=""/>
          <p:cNvPicPr/>
          <p:nvPr/>
        </p:nvPicPr>
        <p:blipFill>
          <a:blip r:embed="rId1"/>
          <a:stretch/>
        </p:blipFill>
        <p:spPr>
          <a:xfrm>
            <a:off x="480960" y="1395360"/>
            <a:ext cx="8759880" cy="11764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4068720" y="3938760"/>
            <a:ext cx="429912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488c5"/>
                </a:solidFill>
                <a:latin typeface="Trebuchet MS"/>
              </a:rPr>
              <a:t>Лекция 11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Rectangle 8" descr=""/>
          <p:cNvPicPr/>
          <p:nvPr/>
        </p:nvPicPr>
        <p:blipFill>
          <a:blip r:embed="rId1"/>
          <a:stretch/>
        </p:blipFill>
        <p:spPr>
          <a:xfrm>
            <a:off x="324000" y="255600"/>
            <a:ext cx="8899200" cy="73800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252000" y="1143000"/>
            <a:ext cx="8209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600" spc="-1" strike="noStrike">
                <a:solidFill>
                  <a:srgbClr val="a50021"/>
                </a:solidFill>
                <a:latin typeface="Trebuchet MS"/>
              </a:rPr>
              <a:t>Определение 1.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2060"/>
                </a:solidFill>
                <a:latin typeface="Trebuchet MS"/>
              </a:rPr>
              <a:t>Рациональной дробью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называется дробь вида </a:t>
            </a: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rebuchet MS"/>
              </a:rPr>
              <a:t>                                         </a:t>
            </a:r>
            <a:r>
              <a:rPr b="1" lang="ru-RU" sz="2600" spc="-1" strike="noStrike">
                <a:solidFill>
                  <a:srgbClr val="002060"/>
                </a:solidFill>
                <a:latin typeface="Trebuchet MS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где                           - многочлен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1" i="1" lang="ru-RU" sz="2600" spc="-1" strike="noStrike">
                <a:solidFill>
                  <a:srgbClr val="a50021"/>
                </a:solidFill>
                <a:latin typeface="Trebuchet MS"/>
              </a:rPr>
              <a:t>Определение 2. </a:t>
            </a:r>
            <a:r>
              <a:rPr b="0" i="1" lang="ru-RU" sz="2600" spc="-1" strike="noStrike">
                <a:solidFill>
                  <a:srgbClr val="002060"/>
                </a:solidFill>
                <a:latin typeface="Trebuchet MS"/>
              </a:rPr>
              <a:t>Рациональная дробь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называется правильной, если степень многочлена        ниже степени многочлена           , в противном случае дробь называется неправильно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10"/>
              <p:cNvSpPr txBox="1"/>
              <p:nvPr/>
            </p:nvSpPr>
            <p:spPr>
              <a:xfrm>
                <a:off x="2700360" y="1989000"/>
                <a:ext cx="13748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7"/>
              <p:cNvSpPr txBox="1"/>
              <p:nvPr/>
            </p:nvSpPr>
            <p:spPr>
              <a:xfrm>
                <a:off x="1260360" y="2997360"/>
                <a:ext cx="2143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8"/>
              <p:cNvSpPr txBox="1"/>
              <p:nvPr/>
            </p:nvSpPr>
            <p:spPr>
              <a:xfrm>
                <a:off x="6661080" y="4365720"/>
                <a:ext cx="928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9"/>
              <p:cNvSpPr txBox="1"/>
              <p:nvPr/>
            </p:nvSpPr>
            <p:spPr>
              <a:xfrm>
                <a:off x="4068720" y="4797360"/>
                <a:ext cx="1009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665280" y="480960"/>
            <a:ext cx="7729560" cy="433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-360" y="714240"/>
            <a:ext cx="838980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42a"/>
                </a:solidFill>
                <a:latin typeface="Trebuchet MS"/>
              </a:rPr>
              <a:t>Во всех четырех случаях   </a:t>
            </a:r>
            <a:r>
              <a:rPr b="0" i="1" lang="ru-RU" sz="2800" spc="-1" strike="noStrike">
                <a:solidFill>
                  <a:srgbClr val="3b142a"/>
                </a:solidFill>
                <a:latin typeface="Trebuchet MS"/>
              </a:rPr>
              <a:t>А,</a:t>
            </a:r>
            <a:r>
              <a:rPr b="0" i="1" lang="en-US" sz="2800" spc="-1" strike="noStrike">
                <a:solidFill>
                  <a:srgbClr val="3b142a"/>
                </a:solidFill>
                <a:latin typeface="Trebuchet MS"/>
              </a:rPr>
              <a:t> B, p, q, a  </a:t>
            </a:r>
            <a:r>
              <a:rPr b="0" lang="en-US" sz="2800" spc="-1" strike="noStrike">
                <a:solidFill>
                  <a:srgbClr val="3b142a"/>
                </a:solidFill>
                <a:latin typeface="Trebuchet MS"/>
              </a:rPr>
              <a:t>-</a:t>
            </a:r>
            <a:r>
              <a:rPr b="0" lang="ru-RU" sz="2800" spc="-1" strike="noStrike">
                <a:solidFill>
                  <a:srgbClr val="3b142a"/>
                </a:solidFill>
                <a:latin typeface="Trebuchet MS"/>
              </a:rPr>
              <a:t>действительные числа.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10"/>
              <p:cNvSpPr txBox="1"/>
              <p:nvPr/>
            </p:nvSpPr>
            <p:spPr>
              <a:xfrm>
                <a:off x="612720" y="981000"/>
                <a:ext cx="14781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6"/>
              <p:cNvSpPr txBox="1"/>
              <p:nvPr/>
            </p:nvSpPr>
            <p:spPr>
              <a:xfrm>
                <a:off x="612720" y="1766880"/>
                <a:ext cx="779148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цело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больше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диницы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q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Rectangle 2" descr=""/>
          <p:cNvPicPr/>
          <p:nvPr/>
        </p:nvPicPr>
        <p:blipFill>
          <a:blip r:embed="rId1"/>
          <a:stretch/>
        </p:blipFill>
        <p:spPr>
          <a:xfrm>
            <a:off x="665280" y="219240"/>
            <a:ext cx="7729560" cy="7682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80658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c6c"/>
                </a:solidFill>
                <a:latin typeface="Trebuchet MS"/>
              </a:rPr>
              <a:t>                                             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497" name="Прямоугольник 5"/>
          <p:cNvSpPr/>
          <p:nvPr/>
        </p:nvSpPr>
        <p:spPr>
          <a:xfrm>
            <a:off x="252360" y="126828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еред интегрированием рацион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роби    надо сделать следующие алгебраические преобразования  и  вычис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Если дана неправильная рациональная дробь, то выделить из нее целую часть, т.е представить в виде                                                                        многочлен, а                правильная рациональная дроб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10"/>
              <p:cNvSpPr txBox="1"/>
              <p:nvPr/>
            </p:nvSpPr>
            <p:spPr>
              <a:xfrm>
                <a:off x="2124000" y="1844640"/>
                <a:ext cx="1224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7"/>
              <p:cNvSpPr txBox="1"/>
              <p:nvPr/>
            </p:nvSpPr>
            <p:spPr>
              <a:xfrm>
                <a:off x="1836720" y="3933720"/>
                <a:ext cx="504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М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r>
                      <m:t xml:space="preserve">М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6"/>
              <p:cNvSpPr txBox="1"/>
              <p:nvPr/>
            </p:nvSpPr>
            <p:spPr>
              <a:xfrm>
                <a:off x="3060720" y="4581360"/>
                <a:ext cx="1008000" cy="8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0658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c6c"/>
                </a:solidFill>
                <a:latin typeface="Trebuchet MS"/>
              </a:rPr>
              <a:t>                                             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502" name="Прямоугольник 8"/>
          <p:cNvSpPr/>
          <p:nvPr/>
        </p:nvSpPr>
        <p:spPr>
          <a:xfrm>
            <a:off x="324000" y="527040"/>
            <a:ext cx="8208720" cy="67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5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азложить знаменатель дроби на линейные и квадратичные множ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5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авильную рациональную дробь разложить на простейшие дро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5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результате интегрирование рациональной дроби сведется к нахождению интегралов от многочлена и от простейших рациональных др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4"/>
          <p:cNvSpPr/>
          <p:nvPr/>
        </p:nvSpPr>
        <p:spPr>
          <a:xfrm>
            <a:off x="56520" y="189000"/>
            <a:ext cx="837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 вычислении интеграла от  правильной дроб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зложение будет включать следующие выраж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Объект 5"/>
          <p:cNvGraphicFramePr/>
          <p:nvPr/>
        </p:nvGraphicFramePr>
        <p:xfrm>
          <a:off x="757080" y="1454040"/>
          <a:ext cx="5229360" cy="9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454040"/>
                    <a:ext cx="522936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Объект 6"/>
          <p:cNvGraphicFramePr/>
          <p:nvPr/>
        </p:nvGraphicFramePr>
        <p:xfrm>
          <a:off x="757080" y="2637000"/>
          <a:ext cx="7307280" cy="97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7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7080" y="2637000"/>
                    <a:ext cx="730728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Объект 8"/>
          <p:cNvGraphicFramePr/>
          <p:nvPr/>
        </p:nvGraphicFramePr>
        <p:xfrm>
          <a:off x="444600" y="3903840"/>
          <a:ext cx="8445240" cy="24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9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600" y="3903840"/>
                    <a:ext cx="8445240" cy="24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311040" y="542880"/>
            <a:ext cx="8929800" cy="590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85640" y="1341000"/>
            <a:ext cx="8120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Даны  дифференцируемые функции       и        на некотором промежутке, тогда функция          также дифференцируема на этом промежутк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Интегрируя обе части выражения (*), получи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6589800" y="1413000"/>
                <a:ext cx="5331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6"/>
              <p:cNvSpPr txBox="1"/>
              <p:nvPr/>
            </p:nvSpPr>
            <p:spPr>
              <a:xfrm>
                <a:off x="7524720" y="1413000"/>
                <a:ext cx="468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8"/>
              <p:cNvSpPr txBox="1"/>
              <p:nvPr/>
            </p:nvSpPr>
            <p:spPr>
              <a:xfrm>
                <a:off x="7021440" y="1871640"/>
                <a:ext cx="8193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0"/>
              <p:cNvSpPr txBox="1"/>
              <p:nvPr/>
            </p:nvSpPr>
            <p:spPr>
              <a:xfrm>
                <a:off x="2629080" y="2492280"/>
                <a:ext cx="3041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v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1"/>
              <p:cNvSpPr txBox="1"/>
              <p:nvPr/>
            </p:nvSpPr>
            <p:spPr>
              <a:xfrm>
                <a:off x="2340000" y="3882960"/>
                <a:ext cx="5030640" cy="271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u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u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Объект 4"/>
          <p:cNvGraphicFramePr/>
          <p:nvPr/>
        </p:nvGraphicFramePr>
        <p:xfrm>
          <a:off x="324000" y="44280"/>
          <a:ext cx="808992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4280"/>
                    <a:ext cx="8089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Стрелка вниз 5"/>
          <p:cNvSpPr/>
          <p:nvPr/>
        </p:nvSpPr>
        <p:spPr>
          <a:xfrm flipH="1" rot="3710400">
            <a:off x="2983320" y="830880"/>
            <a:ext cx="109440" cy="1180080"/>
          </a:xfrm>
          <a:prstGeom prst="downArrow">
            <a:avLst>
              <a:gd name="adj1" fmla="val 50000"/>
              <a:gd name="adj2" fmla="val 50071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Объект 6"/>
          <p:cNvGraphicFramePr/>
          <p:nvPr/>
        </p:nvGraphicFramePr>
        <p:xfrm>
          <a:off x="181080" y="1773360"/>
          <a:ext cx="2577960" cy="13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080" y="1773360"/>
                    <a:ext cx="257796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Объект 25"/>
          <p:cNvGraphicFramePr/>
          <p:nvPr/>
        </p:nvGraphicFramePr>
        <p:xfrm>
          <a:off x="3159000" y="1747800"/>
          <a:ext cx="5453280" cy="10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6" name="Объект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59000" y="1747800"/>
                    <a:ext cx="54532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Стрелка вниз 26"/>
          <p:cNvSpPr/>
          <p:nvPr/>
        </p:nvSpPr>
        <p:spPr>
          <a:xfrm flipV="1" rot="8395800">
            <a:off x="6725160" y="874800"/>
            <a:ext cx="87120" cy="112392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ая соединительная линия 28"/>
          <p:cNvSpPr/>
          <p:nvPr/>
        </p:nvSpPr>
        <p:spPr>
          <a:xfrm>
            <a:off x="2886120" y="1844640"/>
            <a:ext cx="0" cy="2232000"/>
          </a:xfrm>
          <a:prstGeom prst="line">
            <a:avLst/>
          </a:prstGeom>
          <a:ln w="316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Овал 30"/>
          <p:cNvSpPr/>
          <p:nvPr/>
        </p:nvSpPr>
        <p:spPr>
          <a:xfrm>
            <a:off x="4176720" y="2997360"/>
            <a:ext cx="3924360" cy="104292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Объект 31"/>
          <p:cNvGraphicFramePr/>
          <p:nvPr/>
        </p:nvGraphicFramePr>
        <p:xfrm>
          <a:off x="4632480" y="3213000"/>
          <a:ext cx="310824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1" name="Объект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32480" y="3213000"/>
                    <a:ext cx="31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Объект 32"/>
          <p:cNvGraphicFramePr/>
          <p:nvPr/>
        </p:nvGraphicFramePr>
        <p:xfrm>
          <a:off x="108000" y="4292640"/>
          <a:ext cx="8448480" cy="115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3" name="Объект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000" y="4292640"/>
                    <a:ext cx="844848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Объект 33"/>
          <p:cNvGraphicFramePr/>
          <p:nvPr/>
        </p:nvGraphicFramePr>
        <p:xfrm>
          <a:off x="36360" y="5516640"/>
          <a:ext cx="5073840" cy="119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5" name="Объект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60" y="5516640"/>
                    <a:ext cx="507384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Овал 34"/>
          <p:cNvSpPr/>
          <p:nvPr/>
        </p:nvSpPr>
        <p:spPr>
          <a:xfrm>
            <a:off x="5221440" y="5516640"/>
            <a:ext cx="2700360" cy="90000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Объект 35"/>
          <p:cNvGraphicFramePr/>
          <p:nvPr/>
        </p:nvGraphicFramePr>
        <p:xfrm>
          <a:off x="5724360" y="5661000"/>
          <a:ext cx="169092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8" name="Объект 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24360" y="5661000"/>
                    <a:ext cx="1690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Стрелка вниз 36"/>
          <p:cNvSpPr/>
          <p:nvPr/>
        </p:nvSpPr>
        <p:spPr>
          <a:xfrm flipH="1" flipV="1" rot="4368000">
            <a:off x="3214440" y="3089520"/>
            <a:ext cx="127080" cy="17636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0" name="Объект 1"/>
          <p:cNvGraphicFramePr/>
          <p:nvPr/>
        </p:nvGraphicFramePr>
        <p:xfrm>
          <a:off x="324000" y="482760"/>
          <a:ext cx="8089920" cy="114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82760"/>
                    <a:ext cx="808992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Объект 2"/>
          <p:cNvGraphicFramePr/>
          <p:nvPr/>
        </p:nvGraphicFramePr>
        <p:xfrm>
          <a:off x="382680" y="2517840"/>
          <a:ext cx="771840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3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680" y="2517840"/>
                    <a:ext cx="77184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Прямоугольник 1"/>
          <p:cNvSpPr/>
          <p:nvPr/>
        </p:nvSpPr>
        <p:spPr>
          <a:xfrm>
            <a:off x="332280" y="10800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ример 1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2"/>
          <p:cNvSpPr/>
          <p:nvPr/>
        </p:nvSpPr>
        <p:spPr>
          <a:xfrm>
            <a:off x="1852200" y="11592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йти интегр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Объект 3"/>
          <p:cNvGraphicFramePr/>
          <p:nvPr/>
        </p:nvGraphicFramePr>
        <p:xfrm>
          <a:off x="368280" y="606600"/>
          <a:ext cx="8001000" cy="14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606600"/>
                    <a:ext cx="8001000" cy="14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Овал 5"/>
          <p:cNvSpPr/>
          <p:nvPr/>
        </p:nvSpPr>
        <p:spPr>
          <a:xfrm>
            <a:off x="3852720" y="1844640"/>
            <a:ext cx="3961080" cy="91440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Объект 6"/>
          <p:cNvGraphicFramePr/>
          <p:nvPr/>
        </p:nvGraphicFramePr>
        <p:xfrm>
          <a:off x="4108320" y="2060640"/>
          <a:ext cx="348948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0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8320" y="2060640"/>
                    <a:ext cx="34894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Стрелка вниз 7"/>
          <p:cNvSpPr/>
          <p:nvPr/>
        </p:nvSpPr>
        <p:spPr>
          <a:xfrm flipV="1" rot="8395800">
            <a:off x="5221080" y="1189800"/>
            <a:ext cx="74520" cy="876240"/>
          </a:xfrm>
          <a:prstGeom prst="downArrow">
            <a:avLst>
              <a:gd name="adj1" fmla="val 50000"/>
              <a:gd name="adj2" fmla="val 50082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496800" y="260676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ример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йти интеграл: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Объект 10"/>
          <p:cNvGraphicFramePr/>
          <p:nvPr/>
        </p:nvGraphicFramePr>
        <p:xfrm>
          <a:off x="328680" y="3213000"/>
          <a:ext cx="7792920" cy="124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4" name="Объект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680" y="3213000"/>
                    <a:ext cx="779292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Объект 11"/>
          <p:cNvGraphicFramePr/>
          <p:nvPr/>
        </p:nvGraphicFramePr>
        <p:xfrm>
          <a:off x="396720" y="4508640"/>
          <a:ext cx="4950000" cy="87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6" name="Объект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720" y="4508640"/>
                    <a:ext cx="495000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Прямоугольник 12"/>
          <p:cNvSpPr/>
          <p:nvPr/>
        </p:nvSpPr>
        <p:spPr>
          <a:xfrm>
            <a:off x="3206880" y="551664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Объект 13"/>
          <p:cNvGraphicFramePr/>
          <p:nvPr/>
        </p:nvGraphicFramePr>
        <p:xfrm>
          <a:off x="4789440" y="5300640"/>
          <a:ext cx="3111480" cy="87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9" name="Объект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89440" y="5300640"/>
                    <a:ext cx="311148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85280" y="404280"/>
            <a:ext cx="7975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Пример </a:t>
            </a:r>
            <a:r>
              <a:rPr b="1" lang="en-US" sz="2600" spc="-1" strike="noStrike">
                <a:solidFill>
                  <a:srgbClr val="a50021"/>
                </a:solidFill>
                <a:latin typeface="Trebuchet MS"/>
              </a:rPr>
              <a:t>3</a:t>
            </a: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.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дынтегральная функция–правильная рациональная дробь. Представим ее в виде суммы простейших дробей, учитывая, чт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ведем к общему знаменателю сумму дробей, стоящих в правой част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51" name="Рисунок 9" descr=""/>
          <p:cNvPicPr/>
          <p:nvPr/>
        </p:nvPicPr>
        <p:blipFill>
          <a:blip r:embed="rId1"/>
          <a:stretch/>
        </p:blipFill>
        <p:spPr>
          <a:xfrm>
            <a:off x="5148360" y="404640"/>
            <a:ext cx="2520720" cy="863640"/>
          </a:xfrm>
          <a:prstGeom prst="rect">
            <a:avLst/>
          </a:prstGeom>
          <a:ln w="0">
            <a:noFill/>
          </a:ln>
        </p:spPr>
      </p:pic>
      <p:pic>
        <p:nvPicPr>
          <p:cNvPr id="552" name="Рисунок 10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3168720" cy="720720"/>
          </a:xfrm>
          <a:prstGeom prst="rect">
            <a:avLst/>
          </a:prstGeom>
          <a:ln w="0">
            <a:noFill/>
          </a:ln>
        </p:spPr>
      </p:pic>
      <p:pic>
        <p:nvPicPr>
          <p:cNvPr id="553" name="Рисунок 11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6337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4" name="Object 10"/>
              <p:cNvSpPr txBox="1"/>
              <p:nvPr/>
            </p:nvSpPr>
            <p:spPr>
              <a:xfrm>
                <a:off x="252360" y="404640"/>
                <a:ext cx="831060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512280" y="2111040"/>
            <a:ext cx="4348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риравняем числители дробей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6"/>
              <p:cNvSpPr txBox="1"/>
              <p:nvPr/>
            </p:nvSpPr>
            <p:spPr>
              <a:xfrm>
                <a:off x="-42840" y="2997360"/>
                <a:ext cx="8720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7"/>
              <p:cNvSpPr txBox="1"/>
              <p:nvPr/>
            </p:nvSpPr>
            <p:spPr>
              <a:xfrm>
                <a:off x="585720" y="3645000"/>
                <a:ext cx="3828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8"/>
              <p:cNvSpPr txBox="1"/>
              <p:nvPr/>
            </p:nvSpPr>
            <p:spPr>
              <a:xfrm>
                <a:off x="4640400" y="3645000"/>
                <a:ext cx="31953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9"/>
              <p:cNvSpPr txBox="1"/>
              <p:nvPr/>
            </p:nvSpPr>
            <p:spPr>
              <a:xfrm>
                <a:off x="468360" y="4653000"/>
                <a:ext cx="477684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6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60" name="Object 11"/>
          <p:cNvGraphicFramePr/>
          <p:nvPr/>
        </p:nvGraphicFramePr>
        <p:xfrm>
          <a:off x="5041800" y="5064120"/>
          <a:ext cx="147492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1800" y="5064120"/>
                    <a:ext cx="14749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10"/>
          <p:cNvGraphicFramePr/>
          <p:nvPr/>
        </p:nvGraphicFramePr>
        <p:xfrm>
          <a:off x="982800" y="-108000"/>
          <a:ext cx="5879880" cy="33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-108000"/>
                    <a:ext cx="587988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4" name="Рисунок 11" descr=""/>
          <p:cNvPicPr/>
          <p:nvPr/>
        </p:nvPicPr>
        <p:blipFill>
          <a:blip r:embed="rId3"/>
          <a:stretch/>
        </p:blipFill>
        <p:spPr>
          <a:xfrm>
            <a:off x="5005440" y="3114720"/>
            <a:ext cx="1584360" cy="43344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2" descr=""/>
          <p:cNvPicPr/>
          <p:nvPr/>
        </p:nvPicPr>
        <p:blipFill>
          <a:blip r:embed="rId4"/>
          <a:stretch/>
        </p:blipFill>
        <p:spPr>
          <a:xfrm>
            <a:off x="6950160" y="3033720"/>
            <a:ext cx="1152360" cy="38736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3" descr=""/>
          <p:cNvPicPr/>
          <p:nvPr/>
        </p:nvPicPr>
        <p:blipFill>
          <a:blip r:embed="rId5"/>
          <a:stretch/>
        </p:blipFill>
        <p:spPr>
          <a:xfrm>
            <a:off x="6950160" y="3513240"/>
            <a:ext cx="1079280" cy="4698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4" descr=""/>
          <p:cNvPicPr/>
          <p:nvPr/>
        </p:nvPicPr>
        <p:blipFill>
          <a:blip r:embed="rId6"/>
          <a:stretch/>
        </p:blipFill>
        <p:spPr>
          <a:xfrm>
            <a:off x="757080" y="4508640"/>
            <a:ext cx="7199640" cy="1728720"/>
          </a:xfrm>
          <a:prstGeom prst="rect">
            <a:avLst/>
          </a:prstGeom>
          <a:ln w="0">
            <a:noFill/>
          </a:ln>
        </p:spPr>
      </p:pic>
      <p:sp>
        <p:nvSpPr>
          <p:cNvPr id="568" name="Стрелка вниз 7"/>
          <p:cNvSpPr/>
          <p:nvPr/>
        </p:nvSpPr>
        <p:spPr>
          <a:xfrm flipH="1" rot="14649600">
            <a:off x="3773880" y="2706480"/>
            <a:ext cx="34920" cy="2087640"/>
          </a:xfrm>
          <a:prstGeom prst="downArrow">
            <a:avLst>
              <a:gd name="adj1" fmla="val 50000"/>
              <a:gd name="adj2" fmla="val 5009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8"/>
          <p:cNvSpPr/>
          <p:nvPr/>
        </p:nvSpPr>
        <p:spPr>
          <a:xfrm>
            <a:off x="900000" y="47628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ледовате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оугольник 9"/>
          <p:cNvSpPr/>
          <p:nvPr/>
        </p:nvSpPr>
        <p:spPr>
          <a:xfrm>
            <a:off x="684360" y="45813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10"/>
              <p:cNvSpPr txBox="1"/>
              <p:nvPr/>
            </p:nvSpPr>
            <p:spPr>
              <a:xfrm>
                <a:off x="1941480" y="4122720"/>
                <a:ext cx="558324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4"/>
              <p:cNvSpPr txBox="1"/>
              <p:nvPr/>
            </p:nvSpPr>
            <p:spPr>
              <a:xfrm>
                <a:off x="425520" y="1459080"/>
                <a:ext cx="682308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Прямоугольник 6" descr=""/>
          <p:cNvPicPr/>
          <p:nvPr/>
        </p:nvPicPr>
        <p:blipFill>
          <a:blip r:embed="rId1"/>
          <a:stretch/>
        </p:blipFill>
        <p:spPr>
          <a:xfrm>
            <a:off x="743040" y="1427040"/>
            <a:ext cx="7065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98240" y="691920"/>
            <a:ext cx="817884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Метод интегрирования по частям применяетс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 следующих случаях: Подынтегральное выраж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имеет вид:  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rebuchet MS"/>
              </a:rPr>
              <a:t>1.  Интеграл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15"/>
              <p:cNvSpPr txBox="1"/>
              <p:nvPr/>
            </p:nvSpPr>
            <p:spPr>
              <a:xfrm>
                <a:off x="7023240" y="2630520"/>
                <a:ext cx="12672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9" name=""/>
          <p:cNvGraphicFramePr/>
          <p:nvPr/>
        </p:nvGraphicFramePr>
        <p:xfrm>
          <a:off x="250920" y="2708280"/>
          <a:ext cx="8281800" cy="3529080"/>
        </p:xfrm>
        <a:graphic>
          <a:graphicData uri="http://schemas.openxmlformats.org/drawingml/2006/table">
            <a:tbl>
              <a:tblPr/>
              <a:tblGrid>
                <a:gridCol w="2603520"/>
                <a:gridCol w="1735200"/>
                <a:gridCol w="2214360"/>
                <a:gridCol w="1728720"/>
              </a:tblGrid>
              <a:tr h="704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4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0" name="Object 7"/>
              <p:cNvSpPr txBox="1"/>
              <p:nvPr/>
            </p:nvSpPr>
            <p:spPr>
              <a:xfrm>
                <a:off x="468360" y="3429000"/>
                <a:ext cx="2189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396720" y="4149720"/>
                <a:ext cx="2121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468360" y="4869000"/>
                <a:ext cx="20034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468360" y="5516640"/>
                <a:ext cx="2062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1"/>
              <p:cNvSpPr txBox="1"/>
              <p:nvPr/>
            </p:nvSpPr>
            <p:spPr>
              <a:xfrm>
                <a:off x="3205080" y="2708280"/>
                <a:ext cx="8654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2"/>
              <p:cNvSpPr txBox="1"/>
              <p:nvPr/>
            </p:nvSpPr>
            <p:spPr>
              <a:xfrm>
                <a:off x="5148360" y="2781360"/>
                <a:ext cx="9363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3"/>
              <p:cNvSpPr txBox="1"/>
              <p:nvPr/>
            </p:nvSpPr>
            <p:spPr>
              <a:xfrm>
                <a:off x="3348000" y="3429000"/>
                <a:ext cx="609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4"/>
              <p:cNvSpPr txBox="1"/>
              <p:nvPr/>
            </p:nvSpPr>
            <p:spPr>
              <a:xfrm>
                <a:off x="5221440" y="3500280"/>
                <a:ext cx="9111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8" name="Object 12"/>
          <p:cNvGraphicFramePr/>
          <p:nvPr/>
        </p:nvGraphicFramePr>
        <p:xfrm>
          <a:off x="5221440" y="4149720"/>
          <a:ext cx="107928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1440" y="4149720"/>
                    <a:ext cx="10792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0" name="Object 16"/>
              <p:cNvSpPr txBox="1"/>
              <p:nvPr/>
            </p:nvSpPr>
            <p:spPr>
              <a:xfrm>
                <a:off x="5234040" y="4905360"/>
                <a:ext cx="1211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7"/>
              <p:cNvSpPr txBox="1"/>
              <p:nvPr/>
            </p:nvSpPr>
            <p:spPr>
              <a:xfrm>
                <a:off x="5148360" y="5589720"/>
                <a:ext cx="1258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Объект 1"/>
              <p:cNvSpPr txBox="1"/>
              <p:nvPr/>
            </p:nvSpPr>
            <p:spPr>
              <a:xfrm>
                <a:off x="3348000" y="4149720"/>
                <a:ext cx="609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Объект 2"/>
              <p:cNvSpPr txBox="1"/>
              <p:nvPr/>
            </p:nvSpPr>
            <p:spPr>
              <a:xfrm>
                <a:off x="3348000" y="4869000"/>
                <a:ext cx="6094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Объект 3"/>
              <p:cNvSpPr txBox="1"/>
              <p:nvPr/>
            </p:nvSpPr>
            <p:spPr>
              <a:xfrm>
                <a:off x="3384720" y="5516640"/>
                <a:ext cx="6127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502920" y="475920"/>
            <a:ext cx="88916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   </a:t>
            </a: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2. Интегра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rebuchet MS"/>
              </a:rPr>
              <a:t>  </a:t>
            </a:r>
            <a:r>
              <a:rPr b="1" lang="ru-RU" sz="2800" spc="-1" strike="noStrike">
                <a:solidFill>
                  <a:srgbClr val="a50021"/>
                </a:solidFill>
                <a:latin typeface="Trebuchet MS"/>
              </a:rPr>
              <a:t>3</a:t>
            </a:r>
            <a:r>
              <a:rPr b="0" lang="ru-RU" sz="2800" spc="-1" strike="noStrike">
                <a:solidFill>
                  <a:srgbClr val="a50021"/>
                </a:solidFill>
                <a:latin typeface="Trebuchet MS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2800" spc="-1" strike="noStrike">
                <a:solidFill>
                  <a:srgbClr val="d490c5"/>
                </a:solidFill>
                <a:latin typeface="Trebuchet MS"/>
              </a:rPr>
              <a:t>-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rebuchet MS"/>
              </a:rPr>
              <a:t>циклическое интегрирова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15"/>
              <p:cNvSpPr txBox="1"/>
              <p:nvPr/>
            </p:nvSpPr>
            <p:spPr>
              <a:xfrm>
                <a:off x="7023240" y="2630520"/>
                <a:ext cx="12672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7" name=""/>
          <p:cNvGraphicFramePr/>
          <p:nvPr/>
        </p:nvGraphicFramePr>
        <p:xfrm>
          <a:off x="252360" y="1125360"/>
          <a:ext cx="8209080" cy="2953080"/>
        </p:xfrm>
        <a:graphic>
          <a:graphicData uri="http://schemas.openxmlformats.org/drawingml/2006/table">
            <a:tbl>
              <a:tblPr/>
              <a:tblGrid>
                <a:gridCol w="3205080"/>
                <a:gridCol w="2060640"/>
                <a:gridCol w="1908360"/>
                <a:gridCol w="103500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68" name="Object 5"/>
              <p:cNvSpPr txBox="1"/>
              <p:nvPr/>
            </p:nvSpPr>
            <p:spPr>
              <a:xfrm>
                <a:off x="396720" y="1555920"/>
                <a:ext cx="22021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269" name="Object 6"/>
          <p:cNvGraphicFramePr/>
          <p:nvPr/>
        </p:nvGraphicFramePr>
        <p:xfrm>
          <a:off x="324000" y="2205000"/>
          <a:ext cx="27097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05000"/>
                    <a:ext cx="2709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4213080" y="549360"/>
                <a:ext cx="852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0"/>
              <p:cNvSpPr txBox="1"/>
              <p:nvPr/>
            </p:nvSpPr>
            <p:spPr>
              <a:xfrm>
                <a:off x="6373800" y="549360"/>
                <a:ext cx="9288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6"/>
              <p:cNvSpPr txBox="1"/>
              <p:nvPr/>
            </p:nvSpPr>
            <p:spPr>
              <a:xfrm>
                <a:off x="252360" y="2852640"/>
                <a:ext cx="29224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17"/>
              <p:cNvSpPr txBox="1"/>
              <p:nvPr/>
            </p:nvSpPr>
            <p:spPr>
              <a:xfrm>
                <a:off x="181080" y="3502080"/>
                <a:ext cx="2881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8"/>
              <p:cNvSpPr txBox="1"/>
              <p:nvPr/>
            </p:nvSpPr>
            <p:spPr>
              <a:xfrm>
                <a:off x="6013440" y="2276640"/>
                <a:ext cx="1152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19"/>
              <p:cNvSpPr txBox="1"/>
              <p:nvPr/>
            </p:nvSpPr>
            <p:spPr>
              <a:xfrm>
                <a:off x="3924360" y="1623960"/>
                <a:ext cx="12556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1"/>
              <p:cNvSpPr txBox="1"/>
              <p:nvPr/>
            </p:nvSpPr>
            <p:spPr>
              <a:xfrm>
                <a:off x="3852720" y="2282760"/>
                <a:ext cx="1686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2"/>
              <p:cNvSpPr txBox="1"/>
              <p:nvPr/>
            </p:nvSpPr>
            <p:spPr>
              <a:xfrm>
                <a:off x="3852720" y="2997360"/>
                <a:ext cx="1606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4"/>
              <p:cNvSpPr txBox="1"/>
              <p:nvPr/>
            </p:nvSpPr>
            <p:spPr>
              <a:xfrm>
                <a:off x="3852720" y="3573360"/>
                <a:ext cx="1400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5"/>
              <p:cNvSpPr txBox="1"/>
              <p:nvPr/>
            </p:nvSpPr>
            <p:spPr>
              <a:xfrm>
                <a:off x="3368520" y="4941720"/>
                <a:ext cx="26989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6"/>
              <p:cNvSpPr txBox="1"/>
              <p:nvPr/>
            </p:nvSpPr>
            <p:spPr>
              <a:xfrm>
                <a:off x="411120" y="4941720"/>
                <a:ext cx="2852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7"/>
              <p:cNvSpPr txBox="1"/>
              <p:nvPr/>
            </p:nvSpPr>
            <p:spPr>
              <a:xfrm>
                <a:off x="6338880" y="4780080"/>
                <a:ext cx="2374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341280" y="182520"/>
            <a:ext cx="7693200" cy="8780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85280" y="2060640"/>
            <a:ext cx="754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rebuchet MS"/>
              </a:rPr>
              <a:t>Пример 1.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Используем формулу интегрирования по частям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Пусть</a:t>
            </a:r>
            <a:r>
              <a:rPr b="0" lang="ru-RU" sz="20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Тогда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13f9a"/>
                </a:solidFill>
                <a:latin typeface="Trebuchet MS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Следовательно,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14"/>
              <p:cNvSpPr txBox="1"/>
              <p:nvPr/>
            </p:nvSpPr>
            <p:spPr>
              <a:xfrm>
                <a:off x="2413080" y="3429000"/>
                <a:ext cx="3951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13"/>
              <p:cNvSpPr txBox="1"/>
              <p:nvPr/>
            </p:nvSpPr>
            <p:spPr>
              <a:xfrm>
                <a:off x="1836720" y="4076640"/>
                <a:ext cx="34005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971640" y="4748040"/>
                <a:ext cx="55879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6"/>
              <p:cNvSpPr txBox="1"/>
              <p:nvPr/>
            </p:nvSpPr>
            <p:spPr>
              <a:xfrm>
                <a:off x="4716360" y="1916280"/>
                <a:ext cx="2157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7"/>
              <p:cNvSpPr txBox="1"/>
              <p:nvPr/>
            </p:nvSpPr>
            <p:spPr>
              <a:xfrm>
                <a:off x="3205080" y="1197000"/>
                <a:ext cx="2664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85640" y="1268280"/>
            <a:ext cx="8839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1797120" y="3284640"/>
          <a:ext cx="5172120" cy="21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7120" y="3284640"/>
                    <a:ext cx="517212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TextBox 7"/>
          <p:cNvSpPr/>
          <p:nvPr/>
        </p:nvSpPr>
        <p:spPr>
          <a:xfrm>
            <a:off x="1135800" y="57754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ВЕТ: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3060720" y="5576760"/>
                <a:ext cx="41320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5" name="Объект 1"/>
          <p:cNvGraphicFramePr/>
          <p:nvPr/>
        </p:nvGraphicFramePr>
        <p:xfrm>
          <a:off x="1900080" y="541440"/>
          <a:ext cx="5378760" cy="25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Объект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0080" y="541440"/>
                    <a:ext cx="537876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85640" y="1628280"/>
            <a:ext cx="79041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Пример 2.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Используем формулу интегрирования по частям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4"/>
              <p:cNvSpPr txBox="1"/>
              <p:nvPr/>
            </p:nvSpPr>
            <p:spPr>
              <a:xfrm>
                <a:off x="2268360" y="3141720"/>
                <a:ext cx="3951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9" name="Object 13"/>
          <p:cNvGraphicFramePr/>
          <p:nvPr/>
        </p:nvGraphicFramePr>
        <p:xfrm>
          <a:off x="757080" y="4869000"/>
          <a:ext cx="4951440" cy="91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4869000"/>
                    <a:ext cx="495144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1" name="Object 6"/>
              <p:cNvSpPr txBox="1"/>
              <p:nvPr/>
            </p:nvSpPr>
            <p:spPr>
              <a:xfrm>
                <a:off x="5308560" y="1844640"/>
                <a:ext cx="1144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TextBox 7"/>
          <p:cNvSpPr/>
          <p:nvPr/>
        </p:nvSpPr>
        <p:spPr>
          <a:xfrm>
            <a:off x="3862440" y="606276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ВЕТ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6156360" y="6037200"/>
                <a:ext cx="16495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6"/>
              <p:cNvSpPr txBox="1"/>
              <p:nvPr/>
            </p:nvSpPr>
            <p:spPr>
              <a:xfrm>
                <a:off x="2989440" y="692280"/>
                <a:ext cx="259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305" name="Объект 1"/>
          <p:cNvGraphicFramePr/>
          <p:nvPr/>
        </p:nvGraphicFramePr>
        <p:xfrm>
          <a:off x="1685880" y="3933720"/>
          <a:ext cx="5751720" cy="91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Объект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5880" y="3933720"/>
                    <a:ext cx="575172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85640" y="19987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Пример 3.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Используем формулу интегрирования по частям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Пусть</a:t>
            </a: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Тогд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Следовательно,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4"/>
              <p:cNvSpPr txBox="1"/>
              <p:nvPr/>
            </p:nvSpPr>
            <p:spPr>
              <a:xfrm>
                <a:off x="2417760" y="3141720"/>
                <a:ext cx="3951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3"/>
              <p:cNvSpPr txBox="1"/>
              <p:nvPr/>
            </p:nvSpPr>
            <p:spPr>
              <a:xfrm>
                <a:off x="2170080" y="3967200"/>
                <a:ext cx="2998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1177920" y="4416480"/>
                <a:ext cx="51735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311" name="Object 6"/>
          <p:cNvGraphicFramePr/>
          <p:nvPr/>
        </p:nvGraphicFramePr>
        <p:xfrm>
          <a:off x="5940360" y="1844640"/>
          <a:ext cx="16639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844640"/>
                    <a:ext cx="16639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Object 8"/>
              <p:cNvSpPr txBox="1"/>
              <p:nvPr/>
            </p:nvSpPr>
            <p:spPr>
              <a:xfrm>
                <a:off x="2413080" y="692280"/>
                <a:ext cx="3313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1:53Z</dcterms:created>
  <dc:creator>user</dc:creator>
  <dc:description/>
  <dc:language>en-US</dc:language>
  <cp:lastModifiedBy>MANYA</cp:lastModifiedBy>
  <dcterms:modified xsi:type="dcterms:W3CDTF">2014-12-05T04:01:09Z</dcterms:modified>
  <cp:revision>229</cp:revision>
  <dc:subject/>
  <dc:title>НЕПРЕРЫВНАЯ СЛУЧАЙНАЯ ВЕЛИЧИНА.</dc:title>
</cp:coreProperties>
</file>