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2671-F90B-40D9-999C-4FBA0D6B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942-B9C2-4EAD-84C4-C4DBE8D9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DA6-E644-4053-A14D-C116C905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B47-3AE9-4BAC-8B1F-92530253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9F4-731E-4E4F-88F3-A8E71222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AC8-C410-4863-B46A-1E74C7F5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986-269D-4653-9936-E7814C5E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C5E-ADF1-426B-9CD5-3FEAD91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F20-32AD-4372-8BF5-659B510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F6E-3E0D-4C2C-B516-2C749205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EC5-F89D-4C19-9AE5-3FBDE19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2D8-63F0-4C54-8979-669417A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AB0-58F1-46C5-BEE2-EEA73620C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Ма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Зир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Профессор кафедры математики и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Лекции по математике для студентов экономических специа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124000" y="256536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468360" y="3716280"/>
                <a:ext cx="7777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6560" y="1700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7-178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онард Эйлер принадлежит к числу гениев, чье 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ло достоянием всего человечества. Открытия Эйлер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атематике, механике, физике и технике прочно вош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ую науку. Многие из них были сдела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тербургской Академии наук, где Леонард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работал 31 год (в 1727-1741 гг. и 1766-1783 гг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7" descr="http://yak15.narod.ru/eiler.jpg"/>
          <p:cNvPicPr/>
          <p:nvPr/>
        </p:nvPicPr>
        <p:blipFill>
          <a:blip r:embed="rId1"/>
          <a:stretch/>
        </p:blipFill>
        <p:spPr>
          <a:xfrm>
            <a:off x="6659640" y="2060640"/>
            <a:ext cx="165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924360" y="298440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395280" y="5229360"/>
                <a:ext cx="7777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Рисунок 4" descr="http://www.dsplib.ru/content/complex/complex_html_m17bdf51c.gif"/>
          <p:cNvPicPr/>
          <p:nvPr/>
        </p:nvPicPr>
        <p:blipFill>
          <a:blip r:embed="rId1"/>
          <a:stretch/>
        </p:blipFill>
        <p:spPr>
          <a:xfrm>
            <a:off x="250920" y="2205000"/>
            <a:ext cx="35240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1-i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записать в тригонометрической и показательной формах.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50920" y="2492280"/>
                <a:ext cx="8426520" cy="40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</a:t>
            </a:r>
            <a:br>
              <a:rPr sz="2400"/>
            </a:b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Сумма двух комплексных чисел и есть также комплексное чис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3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+(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)=(3+1)+i(2+5)=4+7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Как следует из выражения при сложении реальные и мнимые части комплексного числа также склад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dsplib.ru/content/complex/complex_html_52954dab.gif"/>
          <p:cNvPicPr/>
          <p:nvPr/>
        </p:nvPicPr>
        <p:blipFill>
          <a:blip r:embed="rId1"/>
          <a:stretch/>
        </p:blipFill>
        <p:spPr>
          <a:xfrm>
            <a:off x="2266920" y="2060640"/>
            <a:ext cx="424980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сложения можно реализовать как сложение векторов комплексных чисел по правилу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Разность двух комплексных чисел и есть также комплексное число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(4+i)-(-2-i)=(4+2)+i(1+1)=6+2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я можно реализовать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векторов  комплек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чисел по правилу параллелограм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первом шаге из вектор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формируется вектор           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после чего вектор          склад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с вектором                 по правилу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6200" y="331920"/>
            <a:ext cx="851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2.</a:t>
            </a:r>
            <a:r>
              <a:rPr b="1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комплексных чисе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8" descr="http://www.dsplib.ru/content/complex/complex_html_51886597.gif"/>
          <p:cNvPicPr/>
          <p:nvPr/>
        </p:nvPicPr>
        <p:blipFill>
          <a:blip r:embed="rId1"/>
          <a:stretch/>
        </p:blipFill>
        <p:spPr>
          <a:xfrm>
            <a:off x="5076720" y="2349360"/>
            <a:ext cx="360684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9" descr="http://www.dsplib.ru/content/complex/complex_html_7dbf2272.gif"/>
          <p:cNvPicPr/>
          <p:nvPr/>
        </p:nvPicPr>
        <p:blipFill>
          <a:blip r:embed="rId2"/>
          <a:stretch/>
        </p:blipFill>
        <p:spPr>
          <a:xfrm>
            <a:off x="3695760" y="4653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0" descr="http://www.dsplib.ru/content/complex/complex_html_7444b6fa.gif"/>
          <p:cNvPicPr/>
          <p:nvPr/>
        </p:nvPicPr>
        <p:blipFill>
          <a:blip r:embed="rId3"/>
          <a:stretch/>
        </p:blipFill>
        <p:spPr>
          <a:xfrm>
            <a:off x="3022560" y="5162400"/>
            <a:ext cx="36216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1" descr="http://www.dsplib.ru/content/complex/complex_html_7dbf2272.gif"/>
          <p:cNvPicPr/>
          <p:nvPr/>
        </p:nvPicPr>
        <p:blipFill>
          <a:blip r:embed="rId4"/>
          <a:stretch/>
        </p:blipFill>
        <p:spPr>
          <a:xfrm>
            <a:off x="2700360" y="5589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3" descr="http://www.dsplib.ru/content/complex/complex_html_7444b6fa.gif"/>
          <p:cNvPicPr/>
          <p:nvPr/>
        </p:nvPicPr>
        <p:blipFill>
          <a:blip r:embed="rId5"/>
          <a:stretch/>
        </p:blipFill>
        <p:spPr>
          <a:xfrm>
            <a:off x="2124000" y="6093000"/>
            <a:ext cx="3621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Умножение комплексных чисел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Для того чтобы получить формулу для умножения комплексных чисел необходимо перемножить два комплексных числа по правилу умножения многочленов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+i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1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-5-2i)=-5-15i-2i-6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-5-17i+6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-17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1-3i)=1-3i+3i-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+9=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сегда действи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81120" y="5070600"/>
                <a:ext cx="1154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Деление комплексных чисел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1474920" y="981000"/>
                <a:ext cx="5543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о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539640" y="3357720"/>
                <a:ext cx="813600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5. Операции над комплексными числами, заданными в тригонометрической форм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1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2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95280" y="1844640"/>
                <a:ext cx="799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68360" y="2637000"/>
                <a:ext cx="8064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9640" y="4221000"/>
                <a:ext cx="734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ϕ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0" y="5680080"/>
                <a:ext cx="9144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41300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Комплексные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формы записи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1920"/>
            <a:ext cx="84452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ить уравн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067280" y="404640"/>
                <a:ext cx="31687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250920" y="1773360"/>
                <a:ext cx="813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539640" y="5141880"/>
                <a:ext cx="6696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"/>
              <p:cNvSpPr txBox="1"/>
              <p:nvPr/>
            </p:nvSpPr>
            <p:spPr>
              <a:xfrm>
                <a:off x="1042920" y="3213000"/>
                <a:ext cx="662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1325520" y="4076640"/>
                <a:ext cx="55548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.</a:t>
            </a:r>
            <a:br>
              <a:rPr sz="36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Комплексным числом называется выражение вид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где             -   действительные числа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,           мнимая единица.  Число           действительная часть комплексного числа        и обозначается             , а</a:t>
            </a: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мнимая часть и обозначается                ,     т.е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6659640" y="3933720"/>
                <a:ext cx="86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Объект 2"/>
              <p:cNvSpPr txBox="1"/>
              <p:nvPr/>
            </p:nvSpPr>
            <p:spPr>
              <a:xfrm>
                <a:off x="2843280" y="2637000"/>
                <a:ext cx="24238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3635280" y="4005360"/>
                <a:ext cx="515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3"/>
              <p:cNvSpPr txBox="1"/>
              <p:nvPr/>
            </p:nvSpPr>
            <p:spPr>
              <a:xfrm>
                <a:off x="1116000" y="3213000"/>
                <a:ext cx="10843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7"/>
              <p:cNvSpPr txBox="1"/>
              <p:nvPr/>
            </p:nvSpPr>
            <p:spPr>
              <a:xfrm>
                <a:off x="6227640" y="3213000"/>
                <a:ext cx="825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4"/>
              <p:cNvSpPr txBox="1"/>
              <p:nvPr/>
            </p:nvSpPr>
            <p:spPr>
              <a:xfrm>
                <a:off x="2987640" y="3645000"/>
                <a:ext cx="97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8028000" y="4005360"/>
                <a:ext cx="981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6"/>
              <p:cNvSpPr txBox="1"/>
              <p:nvPr/>
            </p:nvSpPr>
            <p:spPr>
              <a:xfrm>
                <a:off x="2484360" y="4869000"/>
                <a:ext cx="454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8"/>
              <p:cNvSpPr txBox="1"/>
              <p:nvPr/>
            </p:nvSpPr>
            <p:spPr>
              <a:xfrm>
                <a:off x="5580000" y="436572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6bcf"/>
                </a:solidFill>
                <a:latin typeface="Arial"/>
              </a:rPr>
              <a:t>Алгебраическая форма записи комплексн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836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1. Два комплексн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равны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0,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x=0; y=0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y=0,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то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    R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 Числа                                              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сопряженными и обознач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2"/>
              <p:cNvSpPr txBox="1"/>
              <p:nvPr/>
            </p:nvSpPr>
            <p:spPr>
              <a:xfrm>
                <a:off x="3564000" y="393372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755640" y="1511280"/>
                <a:ext cx="4038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403280" y="2135160"/>
                <a:ext cx="2732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6300720" y="5157720"/>
                <a:ext cx="1297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и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314440" y="4751280"/>
                <a:ext cx="394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9520" y="280800"/>
            <a:ext cx="822960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Такая форма записи комплексного числа называется </a:t>
            </a: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алгебраической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Изображается комплексное число точкой на комплекс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711360" y="2487600"/>
                <a:ext cx="789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348000" y="32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48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20840" y="3971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954160" y="50846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0072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6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3132000" y="3213000"/>
            <a:ext cx="0" cy="34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66560" y="4869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059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Для геометрического представления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комплексных чисел служат точки координатной плоскости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лоскость называется  комплексной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если каждому комплексному числу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соответствует точка плоскости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, причем это соответствие взаимно одноз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Оси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 и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, на которых расположены действительные числ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чисто мним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называются соответственно действительной и мнимой осями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Объект 1"/>
              <p:cNvSpPr txBox="1"/>
              <p:nvPr/>
            </p:nvSpPr>
            <p:spPr>
              <a:xfrm>
                <a:off x="4068720" y="3043080"/>
                <a:ext cx="2424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Объект 2"/>
              <p:cNvSpPr txBox="1"/>
              <p:nvPr/>
            </p:nvSpPr>
            <p:spPr>
              <a:xfrm>
                <a:off x="3203640" y="3433680"/>
                <a:ext cx="1805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Объект 4"/>
              <p:cNvSpPr txBox="1"/>
              <p:nvPr/>
            </p:nvSpPr>
            <p:spPr>
              <a:xfrm>
                <a:off x="755640" y="4581360"/>
                <a:ext cx="3335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Объект 5"/>
          <p:cNvGraphicFramePr/>
          <p:nvPr/>
        </p:nvGraphicFramePr>
        <p:xfrm>
          <a:off x="633240" y="5013360"/>
          <a:ext cx="3437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5013360"/>
                    <a:ext cx="3437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http://www.dsplib.ru/content/complex/complex_html_m5b082e0b.gif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0" y="196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Тригонометрическая форма записи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564000" y="1347840"/>
                <a:ext cx="5329080" cy="30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ϕ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611280" y="4516560"/>
                <a:ext cx="792144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дул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гум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ϕ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Line 12"/>
          <p:cNvSpPr/>
          <p:nvPr/>
        </p:nvSpPr>
        <p:spPr>
          <a:xfrm flipV="1">
            <a:off x="971640" y="1347480"/>
            <a:ext cx="0" cy="30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71640" y="2501640"/>
            <a:ext cx="194472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1527120" y="3154320"/>
            <a:ext cx="1224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042920" y="119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484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95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971640" y="2492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2843280" y="25653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611280" y="256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1649520" y="3106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2589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70036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26692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MANYA</cp:lastModifiedBy>
  <dcterms:modified xsi:type="dcterms:W3CDTF">2014-09-25T18:52:14Z</dcterms:modified>
  <cp:revision>44</cp:revision>
  <dc:subject/>
  <dc:title>Лекция 1</dc:title>
</cp:coreProperties>
</file>