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2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34.png" ContentType="image/png"/>
  <Override PartName="/ppt/media/image43.wmf" ContentType="image/x-wmf"/>
  <Override PartName="/ppt/media/image44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509-79D8-4B21-BF5B-52101077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FE0-59A5-4E62-9CB4-04703595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73B-731F-4E13-ABDA-FB18BAEF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18D-140A-429A-A432-22A0DB27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3F42-D343-41F9-87C4-82CC0CB8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8F2-DF3E-4A95-8D30-DCB0F90D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4BA3-FC8E-4AFD-B888-B27753F3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D36C-2143-4ED8-884C-2D319AA6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2CE1-7FFB-4FA1-9083-D5A2831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ECF4-3750-44AE-B463-F88CD97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DE5C-B987-40E8-B78A-A4C3B65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881-3BCC-488C-952F-FAE4826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EF56-2974-4B6B-95FB-D24A6B7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92D9-76A4-4577-882E-8A26D8F3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AE51-CA7F-495E-A794-3197F5B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DF49-422B-45FD-939D-892D45D4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373-FDCA-4604-B971-C56410F0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1F1-40DB-43B6-843D-2256F7AE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34D-72CB-4F24-9663-912303C1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B60-95E3-42C7-B192-0E65DD81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96E-1A07-4A75-86CC-3E24043D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089A-2E65-491B-947B-15544EF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6DA-E130-4870-A215-D078D731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BD6-B691-46E9-AE3C-367F84FE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C352-915D-4AE0-9C39-58EECEC6D4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772B-1C4A-4736-8DF7-32329F6BEB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Лекция  2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пределители второго и третьего поряд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4440"/>
            <a:ext cx="6629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Векторное произведение двух 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Смешанное произведение трех ве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не меняется при замене в нем всех строк соответствующи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номе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толбц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равен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сли содержит нулевую строку или нулевой столб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 равен 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одержит две  одинаковые строки  или  два  одинаковых  столб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ь определит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334520" y="275076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разложение по элементам первой стро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5148360" y="1484280"/>
          <a:ext cx="14396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84280"/>
                    <a:ext cx="14396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611280" y="3357720"/>
          <a:ext cx="748800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357720"/>
                    <a:ext cx="7488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684360" y="5013360"/>
          <a:ext cx="755964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013360"/>
                    <a:ext cx="7559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0"/>
          <p:cNvGraphicFramePr/>
          <p:nvPr/>
        </p:nvGraphicFramePr>
        <p:xfrm>
          <a:off x="684360" y="5516640"/>
          <a:ext cx="7559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5516640"/>
                    <a:ext cx="7559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присоединение двух дополнительных строк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684360" y="2492280"/>
          <a:ext cx="799308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99308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6"/>
          <p:cNvSpPr/>
          <p:nvPr/>
        </p:nvSpPr>
        <p:spPr>
          <a:xfrm>
            <a:off x="0" y="41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4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ычислить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348000" y="2009880"/>
          <a:ext cx="1693800" cy="14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09880"/>
                    <a:ext cx="16938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6"/>
          <p:cNvSpPr/>
          <p:nvPr/>
        </p:nvSpPr>
        <p:spPr>
          <a:xfrm>
            <a:off x="755640" y="3564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правило треугольников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7"/>
          <p:cNvGraphicFramePr/>
          <p:nvPr/>
        </p:nvGraphicFramePr>
        <p:xfrm>
          <a:off x="826920" y="3860640"/>
          <a:ext cx="7272360" cy="14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860640"/>
                    <a:ext cx="727236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1187280" y="5373720"/>
          <a:ext cx="72010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373720"/>
                    <a:ext cx="720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142560"/>
            <a:ext cx="8015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анарные век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9680" y="14288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вектора                   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анарным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ни лежат на одной плоскости или на параллельных  плос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тивном случае  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компланарны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хотя бы оди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екторов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евой, то эти  ве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ана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072040" y="135576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139760" y="3571920"/>
            <a:ext cx="3219480" cy="225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5429160" y="25718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929280" y="3857760"/>
                <a:ext cx="1000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иентация тройки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680" y="164304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152e"/>
                </a:solidFill>
                <a:latin typeface="Arial"/>
              </a:rPr>
              <a:t>Определение.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Три некомпланарных векто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бразуют правую тройку (левую тройку) или положительно ориентированным (отрицательно ориентированным), если с конца третьего вектор 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кратчайший поворот от первого вектора          ко  второму вектору        виден против часовой стрелки   ( по часовой стрелк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риентация тройки векто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не меняется при цикличес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перестановке этих векторов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785880" y="20001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Object 7"/>
          <p:cNvGraphicFramePr/>
          <p:nvPr/>
        </p:nvGraphicFramePr>
        <p:xfrm>
          <a:off x="714240" y="3214800"/>
          <a:ext cx="30024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3214800"/>
                    <a:ext cx="3002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9"/>
          <p:cNvGraphicFramePr/>
          <p:nvPr/>
        </p:nvGraphicFramePr>
        <p:xfrm>
          <a:off x="6786720" y="3143160"/>
          <a:ext cx="2314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143160"/>
                    <a:ext cx="231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1"/>
          <p:cNvGraphicFramePr/>
          <p:nvPr/>
        </p:nvGraphicFramePr>
        <p:xfrm>
          <a:off x="3429000" y="3571920"/>
          <a:ext cx="29988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71920"/>
                    <a:ext cx="299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2" descr="C:\Users\MANYA\Desktop\фото.JPG"/>
          <p:cNvPicPr/>
          <p:nvPr/>
        </p:nvPicPr>
        <p:blipFill>
          <a:blip r:embed="rId7"/>
          <a:stretch/>
        </p:blipFill>
        <p:spPr>
          <a:xfrm>
            <a:off x="4687920" y="4121280"/>
            <a:ext cx="1908000" cy="176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MANYA\Desktop\фото (1).JPG"/>
          <p:cNvPicPr/>
          <p:nvPr/>
        </p:nvPicPr>
        <p:blipFill>
          <a:blip r:embed="rId8"/>
          <a:stretch/>
        </p:blipFill>
        <p:spPr>
          <a:xfrm>
            <a:off x="6626160" y="4127400"/>
            <a:ext cx="18478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Векторным произведение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 вектор      называется вектор      удовлетворя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угол между векторов        и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       ортогонален векторам      и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образуют правую трой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вектора       на вектор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бозначается               или             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8197920" y="1571760"/>
          <a:ext cx="25236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7920" y="157176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"/>
          <p:cNvGraphicFramePr/>
          <p:nvPr/>
        </p:nvGraphicFramePr>
        <p:xfrm>
          <a:off x="2214720" y="2071800"/>
          <a:ext cx="32364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2071800"/>
                    <a:ext cx="3236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5357880" y="2000160"/>
          <a:ext cx="32364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7880" y="2000160"/>
                    <a:ext cx="323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8"/>
          <p:cNvGraphicFramePr/>
          <p:nvPr/>
        </p:nvGraphicFramePr>
        <p:xfrm>
          <a:off x="3340080" y="2857680"/>
          <a:ext cx="374760" cy="54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0080" y="2857680"/>
                    <a:ext cx="3747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9"/>
          <p:cNvGraphicFramePr/>
          <p:nvPr/>
        </p:nvGraphicFramePr>
        <p:xfrm>
          <a:off x="4857840" y="2786040"/>
          <a:ext cx="2190600" cy="5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2786040"/>
                    <a:ext cx="2190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0"/>
          <p:cNvGraphicFramePr/>
          <p:nvPr/>
        </p:nvGraphicFramePr>
        <p:xfrm>
          <a:off x="1785960" y="3429000"/>
          <a:ext cx="58752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85960" y="342900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1"/>
          <p:cNvGraphicFramePr/>
          <p:nvPr/>
        </p:nvGraphicFramePr>
        <p:xfrm>
          <a:off x="5572080" y="3357720"/>
          <a:ext cx="252360" cy="42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2080" y="335772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6572160" y="3357720"/>
          <a:ext cx="324000" cy="47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72160" y="3357720"/>
                    <a:ext cx="3240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2643120" y="41432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6" name="Object 16"/>
          <p:cNvGraphicFramePr/>
          <p:nvPr/>
        </p:nvGraphicFramePr>
        <p:xfrm>
          <a:off x="2286000" y="3714840"/>
          <a:ext cx="374760" cy="54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7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3714840"/>
                    <a:ext cx="374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8"/>
          <p:cNvGraphicFramePr/>
          <p:nvPr/>
        </p:nvGraphicFramePr>
        <p:xfrm>
          <a:off x="6000840" y="3786120"/>
          <a:ext cx="252360" cy="42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00840" y="378612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9"/>
          <p:cNvGraphicFramePr/>
          <p:nvPr/>
        </p:nvGraphicFramePr>
        <p:xfrm>
          <a:off x="6715080" y="3786120"/>
          <a:ext cx="32400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1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15080" y="3786120"/>
                    <a:ext cx="3240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0"/>
          <p:cNvGraphicFramePr/>
          <p:nvPr/>
        </p:nvGraphicFramePr>
        <p:xfrm>
          <a:off x="5715000" y="4643280"/>
          <a:ext cx="252360" cy="428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3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64328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7643880" y="4643280"/>
          <a:ext cx="323640" cy="47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43880" y="4643280"/>
                    <a:ext cx="3236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2"/>
          <p:cNvGraphicFramePr/>
          <p:nvPr/>
        </p:nvGraphicFramePr>
        <p:xfrm>
          <a:off x="2944800" y="5072040"/>
          <a:ext cx="722160" cy="477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57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44800" y="507204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4"/>
          <p:cNvGraphicFramePr/>
          <p:nvPr/>
        </p:nvGraphicFramePr>
        <p:xfrm>
          <a:off x="4653000" y="5081760"/>
          <a:ext cx="847800" cy="603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9" name="Object 2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53000" y="5081760"/>
                    <a:ext cx="847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1"/>
          <p:cNvGraphicFramePr/>
          <p:nvPr/>
        </p:nvGraphicFramePr>
        <p:xfrm>
          <a:off x="5724360" y="3510000"/>
          <a:ext cx="252720" cy="42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724360" y="3510000"/>
                    <a:ext cx="2527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215200" cy="40006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graphicFrame>
        <p:nvGraphicFramePr>
          <p:cNvPr id="264" name="Object 4"/>
          <p:cNvGraphicFramePr/>
          <p:nvPr/>
        </p:nvGraphicFramePr>
        <p:xfrm>
          <a:off x="4214880" y="5214960"/>
          <a:ext cx="3800520" cy="94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4880" y="5214960"/>
                    <a:ext cx="38005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5"/>
          <p:cNvGraphicFramePr/>
          <p:nvPr/>
        </p:nvGraphicFramePr>
        <p:xfrm>
          <a:off x="1785960" y="5214960"/>
          <a:ext cx="142884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5960" y="5214960"/>
                    <a:ext cx="14288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2643120" y="1785960"/>
          <a:ext cx="831960" cy="5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1785960"/>
                    <a:ext cx="8319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         равно нулю только и только тогда, когда векторы      коллинеа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    числено равна  площади параллелограмма, сторонами которого служат векторы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3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антикоммутативно, 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6143760" y="1571760"/>
          <a:ext cx="7221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157176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4"/>
          <p:cNvGraphicFramePr/>
          <p:nvPr/>
        </p:nvGraphicFramePr>
        <p:xfrm>
          <a:off x="7286760" y="1928880"/>
          <a:ext cx="10699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760" y="192888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4643280" y="2714760"/>
          <a:ext cx="7225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714760"/>
                    <a:ext cx="722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7"/>
          <p:cNvGraphicFramePr/>
          <p:nvPr/>
        </p:nvGraphicFramePr>
        <p:xfrm>
          <a:off x="3429000" y="3500280"/>
          <a:ext cx="106992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500280"/>
                    <a:ext cx="10699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3429000" y="4005360"/>
          <a:ext cx="1195560" cy="4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4005360"/>
                    <a:ext cx="1195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9"/>
          <p:cNvGraphicFramePr/>
          <p:nvPr/>
        </p:nvGraphicFramePr>
        <p:xfrm>
          <a:off x="3179880" y="5357880"/>
          <a:ext cx="169380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9880" y="5357880"/>
                    <a:ext cx="16938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второго поряд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второ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(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268360" y="2565360"/>
          <a:ext cx="17272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17272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2268360" y="4437000"/>
          <a:ext cx="446436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437000"/>
                    <a:ext cx="44643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я произвольных векторов                  и произвольного       выполняется неравенств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6643800" y="1557360"/>
          <a:ext cx="106992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155736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"/>
          <p:cNvGraphicFramePr/>
          <p:nvPr/>
        </p:nvGraphicFramePr>
        <p:xfrm>
          <a:off x="3286080" y="2000160"/>
          <a:ext cx="2746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000160"/>
                    <a:ext cx="2746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5"/>
          <p:cNvGraphicFramePr/>
          <p:nvPr/>
        </p:nvGraphicFramePr>
        <p:xfrm>
          <a:off x="2333520" y="2446200"/>
          <a:ext cx="23227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3520" y="2446200"/>
                    <a:ext cx="2322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ажение векторного произведение через прямоугольные коорди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5286240" y="128592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428760" y="1428840"/>
            <a:ext cx="4929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 - прямоугольная 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координат,                       орты координатных осей эт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2000160" y="1857240"/>
          <a:ext cx="1020960" cy="4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1857240"/>
                    <a:ext cx="10209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"/>
          <p:cNvGraphicFramePr/>
          <p:nvPr/>
        </p:nvGraphicFramePr>
        <p:xfrm>
          <a:off x="428760" y="2637000"/>
          <a:ext cx="4730760" cy="296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2637000"/>
                    <a:ext cx="47307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Объект 3"/>
              <p:cNvSpPr txBox="1"/>
              <p:nvPr/>
            </p:nvSpPr>
            <p:spPr>
              <a:xfrm>
                <a:off x="1619280" y="148428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 txBox="1"/>
          <p:nvPr/>
        </p:nvSpPr>
        <p:spPr>
          <a:xfrm>
            <a:off x="610920" y="1557000"/>
            <a:ext cx="7924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             -произвольные векторы пространства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Число              называется смешанным произведением векторов              и обозначается че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век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равно нулю тогда и только тогда, когда эти векторы компланар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трех некомпланарных  векторов равно объему параллелепипеда, построенного на этих векторах, взятому со знаком «+», если эти векторы образуют правую тройку, и со знаком «-», если они образуют левую трой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Объект 13"/>
              <p:cNvSpPr txBox="1"/>
              <p:nvPr/>
            </p:nvSpPr>
            <p:spPr>
              <a:xfrm>
                <a:off x="3949560" y="1920960"/>
                <a:ext cx="9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03" name="Picture 12" descr=""/>
          <p:cNvPicPr/>
          <p:nvPr/>
        </p:nvPicPr>
        <p:blipFill>
          <a:blip r:embed="rId1"/>
          <a:stretch/>
        </p:blipFill>
        <p:spPr>
          <a:xfrm>
            <a:off x="4435560" y="2352600"/>
            <a:ext cx="757080" cy="4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Объект 14"/>
              <p:cNvSpPr txBox="1"/>
              <p:nvPr/>
            </p:nvSpPr>
            <p:spPr>
              <a:xfrm>
                <a:off x="1679400" y="2708280"/>
                <a:ext cx="5053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5"/>
              <p:cNvSpPr txBox="1"/>
              <p:nvPr/>
            </p:nvSpPr>
            <p:spPr>
              <a:xfrm>
                <a:off x="7101000" y="2997360"/>
                <a:ext cx="10000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е смешанного произведения через прямоугольные координ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 </a:t>
            </a:r>
            <a:r>
              <a:rPr b="0" lang="en-US" sz="22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–прямоугольная система координат в пространстве, а                 орты координатных осей этой сист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Тогд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Следств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ек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компланарны только и только тогда, ког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Объект 3"/>
          <p:cNvGraphicFramePr/>
          <p:nvPr/>
        </p:nvGraphicFramePr>
        <p:xfrm>
          <a:off x="2987640" y="1916280"/>
          <a:ext cx="10209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916280"/>
                    <a:ext cx="10209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3132000" y="2637000"/>
                <a:ext cx="4599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8"/>
              <p:cNvSpPr txBox="1"/>
              <p:nvPr/>
            </p:nvSpPr>
            <p:spPr>
              <a:xfrm>
                <a:off x="1763640" y="3141720"/>
                <a:ext cx="226692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9"/>
              <p:cNvSpPr txBox="1"/>
              <p:nvPr/>
            </p:nvSpPr>
            <p:spPr>
              <a:xfrm>
                <a:off x="3708360" y="4221000"/>
                <a:ext cx="45990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2124000" y="5084640"/>
                <a:ext cx="26766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5528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Пример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Найти объем пирамиды с вершин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Решен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Данная пирамида построена на вектор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ычислим смешанное произведение этих векторов по формул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                                           </a:t>
            </a: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Ответ : 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4"/>
              <p:cNvSpPr txBox="1"/>
              <p:nvPr/>
            </p:nvSpPr>
            <p:spPr>
              <a:xfrm>
                <a:off x="1644480" y="2076480"/>
                <a:ext cx="4837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3,0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5"/>
              <p:cNvSpPr txBox="1"/>
              <p:nvPr/>
            </p:nvSpPr>
            <p:spPr>
              <a:xfrm>
                <a:off x="1403280" y="3068640"/>
                <a:ext cx="609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6"/>
              <p:cNvSpPr txBox="1"/>
              <p:nvPr/>
            </p:nvSpPr>
            <p:spPr>
              <a:xfrm>
                <a:off x="2322360" y="4005360"/>
                <a:ext cx="56343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8"/>
              <p:cNvSpPr txBox="1"/>
              <p:nvPr/>
            </p:nvSpPr>
            <p:spPr>
              <a:xfrm>
                <a:off x="1116000" y="5229360"/>
                <a:ext cx="2611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2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3059280" y="2492280"/>
          <a:ext cx="194436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492280"/>
                    <a:ext cx="19443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468360" y="4221000"/>
          <a:ext cx="7775640" cy="15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22100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З а м е ч а н и е 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может быть вычислен не только по формуле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зываемой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ем  определителя  по  элементам  первой  строк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Для вычисления определителя третьего порядка можно воспользоваться правилом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 определителя  по   элементам    л ю б о й    строки   (столбца)   матрицы   А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этом элементы выбранной строки (столбца) берут со знаками, указанными в следующей сх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есть знак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ставят у тех элементов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для которых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четное, 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–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неч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5796000" y="3357720"/>
          <a:ext cx="1487520" cy="15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357720"/>
                    <a:ext cx="1487520" cy="15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ав для разлож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торую стро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ля, получим формулу </a:t>
            </a:r>
            <a:r>
              <a:rPr b="0" i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определителя третьего порядка по элементам втор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755640" y="3716280"/>
          <a:ext cx="7921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7921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числения определителя третьего порядка можно воспользоваться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правилом  треуголь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826920" y="2276640"/>
          <a:ext cx="640908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64090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2411280" y="4076640"/>
          <a:ext cx="482472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76640"/>
                    <a:ext cx="4824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11"/>
          <p:cNvSpPr/>
          <p:nvPr/>
        </p:nvSpPr>
        <p:spPr>
          <a:xfrm>
            <a:off x="2771640" y="2565360"/>
            <a:ext cx="1152720" cy="122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932360" y="2565360"/>
            <a:ext cx="57636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H="1">
            <a:off x="4427640" y="256536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4427280" y="314172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6012000" y="3213000"/>
            <a:ext cx="50472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6516360" y="256536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6011640" y="25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V="1">
            <a:off x="2843280" y="4365720"/>
            <a:ext cx="1008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H="1">
            <a:off x="4427640" y="4365720"/>
            <a:ext cx="504720" cy="577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932360" y="436572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 flipV="1">
            <a:off x="4356000" y="4941720"/>
            <a:ext cx="115272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V="1">
            <a:off x="6516720" y="4941720"/>
            <a:ext cx="57636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 flipV="1">
            <a:off x="6011640" y="43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 flipV="1">
            <a:off x="6012000" y="436572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1252440" y="5790240"/>
            <a:ext cx="59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выделенные элементы нужно перемнож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получаемых перемножением элементов, попавших на параллельные линии матрицы, полученной из исходной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иписыванием к ней справа дополнительно первых двух столбцов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187280" y="2997360"/>
          <a:ext cx="676944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97360"/>
                    <a:ext cx="676944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6"/>
          <p:cNvSpPr/>
          <p:nvPr/>
        </p:nvSpPr>
        <p:spPr>
          <a:xfrm>
            <a:off x="298764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49236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067280" y="378936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565164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6227640" y="378900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73272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 получаемых перемножением элементов, попавших на  параллельные линии матрицы, полученной из исходной матрицы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исыванием к ней снизу дополнительно первых  двух строк матриц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971640" y="3429000"/>
          <a:ext cx="1658880" cy="16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16588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2700360" y="3141720"/>
          <a:ext cx="187488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141720"/>
                    <a:ext cx="18748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5065560" y="3141720"/>
          <a:ext cx="1898640" cy="22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560" y="3141720"/>
                    <a:ext cx="1898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9"/>
          <p:cNvSpPr/>
          <p:nvPr/>
        </p:nvSpPr>
        <p:spPr>
          <a:xfrm>
            <a:off x="3203640" y="3284640"/>
            <a:ext cx="863640" cy="936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203640" y="378936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3203640" y="422100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5651640" y="429228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5651640" y="378900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5651640" y="335736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3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квадратной матрице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рядка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где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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 ставится в соответствие число, называемое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определителем матриц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обозначаемое 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вычисляемое по правил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971640" y="2924280"/>
          <a:ext cx="136836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13683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971640" y="3500280"/>
          <a:ext cx="388764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38876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0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9"/>
          <p:cNvGraphicFramePr/>
          <p:nvPr/>
        </p:nvGraphicFramePr>
        <p:xfrm>
          <a:off x="971640" y="4581360"/>
          <a:ext cx="7704000" cy="13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770400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2"/>
          <p:cNvSpPr/>
          <p:nvPr/>
        </p:nvSpPr>
        <p:spPr>
          <a:xfrm>
            <a:off x="971640" y="58759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ак дал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09-11T09:09:04Z</dcterms:modified>
  <cp:revision>75</cp:revision>
  <dc:subject/>
  <dc:title>Определители второго и третьего порядка.</dc:title>
</cp:coreProperties>
</file>