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1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29.png" ContentType="image/png"/>
  <Override PartName="/ppt/media/image14.wmf" ContentType="image/x-wmf"/>
  <Override PartName="/ppt/media/image39.png" ContentType="image/png"/>
  <Override PartName="/ppt/media/image34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37.png" ContentType="image/png"/>
  <Override PartName="/ppt/media/image48.wmf" ContentType="image/x-wmf"/>
  <Override PartName="/ppt/media/image50.wmf" ContentType="image/x-wmf"/>
  <Override PartName="/ppt/media/image41.png" ContentType="image/png"/>
  <Override PartName="/ppt/media/image9.wmf" ContentType="image/x-wmf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49.wmf" ContentType="image/x-wmf"/>
  <Override PartName="/ppt/media/image12.wmf" ContentType="image/x-wmf"/>
  <Override PartName="/ppt/media/image7.wmf" ContentType="image/x-wmf"/>
  <Override PartName="/ppt/media/image51.wmf" ContentType="image/x-wmf"/>
  <Override PartName="/ppt/media/image11.png" ContentType="image/png"/>
  <Override PartName="/ppt/media/image47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8.wmf" ContentType="image/x-wmf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A96F-6806-4331-A8C7-56AD3184B4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37A6-32A8-424E-97A8-E86D0EE013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D8B4-1E1A-46A3-BDC7-0B7886B641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C4F-185C-4BB1-A716-FCF44D61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DF7-07B1-4359-8608-E6723F4E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A3E-ABBC-4C2F-ADCF-F4F1397F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501-DEE2-4941-99DD-5D017755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2763-D217-4085-976A-E38237D5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DDD7-7E7B-448B-AE4A-D090744A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ED31-710F-42E2-8114-775079E4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1DEA-C612-4F3C-A19B-B81CD61B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C511-3CC7-4B5E-88AD-41DADC14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D516-30A6-4A29-8520-6427A5A8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3ADA-6272-45EF-9DB5-D2904CF2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E34-A90E-4E79-AA76-AF0E7983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0492-1A82-46CB-ACD9-2413E466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7EC1-A231-4AAC-BD0C-D2775EFE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6BF5-906F-4AF2-8B6A-51B2FF80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C9F3-4A39-45B5-9BDC-34BDED54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0D6A-57BD-4D6D-88AA-8D1972A0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84800-0606-4F14-9EDB-777B7EE0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8C7A-A6B8-4A18-8B7A-88D57A9E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1272-9267-4971-8F67-8BF0BF14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769C0-56DB-4C04-A121-631A06B9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DED2-21B1-4A1C-AD0F-E0B6DA82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6B8-D2BB-4340-ACF0-39F61AD0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37C9A-9235-4D63-9C37-AD51BDAD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0B79-BA19-4475-B6B6-009FEC74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8B2CE-EB88-4E27-B46B-6DC41333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702D8-D21A-41FB-8C1E-72E941F5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D9EB3-D8C0-407B-8E59-51AA624B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CF050-ED61-4CD3-B947-C51D0B15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5A04-7B9E-4D59-A1BC-510C372B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E35FF-7129-46AC-8382-FA1E3924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B71B0-726B-4DCA-9819-D8DE2E8B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CC09-8795-4D43-AAFD-8086B91E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EB4-90FE-46C6-8D52-44929556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B097-7EBA-4F5B-AF0D-4165473C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FFA2E-6EF9-4206-B24F-14735E1A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9C2A5-42C1-47D1-9D2E-B233FBE8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E9FCE-82E1-45D6-A1B6-5483C53C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614E-570A-4706-994E-4C3F8DA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C3D3-B729-414D-8EF6-02935601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D7EF-110F-4EBA-9765-069A4EA0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4A061-ED94-446A-8653-2B83A353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EB42F-AC5E-4289-BFCF-6DE7AC8A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73C1C-17E1-4668-8D7F-97BB3DF0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BF4-5293-43CD-B61D-FEE7315D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6F282-912F-4F43-9B43-66BD115F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97CD5-A35A-48FF-AF6C-CC910D63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6DB11-D57A-4F96-84EE-FCFAC4C0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2B82B-E16C-459C-B437-A993BA0D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22B74-95C0-480B-83EC-FE5E256A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42106-F9D5-4099-8541-92851A6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5C7A5-F949-49D5-9655-AEDE8C9D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60425-EFAC-4237-A68B-BB30A6E2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7B7ED-297E-45AA-8BAD-BC6F352B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5E73B-8410-4858-832E-6ABC66DF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513-D4D3-4F6B-8FEA-E563317F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1AF58-D361-4142-BF5B-1AFE745C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1C4-8ED2-4FF0-9C42-C0E76A85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912-69DC-4A38-8DE8-670C204C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6BE-DE6A-4D57-BCA5-101CFD64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D733-7A28-40A9-8052-A4C9113E52D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828880" y="-6480"/>
            <a:ext cx="6900840" cy="6870960"/>
            <a:chOff x="2828880" y="-6480"/>
            <a:chExt cx="690084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828880" y="-6480"/>
              <a:ext cx="69008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35360" y="0"/>
              <a:ext cx="6886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83536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41680" y="6558120"/>
            <a:ext cx="21286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997000" y="6557760"/>
            <a:ext cx="311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7864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0A63-92D1-45F7-A520-12593961845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022720" y="6555960"/>
            <a:ext cx="21290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844280" y="6555960"/>
            <a:ext cx="3078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159320" y="655452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8457-1B6B-4D44-84F2-789FF842440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635040" y="1004400"/>
            <a:ext cx="459252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634680" y="998280"/>
            <a:ext cx="459252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7AE3-5343-4D3C-A6B5-FED0987D0FD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1152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85640" y="65559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49920" y="6552720"/>
            <a:ext cx="625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96F8-D315-4813-916A-264848601AD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792520" y="353880"/>
            <a:ext cx="71737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2000" y="1325520"/>
            <a:ext cx="8209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1.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ой дробью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дробь вида </a:t>
            </a: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                                         </a:t>
            </a: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где                           - многочле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2.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ая дробь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правильной, если степень многочлена        ниже степени многочлена           , в противном случае дробь называется неправильн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838600" y="2139840"/>
                <a:ext cx="13744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1260360" y="3262320"/>
                <a:ext cx="2143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6661080" y="4487760"/>
                <a:ext cx="92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4068720" y="4919760"/>
                <a:ext cx="1009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-42840" y="-103320"/>
            <a:ext cx="876600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665280" y="480960"/>
            <a:ext cx="7729560" cy="4334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60" y="714240"/>
            <a:ext cx="838980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Во всех четырех случаях   </a:t>
            </a:r>
            <a:r>
              <a:rPr b="0" i="1" lang="ru-RU" sz="2800" spc="-1" strike="noStrike">
                <a:solidFill>
                  <a:srgbClr val="3b142a"/>
                </a:solidFill>
                <a:latin typeface="Trebuchet MS"/>
              </a:rPr>
              <a:t>А,</a:t>
            </a:r>
            <a:r>
              <a:rPr b="0" i="1" lang="en-US" sz="2800" spc="-1" strike="noStrike">
                <a:solidFill>
                  <a:srgbClr val="3b142a"/>
                </a:solidFill>
                <a:latin typeface="Trebuchet MS"/>
              </a:rPr>
              <a:t> B, p, q, a  </a:t>
            </a:r>
            <a:r>
              <a:rPr b="0" lang="en-US" sz="2800" spc="-1" strike="noStrike">
                <a:solidFill>
                  <a:srgbClr val="3b142a"/>
                </a:solidFill>
                <a:latin typeface="Trebuchet MS"/>
              </a:rPr>
              <a:t>-</a:t>
            </a: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действительные числа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0"/>
              <p:cNvSpPr txBox="1"/>
              <p:nvPr/>
            </p:nvSpPr>
            <p:spPr>
              <a:xfrm>
                <a:off x="612720" y="981000"/>
                <a:ext cx="1478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612720" y="1766880"/>
                <a:ext cx="779148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л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больше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диницы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79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Теорема.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Всякая неправильная рациональная дробь представима в виде суммы многочлена (ее целой части) и правильной рациональной дроб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Замечание.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Такого представления можно достич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апример, с помощью деления многочленов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а             «в столбик»,  прекращая процедуру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деления как только степень многочлен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формировавшегося в остатк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танет меньш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тепени многочлена             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Теорема.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Всякую правильную рациональную дроб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можно представить в виде суммы конечного чис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остейших  рациональных дроб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1" name="Объект 4"/>
          <p:cNvGraphicFramePr/>
          <p:nvPr/>
        </p:nvGraphicFramePr>
        <p:xfrm>
          <a:off x="7381800" y="1916280"/>
          <a:ext cx="84636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1800" y="1916280"/>
                    <a:ext cx="8463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3" name="Объект 5"/>
              <p:cNvSpPr txBox="1"/>
              <p:nvPr/>
            </p:nvSpPr>
            <p:spPr>
              <a:xfrm>
                <a:off x="1189080" y="2421000"/>
                <a:ext cx="83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Объект 6"/>
              <p:cNvSpPr txBox="1"/>
              <p:nvPr/>
            </p:nvSpPr>
            <p:spPr>
              <a:xfrm>
                <a:off x="3808440" y="3789360"/>
                <a:ext cx="83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646200" y="255600"/>
            <a:ext cx="7748640" cy="7318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065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57" name="Прямоугольник 5"/>
          <p:cNvSpPr/>
          <p:nvPr/>
        </p:nvSpPr>
        <p:spPr>
          <a:xfrm>
            <a:off x="252360" y="126828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ля разложения рац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роби    надо сделать следующие алгебраические преобразования  и  вы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сли дана неправильная рациональная дробь, то выделить из нее целую часть,  т.е представить в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ногочлен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авильная рациональная дро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0"/>
              <p:cNvSpPr txBox="1"/>
              <p:nvPr/>
            </p:nvSpPr>
            <p:spPr>
              <a:xfrm>
                <a:off x="2124000" y="1844640"/>
                <a:ext cx="1224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116000" y="4508640"/>
                <a:ext cx="504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6"/>
              <p:cNvSpPr txBox="1"/>
              <p:nvPr/>
            </p:nvSpPr>
            <p:spPr>
              <a:xfrm>
                <a:off x="1217520" y="5589720"/>
                <a:ext cx="1266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0658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324000" y="527040"/>
            <a:ext cx="820872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3427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зложить знаменатель дроби на линейные и квадратичные множ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авильную рациональную дробь разложить на простейшие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практике осуществить разложение правильной рациональной дроби    на сумму простейших рациональных дробей можно по следующей  сх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ти корни многоч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едставить его в виде разложения на множи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8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Объект 2"/>
              <p:cNvSpPr txBox="1"/>
              <p:nvPr/>
            </p:nvSpPr>
            <p:spPr>
              <a:xfrm>
                <a:off x="1620720" y="4292640"/>
                <a:ext cx="5040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Объект 4"/>
              <p:cNvSpPr txBox="1"/>
              <p:nvPr/>
            </p:nvSpPr>
            <p:spPr>
              <a:xfrm>
                <a:off x="684360" y="5877000"/>
                <a:ext cx="7753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4544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исать разложение с неопределенными коэффициента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Объект 5"/>
              <p:cNvSpPr txBox="1"/>
              <p:nvPr/>
            </p:nvSpPr>
            <p:spPr>
              <a:xfrm>
                <a:off x="1332000" y="1341360"/>
                <a:ext cx="68133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Объект 7"/>
              <p:cNvSpPr txBox="1"/>
              <p:nvPr/>
            </p:nvSpPr>
            <p:spPr>
              <a:xfrm>
                <a:off x="1332000" y="2133720"/>
                <a:ext cx="4365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Объект 9"/>
              <p:cNvSpPr txBox="1"/>
              <p:nvPr/>
            </p:nvSpPr>
            <p:spPr>
              <a:xfrm>
                <a:off x="5653080" y="2133720"/>
                <a:ext cx="2228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Объект 11"/>
              <p:cNvSpPr txBox="1"/>
              <p:nvPr/>
            </p:nvSpPr>
            <p:spPr>
              <a:xfrm>
                <a:off x="1332000" y="2924280"/>
                <a:ext cx="18097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l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l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6" name="Прямоугольник 12"/>
          <p:cNvSpPr/>
          <p:nvPr/>
        </p:nvSpPr>
        <p:spPr>
          <a:xfrm>
            <a:off x="991440" y="364500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Определить коэффици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Объект 14"/>
              <p:cNvSpPr txBox="1"/>
              <p:nvPr/>
            </p:nvSpPr>
            <p:spPr>
              <a:xfrm>
                <a:off x="1405080" y="4149720"/>
                <a:ext cx="2919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Rectangle 1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Объект 16"/>
              <p:cNvSpPr txBox="1"/>
              <p:nvPr/>
            </p:nvSpPr>
            <p:spPr>
              <a:xfrm>
                <a:off x="4284720" y="4149720"/>
                <a:ext cx="12175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Объект 18"/>
              <p:cNvSpPr txBox="1"/>
              <p:nvPr/>
            </p:nvSpPr>
            <p:spPr>
              <a:xfrm>
                <a:off x="6805440" y="4753080"/>
                <a:ext cx="2876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Rectangle 15"/>
          <p:cNvSpPr/>
          <p:nvPr/>
        </p:nvSpPr>
        <p:spPr>
          <a:xfrm>
            <a:off x="4934160" y="4773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1376280" y="4660560"/>
            <a:ext cx="67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уммарное число  которых равно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Объект 21"/>
              <p:cNvSpPr txBox="1"/>
              <p:nvPr/>
            </p:nvSpPr>
            <p:spPr>
              <a:xfrm>
                <a:off x="152280" y="60948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18"/>
          <p:cNvSpPr/>
          <p:nvPr/>
        </p:nvSpPr>
        <p:spPr>
          <a:xfrm>
            <a:off x="5086440" y="6296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80960" y="268200"/>
            <a:ext cx="7840800" cy="719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85280" y="1125000"/>
            <a:ext cx="7975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lnSpc>
                <a:spcPct val="100000"/>
              </a:lnSpc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 р и м е р.  Определить, какие из указанных рациональных дробей являются правильными: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)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Объект 5"/>
              <p:cNvSpPr txBox="1"/>
              <p:nvPr/>
            </p:nvSpPr>
            <p:spPr>
              <a:xfrm>
                <a:off x="1620720" y="2205000"/>
                <a:ext cx="22478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Объект 7"/>
              <p:cNvSpPr txBox="1"/>
              <p:nvPr/>
            </p:nvSpPr>
            <p:spPr>
              <a:xfrm>
                <a:off x="1620720" y="3141720"/>
                <a:ext cx="222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Объект 9"/>
              <p:cNvSpPr txBox="1"/>
              <p:nvPr/>
            </p:nvSpPr>
            <p:spPr>
              <a:xfrm>
                <a:off x="2052720" y="4076640"/>
                <a:ext cx="1693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84200" y="333000"/>
            <a:ext cx="797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135640" cy="2595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8135640" cy="2089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Объект 2"/>
              <p:cNvSpPr txBox="1"/>
              <p:nvPr/>
            </p:nvSpPr>
            <p:spPr>
              <a:xfrm>
                <a:off x="2548080" y="5084640"/>
                <a:ext cx="36874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85280" y="333000"/>
            <a:ext cx="7975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Пример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ложить  дробь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 сумму простейших рациональных дробей  и  найти  коэффициенты разложения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едставим ее в виде суммы простейших дробей, учитыва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0" name="Рисунок 10" descr=""/>
          <p:cNvPicPr/>
          <p:nvPr/>
        </p:nvPicPr>
        <p:blipFill>
          <a:blip r:embed="rId1"/>
          <a:stretch/>
        </p:blipFill>
        <p:spPr>
          <a:xfrm>
            <a:off x="2197080" y="4869000"/>
            <a:ext cx="4175280" cy="75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Объект 1"/>
          <p:cNvGraphicFramePr/>
          <p:nvPr/>
        </p:nvGraphicFramePr>
        <p:xfrm>
          <a:off x="2343240" y="836640"/>
          <a:ext cx="322560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3240" y="836640"/>
                    <a:ext cx="32256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1" descr=""/>
          <p:cNvPicPr/>
          <p:nvPr/>
        </p:nvPicPr>
        <p:blipFill>
          <a:blip r:embed="rId1"/>
          <a:stretch/>
        </p:blipFill>
        <p:spPr>
          <a:xfrm>
            <a:off x="325440" y="333360"/>
            <a:ext cx="7128000" cy="113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Объект 6"/>
              <p:cNvSpPr txBox="1"/>
              <p:nvPr/>
            </p:nvSpPr>
            <p:spPr>
              <a:xfrm>
                <a:off x="252360" y="1700280"/>
                <a:ext cx="831060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323640" y="3500280"/>
            <a:ext cx="54594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иравняем числители дробей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Объект 9"/>
              <p:cNvSpPr txBox="1"/>
              <p:nvPr/>
            </p:nvSpPr>
            <p:spPr>
              <a:xfrm>
                <a:off x="252360" y="4365720"/>
                <a:ext cx="772632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17080" y="1609200"/>
            <a:ext cx="83581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пределение.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ногочленом от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тепе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целой рациональной функцией о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зывается функция вид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                                действительные числа,     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независимая комплексная переменна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пределение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начения       при которых многочле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вен нулю, называются корнями многочлена.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Rectangle 8" descr=""/>
          <p:cNvPicPr/>
          <p:nvPr/>
        </p:nvPicPr>
        <p:blipFill>
          <a:blip r:embed="rId1"/>
          <a:stretch/>
        </p:blipFill>
        <p:spPr>
          <a:xfrm>
            <a:off x="480960" y="317520"/>
            <a:ext cx="770580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"/>
          <p:cNvGraphicFramePr/>
          <p:nvPr/>
        </p:nvGraphicFramePr>
        <p:xfrm>
          <a:off x="5932440" y="1643040"/>
          <a:ext cx="365040" cy="4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32440" y="164304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3"/>
          <p:cNvGraphicFramePr/>
          <p:nvPr/>
        </p:nvGraphicFramePr>
        <p:xfrm>
          <a:off x="360360" y="2143080"/>
          <a:ext cx="365040" cy="42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360" y="214308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5"/>
          <p:cNvGraphicFramePr/>
          <p:nvPr/>
        </p:nvGraphicFramePr>
        <p:xfrm>
          <a:off x="7147080" y="2214720"/>
          <a:ext cx="365040" cy="42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7080" y="2214720"/>
                    <a:ext cx="3650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2003400" y="3071880"/>
          <a:ext cx="494352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3400" y="3071880"/>
                    <a:ext cx="49435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9"/>
          <p:cNvGraphicFramePr/>
          <p:nvPr/>
        </p:nvGraphicFramePr>
        <p:xfrm>
          <a:off x="1217520" y="3571920"/>
          <a:ext cx="2895840" cy="485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1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7520" y="3571920"/>
                    <a:ext cx="28958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"/>
          <p:cNvGraphicFramePr/>
          <p:nvPr/>
        </p:nvGraphicFramePr>
        <p:xfrm>
          <a:off x="217440" y="3929040"/>
          <a:ext cx="365040" cy="420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3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7440" y="392904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2"/>
          <p:cNvGraphicFramePr/>
          <p:nvPr/>
        </p:nvGraphicFramePr>
        <p:xfrm>
          <a:off x="4289400" y="4429080"/>
          <a:ext cx="365040" cy="420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5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89400" y="442908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7" name="Object 7"/>
              <p:cNvSpPr txBox="1"/>
              <p:nvPr/>
            </p:nvSpPr>
            <p:spPr>
              <a:xfrm>
                <a:off x="684360" y="333360"/>
                <a:ext cx="3828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8"/>
              <p:cNvSpPr txBox="1"/>
              <p:nvPr/>
            </p:nvSpPr>
            <p:spPr>
              <a:xfrm>
                <a:off x="5005440" y="333360"/>
                <a:ext cx="3195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539640" y="1628640"/>
                <a:ext cx="477684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10" name="Object 11"/>
          <p:cNvGraphicFramePr/>
          <p:nvPr/>
        </p:nvGraphicFramePr>
        <p:xfrm>
          <a:off x="5869080" y="1916280"/>
          <a:ext cx="147456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9080" y="1916280"/>
                    <a:ext cx="14745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2" name="Объект 2"/>
              <p:cNvSpPr txBox="1"/>
              <p:nvPr/>
            </p:nvSpPr>
            <p:spPr>
              <a:xfrm>
                <a:off x="1863720" y="3068640"/>
                <a:ext cx="5835600" cy="34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5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6</m:t>
                                </m:r>
                              </m:den>
                            </m:f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2"/>
          <p:cNvSpPr/>
          <p:nvPr/>
        </p:nvSpPr>
        <p:spPr>
          <a:xfrm>
            <a:off x="108000" y="404640"/>
            <a:ext cx="8569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Пример .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зложить  дробь  на сумму простейших рациональных дробей  и  найти  коэффициенты раз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ь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равильная. Ее знаменатель имеет вид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ем у квадратного трехчлена                         дискриминант меньше нуля,  и он не разлагается на линейные множители с действительными  коэффициен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Объект 4"/>
              <p:cNvSpPr txBox="1"/>
              <p:nvPr/>
            </p:nvSpPr>
            <p:spPr>
              <a:xfrm>
                <a:off x="2413080" y="1484280"/>
                <a:ext cx="3671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Rectangle 1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Объект 6"/>
              <p:cNvSpPr txBox="1"/>
              <p:nvPr/>
            </p:nvSpPr>
            <p:spPr>
              <a:xfrm>
                <a:off x="1368360" y="3500280"/>
                <a:ext cx="5940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Объект 8"/>
              <p:cNvSpPr txBox="1"/>
              <p:nvPr/>
            </p:nvSpPr>
            <p:spPr>
              <a:xfrm>
                <a:off x="5076720" y="4221000"/>
                <a:ext cx="2232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9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Объект 4"/>
              <p:cNvSpPr txBox="1"/>
              <p:nvPr/>
            </p:nvSpPr>
            <p:spPr>
              <a:xfrm>
                <a:off x="36360" y="260280"/>
                <a:ext cx="86472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Rectangle 1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Объект 6"/>
              <p:cNvSpPr txBox="1"/>
              <p:nvPr/>
            </p:nvSpPr>
            <p:spPr>
              <a:xfrm>
                <a:off x="1332000" y="1457280"/>
                <a:ext cx="26859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/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TextBox 7"/>
          <p:cNvSpPr/>
          <p:nvPr/>
        </p:nvSpPr>
        <p:spPr>
          <a:xfrm>
            <a:off x="328680" y="1484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Объект 9"/>
              <p:cNvSpPr txBox="1"/>
              <p:nvPr/>
            </p:nvSpPr>
            <p:spPr>
              <a:xfrm>
                <a:off x="1604880" y="2852640"/>
                <a:ext cx="65120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7" name="Прямоугольник 10"/>
          <p:cNvSpPr/>
          <p:nvPr/>
        </p:nvSpPr>
        <p:spPr>
          <a:xfrm>
            <a:off x="252360" y="1989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иска коэффициентов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приведем   к общему знаменателю и приравняем числи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Объект 12"/>
              <p:cNvSpPr txBox="1"/>
              <p:nvPr/>
            </p:nvSpPr>
            <p:spPr>
              <a:xfrm>
                <a:off x="1668600" y="5445000"/>
                <a:ext cx="31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Прямоугольник 14"/>
          <p:cNvSpPr/>
          <p:nvPr/>
        </p:nvSpPr>
        <p:spPr>
          <a:xfrm>
            <a:off x="36360" y="4292640"/>
            <a:ext cx="48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правило: многочлены равны, если равны коэффициенты при одинаковых степенях       .   Это приводит к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1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Объект 16"/>
              <p:cNvSpPr txBox="1"/>
              <p:nvPr/>
            </p:nvSpPr>
            <p:spPr>
              <a:xfrm>
                <a:off x="4861080" y="4149720"/>
                <a:ext cx="3516120" cy="24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Объект 17"/>
              <p:cNvSpPr txBox="1"/>
              <p:nvPr/>
            </p:nvSpPr>
            <p:spPr>
              <a:xfrm>
                <a:off x="152280" y="60948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85280" y="333000"/>
            <a:ext cx="7975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ставив найденные числа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В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С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D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в разложение, приходим к равенству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Объект 6"/>
              <p:cNvSpPr txBox="1"/>
              <p:nvPr/>
            </p:nvSpPr>
            <p:spPr>
              <a:xfrm>
                <a:off x="868320" y="549360"/>
                <a:ext cx="18320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6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Объект 8"/>
              <p:cNvSpPr txBox="1"/>
              <p:nvPr/>
            </p:nvSpPr>
            <p:spPr>
              <a:xfrm>
                <a:off x="2989440" y="1341360"/>
                <a:ext cx="465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Объект 10"/>
              <p:cNvSpPr txBox="1"/>
              <p:nvPr/>
            </p:nvSpPr>
            <p:spPr>
              <a:xfrm>
                <a:off x="3852720" y="620640"/>
                <a:ext cx="987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Rectangle 11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Объект 12"/>
              <p:cNvSpPr txBox="1"/>
              <p:nvPr/>
            </p:nvSpPr>
            <p:spPr>
              <a:xfrm>
                <a:off x="900000" y="3860640"/>
                <a:ext cx="30704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Rectangle 13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Объект 14"/>
              <p:cNvSpPr txBox="1"/>
              <p:nvPr/>
            </p:nvSpPr>
            <p:spPr>
              <a:xfrm>
                <a:off x="3943440" y="3860640"/>
                <a:ext cx="3438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Прямоугольник 6" descr=""/>
          <p:cNvPicPr/>
          <p:nvPr/>
        </p:nvPicPr>
        <p:blipFill>
          <a:blip r:embed="rId1"/>
          <a:stretch/>
        </p:blipFill>
        <p:spPr>
          <a:xfrm>
            <a:off x="743040" y="1427040"/>
            <a:ext cx="7065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7705800" cy="1159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85280" y="1213920"/>
            <a:ext cx="7947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Теорема (основная теорема алгебры)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ое уравнение вид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меет  ровно        корней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действительных или комплексных, простых и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ратных) и может быть представлен в вид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ложения на линейные множители: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8" name="Object 2"/>
          <p:cNvGraphicFramePr/>
          <p:nvPr/>
        </p:nvGraphicFramePr>
        <p:xfrm>
          <a:off x="3421080" y="1917720"/>
          <a:ext cx="4836960" cy="10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1080" y="1917720"/>
                    <a:ext cx="48369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3"/>
          <p:cNvGraphicFramePr/>
          <p:nvPr/>
        </p:nvGraphicFramePr>
        <p:xfrm>
          <a:off x="2844720" y="3068640"/>
          <a:ext cx="365040" cy="42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4720" y="306864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4716360" y="2924280"/>
          <a:ext cx="1351080" cy="54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2924280"/>
                    <a:ext cx="1351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601560" y="5043600"/>
          <a:ext cx="7427880" cy="68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1560" y="5043600"/>
                    <a:ext cx="74278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85280" y="70920"/>
            <a:ext cx="8161560" cy="657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                               корни уравн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пределение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оворят, что корень             имеет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ратность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если множител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ходит в разложение              раз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реди корней могут быть действительные разные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йствительные кратные и комплексны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С в о й с т в о  1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многочлен             имеет комплексный корень                  (где               )  кратности        , то этот многочлен имеет также сопряженный корень                 ,  кратность которого равна            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72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3"/>
          <p:cNvGraphicFramePr/>
          <p:nvPr/>
        </p:nvGraphicFramePr>
        <p:xfrm>
          <a:off x="1217520" y="0"/>
          <a:ext cx="259884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0"/>
                    <a:ext cx="25988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6789600" y="642960"/>
          <a:ext cx="41148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9600" y="642960"/>
                    <a:ext cx="4114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3646440" y="1285920"/>
          <a:ext cx="174636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6440" y="1285920"/>
                    <a:ext cx="1746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9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8"/>
          <p:cNvGraphicFramePr/>
          <p:nvPr/>
        </p:nvGraphicFramePr>
        <p:xfrm>
          <a:off x="860400" y="1928880"/>
          <a:ext cx="11239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0400" y="1928880"/>
                    <a:ext cx="11239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0"/>
          <p:cNvGraphicFramePr/>
          <p:nvPr/>
        </p:nvGraphicFramePr>
        <p:xfrm>
          <a:off x="5646600" y="1928880"/>
          <a:ext cx="1175040" cy="53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46600" y="1928880"/>
                    <a:ext cx="1175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1"/>
          <p:cNvGraphicFramePr/>
          <p:nvPr/>
        </p:nvGraphicFramePr>
        <p:xfrm>
          <a:off x="6361200" y="3929040"/>
          <a:ext cx="846000" cy="53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61200" y="3929040"/>
                    <a:ext cx="8460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Rectangle 13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2"/>
          <p:cNvGraphicFramePr/>
          <p:nvPr/>
        </p:nvGraphicFramePr>
        <p:xfrm>
          <a:off x="4361040" y="4500720"/>
          <a:ext cx="98712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61040" y="4500720"/>
                    <a:ext cx="987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1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14"/>
          <p:cNvGraphicFramePr/>
          <p:nvPr/>
        </p:nvGraphicFramePr>
        <p:xfrm>
          <a:off x="6805440" y="4581360"/>
          <a:ext cx="978120" cy="47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5440" y="4581360"/>
                    <a:ext cx="9781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16"/>
          <p:cNvGraphicFramePr/>
          <p:nvPr/>
        </p:nvGraphicFramePr>
        <p:xfrm>
          <a:off x="2503440" y="5143680"/>
          <a:ext cx="457200" cy="50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2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03440" y="5143680"/>
                    <a:ext cx="45720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9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18"/>
          <p:cNvGraphicFramePr/>
          <p:nvPr/>
        </p:nvGraphicFramePr>
        <p:xfrm>
          <a:off x="4361040" y="5715000"/>
          <a:ext cx="98712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5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61040" y="5715000"/>
                    <a:ext cx="987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21"/>
          <p:cNvGraphicFramePr/>
          <p:nvPr/>
        </p:nvGraphicFramePr>
        <p:xfrm>
          <a:off x="3503520" y="6310440"/>
          <a:ext cx="457200" cy="503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7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03520" y="6310440"/>
                    <a:ext cx="457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85640" y="428760"/>
            <a:ext cx="80899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 в о й с т в о   2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Если оставить в перечне корней многочлена          только различные корни и учесть их кратность, то  этот многочлен можно представить в виде произвед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исла                                                  ,   в данн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ложении  являются действительными,  причем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89" name="Object 2"/>
          <p:cNvGraphicFramePr/>
          <p:nvPr/>
        </p:nvGraphicFramePr>
        <p:xfrm>
          <a:off x="3860640" y="1143000"/>
          <a:ext cx="84636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1143000"/>
                    <a:ext cx="8463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3"/>
          <p:cNvGraphicFramePr/>
          <p:nvPr/>
        </p:nvGraphicFramePr>
        <p:xfrm>
          <a:off x="289080" y="2876400"/>
          <a:ext cx="8162640" cy="11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080" y="2876400"/>
                    <a:ext cx="8162640" cy="11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574560" y="4214880"/>
          <a:ext cx="412272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560" y="4214880"/>
                    <a:ext cx="41227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8"/>
          <p:cNvGraphicFramePr/>
          <p:nvPr/>
        </p:nvGraphicFramePr>
        <p:xfrm>
          <a:off x="1789200" y="4844880"/>
          <a:ext cx="4471920" cy="5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9200" y="4844880"/>
                    <a:ext cx="44719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9"/>
          <p:cNvGraphicFramePr/>
          <p:nvPr/>
        </p:nvGraphicFramePr>
        <p:xfrm>
          <a:off x="1336680" y="5961240"/>
          <a:ext cx="5808600" cy="53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6680" y="5961240"/>
                    <a:ext cx="5808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80960" y="231840"/>
            <a:ext cx="8759880" cy="53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85640" y="981000"/>
            <a:ext cx="8120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Теорема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таток          от деления многочлен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  функцию            равен          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Доказательство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елим многочлен          на   линейную функцию          , получим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            многочлен степени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таток от дел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ставляя в формулу                 , получим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сюда  имеем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Объект 8"/>
              <p:cNvSpPr txBox="1"/>
              <p:nvPr/>
            </p:nvSpPr>
            <p:spPr>
              <a:xfrm>
                <a:off x="6732720" y="1989000"/>
                <a:ext cx="696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Объект 11"/>
              <p:cNvSpPr txBox="1"/>
              <p:nvPr/>
            </p:nvSpPr>
            <p:spPr>
              <a:xfrm>
                <a:off x="3927600" y="1484280"/>
                <a:ext cx="861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Объект 12"/>
              <p:cNvSpPr txBox="1"/>
              <p:nvPr/>
            </p:nvSpPr>
            <p:spPr>
              <a:xfrm>
                <a:off x="6072120" y="1519200"/>
                <a:ext cx="6606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Объект 15"/>
              <p:cNvSpPr txBox="1"/>
              <p:nvPr/>
            </p:nvSpPr>
            <p:spPr>
              <a:xfrm>
                <a:off x="757080" y="155736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Объект 16"/>
              <p:cNvSpPr txBox="1"/>
              <p:nvPr/>
            </p:nvSpPr>
            <p:spPr>
              <a:xfrm>
                <a:off x="3708360" y="2421000"/>
                <a:ext cx="862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Объект 17"/>
              <p:cNvSpPr txBox="1"/>
              <p:nvPr/>
            </p:nvSpPr>
            <p:spPr>
              <a:xfrm>
                <a:off x="1863720" y="2827440"/>
                <a:ext cx="4538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Объект 18"/>
              <p:cNvSpPr txBox="1"/>
              <p:nvPr/>
            </p:nvSpPr>
            <p:spPr>
              <a:xfrm>
                <a:off x="1260360" y="3284640"/>
                <a:ext cx="1065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Объект 19"/>
              <p:cNvSpPr txBox="1"/>
              <p:nvPr/>
            </p:nvSpPr>
            <p:spPr>
              <a:xfrm>
                <a:off x="5653080" y="3357720"/>
                <a:ext cx="13431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Объект 21"/>
              <p:cNvSpPr txBox="1"/>
              <p:nvPr/>
            </p:nvSpPr>
            <p:spPr>
              <a:xfrm>
                <a:off x="3637080" y="1052640"/>
                <a:ext cx="658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22"/>
              <p:cNvSpPr txBox="1"/>
              <p:nvPr/>
            </p:nvSpPr>
            <p:spPr>
              <a:xfrm>
                <a:off x="4286160" y="4292640"/>
                <a:ext cx="43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Объект 23"/>
              <p:cNvSpPr txBox="1"/>
              <p:nvPr/>
            </p:nvSpPr>
            <p:spPr>
              <a:xfrm>
                <a:off x="4932360" y="4373640"/>
                <a:ext cx="709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Объект 24"/>
              <p:cNvSpPr txBox="1"/>
              <p:nvPr/>
            </p:nvSpPr>
            <p:spPr>
              <a:xfrm>
                <a:off x="2071800" y="4797360"/>
                <a:ext cx="4235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Объект 25"/>
              <p:cNvSpPr txBox="1"/>
              <p:nvPr/>
            </p:nvSpPr>
            <p:spPr>
              <a:xfrm>
                <a:off x="3060720" y="5708520"/>
                <a:ext cx="2308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759880" cy="646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85280" y="1125000"/>
            <a:ext cx="8047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исло    является корнем многочлена       только и только тогда, когда          делится 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з остат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вободный член многочлена делится на любой целый корень многочлена с целыми коэффициентами равен 1, то все рациональные корни являются и цел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усть    целый корень приведенного многочле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целыми коэффициентами. Тогда дл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ого целого    число          делится 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7" descr="P(x)"/>
          <p:cNvPicPr/>
          <p:nvPr/>
        </p:nvPicPr>
        <p:blipFill>
          <a:blip r:embed="rId2"/>
          <a:stretch/>
        </p:blipFill>
        <p:spPr>
          <a:xfrm>
            <a:off x="10131480" y="-196920"/>
            <a:ext cx="380880" cy="2001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P(x)=0"/>
          <p:cNvPicPr/>
          <p:nvPr/>
        </p:nvPicPr>
        <p:blipFill>
          <a:blip r:embed="rId3"/>
          <a:stretch/>
        </p:blipFill>
        <p:spPr>
          <a:xfrm>
            <a:off x="14009760" y="-196920"/>
            <a:ext cx="733320" cy="2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0" name="Объект 6"/>
              <p:cNvSpPr txBox="1"/>
              <p:nvPr/>
            </p:nvSpPr>
            <p:spPr>
              <a:xfrm>
                <a:off x="1908000" y="1268280"/>
                <a:ext cx="2206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Объект 8"/>
              <p:cNvSpPr txBox="1"/>
              <p:nvPr/>
            </p:nvSpPr>
            <p:spPr>
              <a:xfrm>
                <a:off x="6732720" y="1197000"/>
                <a:ext cx="695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Объект 9"/>
              <p:cNvSpPr txBox="1"/>
              <p:nvPr/>
            </p:nvSpPr>
            <p:spPr>
              <a:xfrm>
                <a:off x="4429080" y="155736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Объект 10"/>
              <p:cNvSpPr txBox="1"/>
              <p:nvPr/>
            </p:nvSpPr>
            <p:spPr>
              <a:xfrm>
                <a:off x="7164360" y="155736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Объект 11"/>
              <p:cNvSpPr txBox="1"/>
              <p:nvPr/>
            </p:nvSpPr>
            <p:spPr>
              <a:xfrm>
                <a:off x="1692360" y="4302000"/>
                <a:ext cx="482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Объект 12"/>
              <p:cNvSpPr txBox="1"/>
              <p:nvPr/>
            </p:nvSpPr>
            <p:spPr>
              <a:xfrm>
                <a:off x="900000" y="4653000"/>
                <a:ext cx="760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Объект 13"/>
              <p:cNvSpPr txBox="1"/>
              <p:nvPr/>
            </p:nvSpPr>
            <p:spPr>
              <a:xfrm>
                <a:off x="3205080" y="5084640"/>
                <a:ext cx="254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Объект 14"/>
              <p:cNvSpPr txBox="1"/>
              <p:nvPr/>
            </p:nvSpPr>
            <p:spPr>
              <a:xfrm>
                <a:off x="1405080" y="5589720"/>
                <a:ext cx="861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Объект 15"/>
              <p:cNvSpPr txBox="1"/>
              <p:nvPr/>
            </p:nvSpPr>
            <p:spPr>
              <a:xfrm>
                <a:off x="4460760" y="5132520"/>
                <a:ext cx="760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80960" y="268200"/>
            <a:ext cx="8759880" cy="1006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108000" y="1600200"/>
            <a:ext cx="8424720" cy="1541520"/>
          </a:xfrm>
          <a:prstGeom prst="rect">
            <a:avLst/>
          </a:prstGeom>
          <a:gradFill rotWithShape="0">
            <a:gsLst>
              <a:gs pos="0">
                <a:srgbClr val="f4e7ed"/>
              </a:gs>
              <a:gs pos="100000">
                <a:srgbClr val="f5e0e5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34000"/>
          </a:bodyPr>
          <a:p>
            <a:pPr marL="92520" indent="-92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rebuchet MS"/>
              </a:rPr>
              <a:t>Пример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ложить квадратный трехчлен  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множител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rebuchet MS"/>
              </a:rPr>
              <a:t>Решение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йдем корни многочлена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 2.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азложить многочлен третьей степе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1" name="Рисунок 5" descr="формула"/>
          <p:cNvPicPr/>
          <p:nvPr/>
        </p:nvPicPr>
        <p:blipFill>
          <a:blip r:embed="rId2"/>
          <a:stretch/>
        </p:blipFill>
        <p:spPr>
          <a:xfrm>
            <a:off x="5724360" y="2060640"/>
            <a:ext cx="1764000" cy="468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3"/>
          <a:stretch/>
        </p:blipFill>
        <p:spPr>
          <a:xfrm>
            <a:off x="181080" y="3716280"/>
            <a:ext cx="3046320" cy="504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9" descr="формула"/>
          <p:cNvPicPr/>
          <p:nvPr/>
        </p:nvPicPr>
        <p:blipFill>
          <a:blip r:embed="rId4"/>
          <a:stretch/>
        </p:blipFill>
        <p:spPr>
          <a:xfrm>
            <a:off x="3421080" y="3573360"/>
            <a:ext cx="1800360" cy="133200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0" descr="формула"/>
          <p:cNvPicPr/>
          <p:nvPr/>
        </p:nvPicPr>
        <p:blipFill>
          <a:blip r:embed="rId5"/>
          <a:stretch/>
        </p:blipFill>
        <p:spPr>
          <a:xfrm>
            <a:off x="5381640" y="3789360"/>
            <a:ext cx="2951280" cy="7556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1" descr="формула"/>
          <p:cNvPicPr/>
          <p:nvPr/>
        </p:nvPicPr>
        <p:blipFill>
          <a:blip r:embed="rId6"/>
          <a:stretch/>
        </p:blipFill>
        <p:spPr>
          <a:xfrm>
            <a:off x="3708360" y="6021360"/>
            <a:ext cx="1763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51960" y="260280"/>
            <a:ext cx="79470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7" name="Рисунок 2" descr="формула"/>
          <p:cNvPicPr/>
          <p:nvPr/>
        </p:nvPicPr>
        <p:blipFill>
          <a:blip r:embed="rId1"/>
          <a:stretch/>
        </p:blipFill>
        <p:spPr>
          <a:xfrm>
            <a:off x="3205080" y="260280"/>
            <a:ext cx="3635280" cy="6476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" descr="формула"/>
          <p:cNvPicPr/>
          <p:nvPr/>
        </p:nvPicPr>
        <p:blipFill>
          <a:blip r:embed="rId2"/>
          <a:stretch/>
        </p:blipFill>
        <p:spPr>
          <a:xfrm>
            <a:off x="252360" y="944640"/>
            <a:ext cx="3888000" cy="27716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" descr="формула"/>
          <p:cNvPicPr/>
          <p:nvPr/>
        </p:nvPicPr>
        <p:blipFill>
          <a:blip r:embed="rId3"/>
          <a:stretch/>
        </p:blipFill>
        <p:spPr>
          <a:xfrm>
            <a:off x="4213080" y="3753000"/>
            <a:ext cx="4427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MANYA</cp:lastModifiedBy>
  <dcterms:modified xsi:type="dcterms:W3CDTF">2014-09-25T18:55:09Z</dcterms:modified>
  <cp:revision>282</cp:revision>
  <dc:subject/>
  <dc:title>НЕПРЕРЫВНАЯ СЛУЧАЙНАЯ ВЕЛИЧИНА.</dc:title>
</cp:coreProperties>
</file>