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C7F-2506-46B1-82B9-0E6FAD65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2EF-5C0F-4B46-BCE5-AD1C2F4A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A19-5AC4-4760-9D15-46F4B8D8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D11-7FF5-4152-B8A0-F53C6EB8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4A8-AC6E-4EB6-8DA8-D73B5E71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4DA6-66A8-45A3-9659-DE1A299A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C5DD-A34C-47B4-98F2-A92F2D04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0066-0B6D-40BE-9216-652A84A6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3642-B5B7-4689-95FC-F4322A83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EA6E-392F-44F1-AA15-F7E30E94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5DB4-A8E6-4725-9574-E9172ED3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270-D6AF-4490-A42F-6F1D294A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2576-A00E-472D-A75F-80E32660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0646-9DBA-4180-8343-25B6135C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1B1E-0E2F-43CE-AD7F-8FE73990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99F4-0441-4D75-9737-E91CE2A8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4F79-A19D-4672-A974-1FC14F44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EB6-92DD-4A08-AB76-4EC63DEE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0CE-49FA-4814-A04F-E72DA7A4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E7C-ED49-44EA-9238-4B9F24BE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48B-FA3D-4BF9-8156-22E7F154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C18-B302-42BD-93F6-5E75D12A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F28-A6F4-4803-B37A-0745396A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E17-FD99-4776-AE41-C453EF8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9782-42C4-40ED-8709-00AA2D2C9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5AB1-8D1E-41C0-BC19-68F9B800C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кция 1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Профессор кафедры высш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и прикладной математи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Зироян Мария Альберт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0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уммой  (разностью)  матр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кая матрица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у которой все элементы равны сумме  (разности)  соответствующих элементов матриц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роизведением матр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а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зывается такая матрица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 у которой все элементы равны произведению соответствующего элемента матрицы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 число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979640" y="2781360"/>
          <a:ext cx="893880" cy="3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81360"/>
                    <a:ext cx="8938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6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0f8b"/>
                </a:solidFill>
                <a:latin typeface="Arial"/>
              </a:rPr>
              <a:t>1) Сложение,  вычит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0f8b"/>
                </a:solidFill>
                <a:latin typeface="Arial"/>
              </a:rPr>
              <a:t>умножение  матрицы  на 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ерации сложения, вычитания двух матриц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динаковой размер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 умножения матрицы на число вводятся (по определению) с помощью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элементног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выполнения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ответствующего действия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3492360" y="4292640"/>
          <a:ext cx="194328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292640"/>
                    <a:ext cx="19432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6084720" y="4292640"/>
          <a:ext cx="1872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292640"/>
                    <a:ext cx="1872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8"/>
          <p:cNvGraphicFramePr/>
          <p:nvPr/>
        </p:nvGraphicFramePr>
        <p:xfrm>
          <a:off x="611280" y="5300640"/>
          <a:ext cx="331452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300640"/>
                    <a:ext cx="33145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5003640" y="5300640"/>
          <a:ext cx="2880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5300640"/>
                    <a:ext cx="2880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ства 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3851280" y="2421000"/>
          <a:ext cx="201600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21000"/>
                    <a:ext cx="2016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203640" y="3429000"/>
          <a:ext cx="352908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429000"/>
                    <a:ext cx="35290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8"/>
          <p:cNvGraphicFramePr/>
          <p:nvPr/>
        </p:nvGraphicFramePr>
        <p:xfrm>
          <a:off x="3132000" y="4437000"/>
          <a:ext cx="3600720" cy="10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437000"/>
                    <a:ext cx="360072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1"/>
          <p:cNvSpPr/>
          <p:nvPr/>
        </p:nvSpPr>
        <p:spPr>
          <a:xfrm>
            <a:off x="375120" y="5443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1042920" y="5516640"/>
          <a:ext cx="302436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5516640"/>
                    <a:ext cx="3024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2"/>
          <p:cNvSpPr/>
          <p:nvPr/>
        </p:nvSpPr>
        <p:spPr>
          <a:xfrm>
            <a:off x="3781800" y="54439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рицы одинаковой разме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2)  Умножение  матр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Произведением   матр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097791"/>
                </a:solidFill>
                <a:latin typeface="Arial"/>
              </a:rPr>
              <a:t>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матрицу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l-GR" sz="2400" spc="-1" strike="noStrike">
                <a:solidFill>
                  <a:srgbClr val="097791"/>
                </a:solidFill>
                <a:latin typeface="Arial"/>
              </a:rPr>
              <a:t>κ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ая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а  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у которой элемент с номером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(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 скалярному произведению вектора, составленного из элементов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 строки матрицы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вектор, составленный из элементов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 столбца матрицы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7236000" y="2276640"/>
          <a:ext cx="165564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2276640"/>
                    <a:ext cx="16556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500720" y="2781360"/>
          <a:ext cx="158400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81360"/>
                    <a:ext cx="1584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8"/>
          <p:cNvGraphicFramePr/>
          <p:nvPr/>
        </p:nvGraphicFramePr>
        <p:xfrm>
          <a:off x="1476360" y="4005360"/>
          <a:ext cx="561672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4005360"/>
                    <a:ext cx="5616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0"/>
          <p:cNvSpPr/>
          <p:nvPr/>
        </p:nvSpPr>
        <p:spPr>
          <a:xfrm>
            <a:off x="8173440" y="40755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ства  опер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2843280" y="2349360"/>
          <a:ext cx="30240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349360"/>
                    <a:ext cx="3024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2843280" y="2781360"/>
          <a:ext cx="309708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781360"/>
                    <a:ext cx="30970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8"/>
          <p:cNvGraphicFramePr/>
          <p:nvPr/>
        </p:nvGraphicFramePr>
        <p:xfrm>
          <a:off x="2771640" y="3284640"/>
          <a:ext cx="273708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284640"/>
                    <a:ext cx="27370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10"/>
          <p:cNvSpPr/>
          <p:nvPr/>
        </p:nvSpPr>
        <p:spPr>
          <a:xfrm>
            <a:off x="5648760" y="335664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квадратных матриц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1"/>
          <p:cNvGraphicFramePr/>
          <p:nvPr/>
        </p:nvGraphicFramePr>
        <p:xfrm>
          <a:off x="2700360" y="3754440"/>
          <a:ext cx="338436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3754440"/>
                    <a:ext cx="33843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3"/>
          <p:cNvGraphicFramePr/>
          <p:nvPr/>
        </p:nvGraphicFramePr>
        <p:xfrm>
          <a:off x="2700360" y="4292640"/>
          <a:ext cx="3959280" cy="10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4292640"/>
                    <a:ext cx="395928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5"/>
          <p:cNvSpPr/>
          <p:nvPr/>
        </p:nvSpPr>
        <p:spPr>
          <a:xfrm>
            <a:off x="963000" y="550152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ся, что указанные здесь действия определе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3)  Возведение  в 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операция определена только для квадратных матриц и вводится по правилу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826920" y="2924280"/>
          <a:ext cx="781380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924280"/>
                    <a:ext cx="78138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6"/>
          <p:cNvSpPr/>
          <p:nvPr/>
        </p:nvSpPr>
        <p:spPr>
          <a:xfrm>
            <a:off x="678960" y="3485160"/>
            <a:ext cx="47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астности, справедливы равенств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7"/>
          <p:cNvGraphicFramePr/>
          <p:nvPr/>
        </p:nvGraphicFramePr>
        <p:xfrm>
          <a:off x="5435640" y="3357720"/>
          <a:ext cx="2663640" cy="5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357720"/>
                    <a:ext cx="266364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9"/>
          <p:cNvGraphicFramePr/>
          <p:nvPr/>
        </p:nvGraphicFramePr>
        <p:xfrm>
          <a:off x="5435640" y="3789360"/>
          <a:ext cx="259236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789360"/>
                    <a:ext cx="25923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1"/>
          <p:cNvSpPr/>
          <p:nvPr/>
        </p:nvSpPr>
        <p:spPr>
          <a:xfrm>
            <a:off x="552960" y="4075920"/>
            <a:ext cx="63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агональн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ы справедлива форму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2"/>
          <p:cNvGraphicFramePr/>
          <p:nvPr/>
        </p:nvGraphicFramePr>
        <p:xfrm>
          <a:off x="826920" y="4437000"/>
          <a:ext cx="7452000" cy="175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437000"/>
                    <a:ext cx="74520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Line 14"/>
          <p:cNvSpPr/>
          <p:nvPr/>
        </p:nvSpPr>
        <p:spPr>
          <a:xfrm>
            <a:off x="1116000" y="4869000"/>
            <a:ext cx="1871640" cy="100800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4284720" y="4869000"/>
            <a:ext cx="1871640" cy="100800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Элементарными преобразова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ок матрицы называются преобразования следующих т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)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становка местами двух строк матр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ое обозначение: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где стрелки указывают на стро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вляемые  мест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мена строки суммой этой строки и некоторой другой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помогате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редварительно умноженной на какое-либ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100" spc="-1" strike="noStrike">
                <a:solidFill>
                  <a:srgbClr val="097791"/>
                </a:solidFill>
                <a:latin typeface="Arial"/>
              </a:rPr>
              <a:t>α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ловное обозначение: </a:t>
            </a:r>
            <a:r>
              <a:rPr b="0" i="1" lang="el-GR" sz="32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 где стрелка  указывает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меняемую стро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851280" y="306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 flipH="1">
            <a:off x="3851280" y="3573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4284720" y="3068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 flipH="1">
            <a:off x="3564000" y="573408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3995640" y="537372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11280" y="591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житель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авят рядом со вспомогательной стро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2485800" y="5642640"/>
            <a:ext cx="3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2900"/>
            </a:br>
            <a:r>
              <a:rPr b="1" lang="ru-RU" sz="29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ножение строки на ненулевое число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условное обозначение: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ставится рядом с изменяемой строк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З а м е ч а н и е 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Аналогично вводятся элементарные преобразования столбцов матр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Опорным элементом стро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трицы называется первый слева ненулевой  элемент этой строки. Если строка нулевая, то опорного элемента у нее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трица называется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ступенча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(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имеющей ступенчатый вид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выполнены следующие усло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акая-то строка матрицы нулевая, то все последующие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улевы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орный элемент в каждой последующей строке располож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ее, чем в предыдущ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Говорят, что матрица имеет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вид Гау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: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а является ступенча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порные элементы равны единиц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опорными элементами стоят только н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Т е о р е м а 1</a:t>
            </a:r>
            <a:r>
              <a:rPr b="1" i="1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матрица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ет быть приведена к ступенчатой матрице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 baseline="-25000">
                <a:solidFill>
                  <a:srgbClr val="097791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омощью элементарных преобразований строк первого и второго типов.  Любая матрица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риведена к ступенчатой матрице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 baseline="-25000">
                <a:solidFill>
                  <a:srgbClr val="097791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 Гаусса с помощью элементарных преобразований строк первого – третьего тип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7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97791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97791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построенные по матрице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 помощью элементарных преобразований, называются, соответственно,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тупенчатым видом матрицы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видом Гаусса матрицы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 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 а м е ч а н и е  4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упенчатый вид у матрицы и ее вид Гаусса не единственен.  Наборы базисных строк и базисных столбцов матрицы также не являются инвариантами этой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97791"/>
                </a:solidFill>
                <a:latin typeface="comic"/>
              </a:rPr>
              <a:t>М А Т Р И Ц Ы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50021"/>
                </a:solidFill>
                <a:latin typeface="Arial"/>
              </a:rPr>
              <a:t>Матрица, операция над матрицами. Приведение матрицы к виду Гаусса. Ранг матриц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324000" y="620640"/>
          <a:ext cx="20160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20160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1476360" y="2421000"/>
          <a:ext cx="104760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421000"/>
                    <a:ext cx="10476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7308720" y="2060640"/>
          <a:ext cx="13939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2060640"/>
                    <a:ext cx="13939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Line 10"/>
          <p:cNvSpPr/>
          <p:nvPr/>
        </p:nvSpPr>
        <p:spPr>
          <a:xfrm>
            <a:off x="7451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802800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802800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4. РАНГ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Рангом матрицы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число ненулевых строк в ступенчатом виде этой матрицы.   Обозначение:  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5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нг матрицы не меняется  при применении к матрице 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элементарных преобразований, то есть не зависит от способа приведения матрицы к ступенчатому в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6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праведливы неравенства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2987640" y="51253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97791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r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97791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7791"/>
                </a:solidFill>
                <a:latin typeface="Arial"/>
              </a:rPr>
              <a:t>min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840" y="1999800"/>
            <a:ext cx="871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 р и м е р  1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ить размерность матр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2700360" y="2421000"/>
          <a:ext cx="331164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421000"/>
                    <a:ext cx="33116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7"/>
          <p:cNvSpPr/>
          <p:nvPr/>
        </p:nvSpPr>
        <p:spPr>
          <a:xfrm>
            <a:off x="687240" y="407268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указать ее элемент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6"/>
          <p:cNvGraphicFramePr/>
          <p:nvPr/>
        </p:nvGraphicFramePr>
        <p:xfrm>
          <a:off x="3913200" y="3929040"/>
          <a:ext cx="19447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3200" y="3929040"/>
                    <a:ext cx="1944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9"/>
          <p:cNvSpPr/>
          <p:nvPr/>
        </p:nvSpPr>
        <p:spPr>
          <a:xfrm>
            <a:off x="395280" y="4368240"/>
            <a:ext cx="82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 е ш е н и е.   Матрица  </a:t>
            </a:r>
            <a:r>
              <a:rPr b="0" i="1" lang="ru-RU" sz="2800" spc="-1" strike="noStrike">
                <a:solidFill>
                  <a:srgbClr val="5c0f8b"/>
                </a:solidFill>
                <a:latin typeface="Arial"/>
                <a:ea typeface="Times New Roma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 три строки и четыре столбца, то есть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8"/>
          <p:cNvGraphicFramePr/>
          <p:nvPr/>
        </p:nvGraphicFramePr>
        <p:xfrm>
          <a:off x="2340000" y="4941720"/>
          <a:ext cx="187164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941720"/>
                    <a:ext cx="18716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0"/>
          <p:cNvSpPr/>
          <p:nvPr/>
        </p:nvSpPr>
        <p:spPr>
          <a:xfrm>
            <a:off x="2657520" y="35442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11"/>
          <p:cNvGraphicFramePr/>
          <p:nvPr/>
        </p:nvGraphicFramePr>
        <p:xfrm>
          <a:off x="2340000" y="5486400"/>
          <a:ext cx="4248000" cy="5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5486400"/>
                    <a:ext cx="4248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 2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ить матрицу  </a:t>
            </a:r>
            <a:r>
              <a:rPr b="0" lang="ru-RU" sz="2000" spc="-1" strike="noStrike">
                <a:solidFill>
                  <a:srgbClr val="5c0f8b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5c0f8b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5c0f8b"/>
                </a:solidFill>
                <a:latin typeface="Arial"/>
              </a:rPr>
              <a:t> 3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979640" y="2232000"/>
          <a:ext cx="540072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232000"/>
                    <a:ext cx="54007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6"/>
          <p:cNvSpPr/>
          <p:nvPr/>
        </p:nvSpPr>
        <p:spPr>
          <a:xfrm>
            <a:off x="1272960" y="3212280"/>
            <a:ext cx="58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Зная матрицы   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ход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7"/>
          <p:cNvGraphicFramePr/>
          <p:nvPr/>
        </p:nvGraphicFramePr>
        <p:xfrm>
          <a:off x="1476360" y="3573360"/>
          <a:ext cx="6335640" cy="10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573360"/>
                    <a:ext cx="6335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9"/>
          <p:cNvGraphicFramePr/>
          <p:nvPr/>
        </p:nvGraphicFramePr>
        <p:xfrm>
          <a:off x="324000" y="4653000"/>
          <a:ext cx="8353440" cy="102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653000"/>
                    <a:ext cx="83534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Line 11"/>
          <p:cNvSpPr/>
          <p:nvPr/>
        </p:nvSpPr>
        <p:spPr>
          <a:xfrm>
            <a:off x="1979640" y="5157720"/>
            <a:ext cx="3600360" cy="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2987640" y="4797360"/>
            <a:ext cx="0" cy="71928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4284720" y="4797360"/>
            <a:ext cx="0" cy="71928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П р и м е р  3</a:t>
            </a:r>
            <a:r>
              <a:rPr b="0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ычисл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а) Первая из перемножаемых матриц имеет размерность 2х3,  а вторая матрица – размерность 2х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число столбцов первой матрицы не равно числу строк второй, то данные две матрицы перемножить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П р и м е р  4</a:t>
            </a:r>
            <a:r>
              <a:rPr b="0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ычислит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5292720" y="1700280"/>
          <a:ext cx="273528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27352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3203640" y="4508640"/>
          <a:ext cx="3024000" cy="17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508640"/>
                    <a:ext cx="30240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формулой (1), находим матрицу размер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 5</a:t>
            </a:r>
            <a:r>
              <a:rPr b="0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ru-RU" sz="2400" spc="-1" strike="noStrike">
                <a:solidFill>
                  <a:srgbClr val="5c0f8b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5c0f8b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971640" y="2349360"/>
          <a:ext cx="698328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69832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1547640" y="4508640"/>
          <a:ext cx="208944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508640"/>
                    <a:ext cx="20894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5003640" y="4365720"/>
          <a:ext cx="216072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4365720"/>
                    <a:ext cx="21607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8"/>
          <p:cNvSpPr/>
          <p:nvPr/>
        </p:nvSpPr>
        <p:spPr>
          <a:xfrm>
            <a:off x="1187280" y="4941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988080" y="4941000"/>
            <a:ext cx="5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2900"/>
            </a:br>
            <a:r>
              <a:rPr b="1" lang="ru-RU" sz="29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99920"/>
            <a:ext cx="7696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   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цы являются квадратными, то вычисляем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4572000" y="1844640"/>
          <a:ext cx="15825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44640"/>
                    <a:ext cx="158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6"/>
          <p:cNvGraphicFramePr/>
          <p:nvPr/>
        </p:nvGraphicFramePr>
        <p:xfrm>
          <a:off x="1619280" y="2708280"/>
          <a:ext cx="59770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708280"/>
                    <a:ext cx="59770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8"/>
          <p:cNvSpPr/>
          <p:nvPr/>
        </p:nvSpPr>
        <p:spPr>
          <a:xfrm>
            <a:off x="310320" y="4149000"/>
            <a:ext cx="88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 Учитывая, что рассматриваемая матрица является диагональной, получае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9"/>
          <p:cNvGraphicFramePr/>
          <p:nvPr/>
        </p:nvGraphicFramePr>
        <p:xfrm>
          <a:off x="684360" y="4437000"/>
          <a:ext cx="7488000" cy="192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437000"/>
                    <a:ext cx="7488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c0f8b"/>
                </a:solidFill>
                <a:uFillTx/>
                <a:latin typeface="Arial"/>
              </a:rPr>
              <a:t>П р и м е р  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ь ступенчатый вид  матриц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6"/>
          <p:cNvGraphicFramePr/>
          <p:nvPr/>
        </p:nvGraphicFramePr>
        <p:xfrm>
          <a:off x="6300720" y="1773360"/>
          <a:ext cx="252108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773360"/>
                    <a:ext cx="252108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Rectangle 8"/>
          <p:cNvSpPr/>
          <p:nvPr/>
        </p:nvSpPr>
        <p:spPr>
          <a:xfrm>
            <a:off x="971640" y="32839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базисные строки и столбцы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30720" y="36442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0"/>
          <p:cNvGraphicFramePr/>
          <p:nvPr/>
        </p:nvGraphicFramePr>
        <p:xfrm>
          <a:off x="539640" y="4005360"/>
          <a:ext cx="3384720" cy="21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005360"/>
                    <a:ext cx="338472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3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12"/>
          <p:cNvGraphicFramePr/>
          <p:nvPr/>
        </p:nvGraphicFramePr>
        <p:xfrm>
          <a:off x="4643280" y="3933720"/>
          <a:ext cx="2519640" cy="215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3933720"/>
                    <a:ext cx="25196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4"/>
          <p:cNvGraphicFramePr/>
          <p:nvPr/>
        </p:nvGraphicFramePr>
        <p:xfrm>
          <a:off x="4067280" y="4365720"/>
          <a:ext cx="360360" cy="26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365720"/>
                    <a:ext cx="36036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Line 16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H="1">
            <a:off x="284328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8"/>
          <p:cNvSpPr/>
          <p:nvPr/>
        </p:nvSpPr>
        <p:spPr>
          <a:xfrm>
            <a:off x="3564000" y="4365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9"/>
          <p:cNvSpPr/>
          <p:nvPr/>
        </p:nvSpPr>
        <p:spPr>
          <a:xfrm flipH="1">
            <a:off x="2842920" y="57340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0"/>
          <p:cNvSpPr/>
          <p:nvPr/>
        </p:nvSpPr>
        <p:spPr>
          <a:xfrm>
            <a:off x="651672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1"/>
          <p:cNvSpPr/>
          <p:nvPr/>
        </p:nvSpPr>
        <p:spPr>
          <a:xfrm flipH="1">
            <a:off x="630072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673272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3"/>
          <p:cNvSpPr/>
          <p:nvPr/>
        </p:nvSpPr>
        <p:spPr>
          <a:xfrm flipH="1">
            <a:off x="6227640" y="566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24"/>
          <p:cNvGraphicFramePr/>
          <p:nvPr/>
        </p:nvGraphicFramePr>
        <p:xfrm>
          <a:off x="6804000" y="4869000"/>
          <a:ext cx="471600" cy="34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04000" y="4869000"/>
                    <a:ext cx="4716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755640" y="2637000"/>
          <a:ext cx="7561440" cy="20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7561440" cy="20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7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вести к виду Гаусса матр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300720" y="1773360"/>
          <a:ext cx="251928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773360"/>
                    <a:ext cx="25192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6"/>
          <p:cNvSpPr/>
          <p:nvPr/>
        </p:nvSpPr>
        <p:spPr>
          <a:xfrm>
            <a:off x="487080" y="3859920"/>
            <a:ext cx="79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 Выполним элементарные преобразования строк матр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7"/>
          <p:cNvGraphicFramePr/>
          <p:nvPr/>
        </p:nvGraphicFramePr>
        <p:xfrm>
          <a:off x="1042920" y="4149720"/>
          <a:ext cx="7416720" cy="22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149720"/>
                    <a:ext cx="741672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Line 9"/>
          <p:cNvSpPr/>
          <p:nvPr/>
        </p:nvSpPr>
        <p:spPr>
          <a:xfrm>
            <a:off x="2556000" y="4437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2268000" y="443700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2268000" y="522936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4211640" y="5589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>
            <a:off x="4211640" y="6021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>
            <a:off x="4500720" y="4581360"/>
            <a:ext cx="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4932360" y="458136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468360" y="1844640"/>
          <a:ext cx="84247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84247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7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6"/>
          <p:cNvGraphicFramePr/>
          <p:nvPr/>
        </p:nvGraphicFramePr>
        <p:xfrm>
          <a:off x="539640" y="3933720"/>
          <a:ext cx="8209080" cy="22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933720"/>
                    <a:ext cx="82090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Line 8"/>
          <p:cNvSpPr/>
          <p:nvPr/>
        </p:nvSpPr>
        <p:spPr>
          <a:xfrm>
            <a:off x="2843280" y="249228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 flipH="1">
            <a:off x="2556000" y="37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2556000" y="2492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435640" y="2637000"/>
            <a:ext cx="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 flipH="1">
            <a:off x="5148360" y="2924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 flipH="1">
            <a:off x="5148360" y="37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 flipH="1">
            <a:off x="5219280" y="328464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5786280" y="2643120"/>
            <a:ext cx="0" cy="647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 flipH="1">
            <a:off x="2410920" y="558972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 flipH="1">
            <a:off x="2410920" y="6021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987640" y="53006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5148360" y="4653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5796000" y="4221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4859280" y="4653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H="1">
            <a:off x="4859280" y="422100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H="1">
            <a:off x="7812000" y="4221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8101080" y="4221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6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рицей размер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прямоугольна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щая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m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 и 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бцов. Числа, составляющие матрицу, называются ее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их обозначают: </a:t>
            </a:r>
            <a:r>
              <a:rPr b="0" i="1" lang="en-US" sz="2800" spc="-1" strike="noStrike">
                <a:solidFill>
                  <a:srgbClr val="09779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97791"/>
                </a:solidFill>
                <a:latin typeface="Arial"/>
              </a:rPr>
              <a:t>i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строки матрицы,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j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столбца матрицы, в которых расположен данный элемент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3132000" y="2637000"/>
          <a:ext cx="3024360" cy="16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637000"/>
                    <a:ext cx="3024360" cy="16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2268360" y="1773360"/>
          <a:ext cx="22100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73360"/>
                    <a:ext cx="22100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627280" y="3789360"/>
          <a:ext cx="3457440" cy="20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789360"/>
                    <a:ext cx="345744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12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957600" y="45759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 т в е 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2916360" y="21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334800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3348000" y="256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3851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3851280" y="2924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у обозна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матрицы 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рав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совпадают поэлемен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 размерности 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улев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означают: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если все ее элементы равны нулю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2124000" y="2781360"/>
          <a:ext cx="542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542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4500720" y="2708280"/>
          <a:ext cx="187164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08280"/>
                    <a:ext cx="18716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66400" y="285156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4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 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матрицей</a:t>
            </a:r>
            <a:r>
              <a:rPr b="0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-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трок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n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атрица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матрицей-столбцом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5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=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то матрица  называется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 матрицей 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Ее элементы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; числа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-1,2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771640" y="2997360"/>
          <a:ext cx="82548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97360"/>
                    <a:ext cx="8254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 а м е ч а н и е 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астности,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матрицей второ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две строки и два столбца.  Числа </a:t>
            </a:r>
            <a:r>
              <a:rPr b="0" i="1" lang="en-US" sz="2400" spc="-1" strike="noStrike">
                <a:solidFill>
                  <a:srgbClr val="3399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99ff"/>
                </a:solidFill>
                <a:latin typeface="Arial"/>
              </a:rPr>
              <a:t>ij </a:t>
            </a:r>
            <a:r>
              <a:rPr b="0" i="1" lang="en-US" sz="2400" spc="-1" strike="noStrike">
                <a:solidFill>
                  <a:srgbClr val="3399ff"/>
                </a:solidFill>
                <a:latin typeface="Arial"/>
              </a:rPr>
              <a:t>(i=j=1,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ы, где  </a:t>
            </a: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роки,  а  </a:t>
            </a: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олбца, в которых расположен данный элемент.   Числа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 числа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(второстепенную)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диагональ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3059280" y="2565360"/>
          <a:ext cx="2592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565360"/>
                    <a:ext cx="2592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матрицей третье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три строки и три столбца.  Числа </a:t>
            </a:r>
            <a:r>
              <a:rPr b="0" i="1" lang="en-US" sz="2900" spc="-1" strike="noStrike">
                <a:solidFill>
                  <a:srgbClr val="3399ff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3399ff"/>
                </a:solidFill>
                <a:latin typeface="Arial"/>
              </a:rPr>
              <a:t>ij </a:t>
            </a:r>
            <a:r>
              <a:rPr b="0" i="1" lang="en-US" sz="2400" spc="-1" strike="noStrike">
                <a:solidFill>
                  <a:srgbClr val="3399ff"/>
                </a:solidFill>
                <a:latin typeface="Arial"/>
              </a:rPr>
              <a:t>(i=j=1,2,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, где 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роки, 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олбца, в которых расположен данный элемент. Числа 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3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; числа 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13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 (второстепенную)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916360" y="2349360"/>
          <a:ext cx="302400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349360"/>
                    <a:ext cx="302400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280" y="190512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6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 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диагон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если все элементы, стоящ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главной диагонали,  равны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верхнетреуго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ижнетреугольн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если все ее элементы, расположенные ниже  (выше)  главной диагонали, равны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8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единичн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обозначают: 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если она диагональная и все элементы главной диагонали равны еди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9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, полученная из квадратной матрицы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заменой всех строк соответствующими (по номеру) столбцами,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транспонирова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матрице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обозначается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97791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6:16:47Z</dcterms:created>
  <dc:creator>к.502</dc:creator>
  <dc:description/>
  <dc:language>en-US</dc:language>
  <cp:lastModifiedBy>квм</cp:lastModifiedBy>
  <dcterms:modified xsi:type="dcterms:W3CDTF">2014-09-30T10:05:38Z</dcterms:modified>
  <cp:revision>17</cp:revision>
  <dc:subject/>
  <dc:title>М А Т Р И Ц Ы</dc:title>
</cp:coreProperties>
</file>