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56.wmf" ContentType="image/x-wmf"/>
  <Override PartName="/ppt/media/image49.jpeg" ContentType="image/jpeg"/>
  <Override PartName="/ppt/media/image45.wmf" ContentType="image/x-wmf"/>
  <Override PartName="/ppt/media/image48.jpeg" ContentType="image/jpeg"/>
  <Override PartName="/ppt/media/image35.wmf" ContentType="image/x-wmf"/>
  <Override PartName="/ppt/media/image46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59.jpeg" ContentType="image/jpeg"/>
  <Override PartName="/ppt/media/image37.png" ContentType="image/png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11.wmf" ContentType="image/x-wmf"/>
  <Override PartName="/ppt/media/image20.wmf" ContentType="image/x-wmf"/>
  <Override PartName="/ppt/media/image57.wmf" ContentType="image/x-wmf"/>
  <Override PartName="/ppt/media/image58.wmf" ContentType="image/x-wmf"/>
  <Override PartName="/ppt/media/image22.wmf" ContentType="image/x-wmf"/>
  <Override PartName="/ppt/media/image23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89.wmf" ContentType="image/x-wmf"/>
  <Override PartName="/ppt/media/image77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75.wmf" ContentType="image/x-wmf"/>
  <Override PartName="/ppt/media/image79.wmf" ContentType="image/x-wmf"/>
  <Override PartName="/ppt/media/image78.wmf" ContentType="image/x-wmf"/>
  <Override PartName="/ppt/media/image74.wmf" ContentType="image/x-wmf"/>
  <Override PartName="/ppt/media/image21.wmf" ContentType="image/x-wmf"/>
  <Override PartName="/ppt/media/image60.jpeg" ContentType="image/jpeg"/>
  <Override PartName="/ppt/media/image70.wmf" ContentType="image/x-wmf"/>
  <Override PartName="/ppt/media/image28.wmf" ContentType="image/x-wmf"/>
  <Override PartName="/ppt/media/image73.wmf" ContentType="image/x-wmf"/>
  <Override PartName="/ppt/media/image72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29.wmf" ContentType="image/x-wmf"/>
  <Override PartName="/ppt/media/image68.wmf" ContentType="image/x-wmf"/>
  <Override PartName="/ppt/media/image31.wmf" ContentType="image/x-wmf"/>
  <Override PartName="/ppt/media/image24.wmf" ContentType="image/x-wmf"/>
  <Override PartName="/ppt/media/image2.wmf" ContentType="image/x-wmf"/>
  <Override PartName="/ppt/media/image14.wmf" ContentType="image/x-wmf"/>
  <Override PartName="/ppt/media/image91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10.wmf" ContentType="image/x-wmf"/>
  <Override PartName="/ppt/media/image83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47.jpeg" ContentType="image/jpeg"/>
  <Override PartName="/ppt/media/image90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2676-6095-4B75-B846-0CAB1D1C07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6ADB-D294-483D-B31F-9A858ED339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7DCD-9E85-4CD3-8822-6789BB3342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DC4B-88DF-4F52-B690-33F74D599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2E11-7D76-4D3B-999B-C4471A13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8E32-DE14-4DF6-BA8C-B4E3CC1A6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5465-BBA4-4770-A7A4-E17A54525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72FDC-B043-4234-BA3A-93AB3DB72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A40D95-CD5F-47B1-9CA7-C1B1D546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A3DB8-0F1F-4B24-A789-98002CC4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A2954-F294-401D-9070-711A932F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8CA7C-659E-47C0-BEF9-45DB9716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09683-313A-41D0-99FA-8E96CBA4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466C2-8CCC-452C-86F2-EB5FC5D4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C278-958D-471C-8074-D56AD5AB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DCB127-BF79-4225-9DC6-FD133BD4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D29AF-F2AC-41DF-B954-27A0E3BF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AA4D6-3DFD-4265-86D8-382030CD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0D759-13E3-42D0-8339-3EB31D96A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D3177-AEE2-4B78-88C1-2F466577B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F94B-01DC-4713-A2BD-9D39C575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9A2A-AA9C-48DA-B33A-827C016E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420A-6543-49B1-B247-BEA7BDA6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3B28-D113-4784-8000-4E55886C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BBFC-2ED4-4658-992D-5BBBC56F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36D9-A646-4C4D-86AC-DC471F7A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7A84-3E48-4AFE-BA73-EB0ED047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16ED-FDB3-4495-AC42-B8A6B61A5C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A999-2893-4BA3-8146-98CFED8560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8.wm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1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6.wmf"/><Relationship Id="rId1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2.wmf"/><Relationship Id="rId1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8.wmf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7.wmf"/><Relationship Id="rId19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2.wmf"/><Relationship Id="rId1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9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0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1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3.wmf"/><Relationship Id="rId3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6.wmf"/><Relationship Id="rId27" Type="http://schemas.openxmlformats.org/officeDocument/2006/relationships/image" Target="../media/image37.png"/><Relationship Id="rId28" Type="http://schemas.openxmlformats.org/officeDocument/2006/relationships/image" Target="../media/image37.png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38.wmf"/><Relationship Id="rId31" Type="http://schemas.openxmlformats.org/officeDocument/2006/relationships/oleObject" Target="../embeddings/oleObject15.bin"/><Relationship Id="rId32" Type="http://schemas.openxmlformats.org/officeDocument/2006/relationships/image" Target="../media/image39.wmf"/><Relationship Id="rId3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6.wmf"/><Relationship Id="rId15" Type="http://schemas.openxmlformats.org/officeDocument/2006/relationships/image" Target="../media/image47.jpe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71280" y="2428920"/>
            <a:ext cx="77058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Arial"/>
              </a:rPr>
              <a:t>Зироян Мария Альберт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Arial"/>
              </a:rPr>
              <a:t>професс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Arial"/>
              </a:rPr>
              <a:t>кафедры прикладной мате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685800" y="33192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2268"/>
                </a:solidFill>
                <a:latin typeface="Arial"/>
              </a:rPr>
              <a:t>Лекция по дисциплине «Математи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53964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5.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аправляющими углами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ектора        называются углы между ним и координатными ося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6. Косинусы направляющих углов называются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правляющими косинусами вектора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7. Проекции вектора         на координатные ос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азываются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оординатами вектора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и обозначаются, соответственно,   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 а м е ч а н и е 1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ля любого вектора       верно равенство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единичные векторы, сонаправленные с соответствующей ос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Объект 3"/>
          <p:cNvGraphicFramePr/>
          <p:nvPr/>
        </p:nvGraphicFramePr>
        <p:xfrm>
          <a:off x="6588000" y="189000"/>
          <a:ext cx="255600" cy="45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0" y="189000"/>
                    <a:ext cx="25560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Объект 4"/>
          <p:cNvGraphicFramePr/>
          <p:nvPr/>
        </p:nvGraphicFramePr>
        <p:xfrm>
          <a:off x="1920960" y="1071720"/>
          <a:ext cx="524808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20960" y="1071720"/>
                    <a:ext cx="52480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Объект 5"/>
          <p:cNvGraphicFramePr/>
          <p:nvPr/>
        </p:nvGraphicFramePr>
        <p:xfrm>
          <a:off x="738360" y="2781360"/>
          <a:ext cx="8010360" cy="69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3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8360" y="2781360"/>
                    <a:ext cx="801036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Объект 7"/>
          <p:cNvGraphicFramePr/>
          <p:nvPr/>
        </p:nvGraphicFramePr>
        <p:xfrm>
          <a:off x="4067280" y="3573360"/>
          <a:ext cx="284040" cy="47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5" name="Объект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67280" y="3573360"/>
                    <a:ext cx="28404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Объект 8"/>
          <p:cNvGraphicFramePr/>
          <p:nvPr/>
        </p:nvGraphicFramePr>
        <p:xfrm>
          <a:off x="1042920" y="4005360"/>
          <a:ext cx="1533600" cy="446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7" name="Объект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42920" y="4005360"/>
                    <a:ext cx="153360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Объект 9"/>
          <p:cNvGraphicFramePr/>
          <p:nvPr/>
        </p:nvGraphicFramePr>
        <p:xfrm>
          <a:off x="5292720" y="4437000"/>
          <a:ext cx="1249200" cy="528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9" name="Объект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92720" y="4437000"/>
                    <a:ext cx="124920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Объект 10"/>
          <p:cNvGraphicFramePr/>
          <p:nvPr/>
        </p:nvGraphicFramePr>
        <p:xfrm>
          <a:off x="6372360" y="4797360"/>
          <a:ext cx="284040" cy="473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1" name="Объект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72360" y="4797360"/>
                    <a:ext cx="28404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Объект 11"/>
          <p:cNvGraphicFramePr/>
          <p:nvPr/>
        </p:nvGraphicFramePr>
        <p:xfrm>
          <a:off x="2556000" y="5229360"/>
          <a:ext cx="2725560" cy="58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3" name="Объект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56000" y="5229360"/>
                    <a:ext cx="2725560" cy="58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Объект 13"/>
          <p:cNvGraphicFramePr/>
          <p:nvPr/>
        </p:nvGraphicFramePr>
        <p:xfrm>
          <a:off x="896760" y="5616720"/>
          <a:ext cx="938520" cy="528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5" name="Объект 1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96760" y="5616720"/>
                    <a:ext cx="93852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C:\Users\HP\Desktop\фото (1).JPG"/>
          <p:cNvPicPr/>
          <p:nvPr/>
        </p:nvPicPr>
        <p:blipFill>
          <a:blip r:embed="rId1"/>
          <a:stretch/>
        </p:blipFill>
        <p:spPr>
          <a:xfrm>
            <a:off x="0" y="0"/>
            <a:ext cx="4714920" cy="35002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500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8" name="Object 2"/>
              <p:cNvSpPr txBox="1"/>
              <p:nvPr/>
            </p:nvSpPr>
            <p:spPr>
              <a:xfrm>
                <a:off x="5072040" y="2428920"/>
                <a:ext cx="10144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0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3"/>
              <p:cNvSpPr txBox="1"/>
              <p:nvPr/>
            </p:nvSpPr>
            <p:spPr>
              <a:xfrm>
                <a:off x="7786800" y="2786040"/>
                <a:ext cx="11872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7786800" y="1600200"/>
                <a:ext cx="11365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8191440" y="1959120"/>
                <a:ext cx="88128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6"/>
              <p:cNvSpPr txBox="1"/>
              <p:nvPr/>
            </p:nvSpPr>
            <p:spPr>
              <a:xfrm>
                <a:off x="5715000" y="928800"/>
                <a:ext cx="88416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,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7"/>
              <p:cNvSpPr txBox="1"/>
              <p:nvPr/>
            </p:nvSpPr>
            <p:spPr>
              <a:xfrm>
                <a:off x="6143760" y="2071800"/>
                <a:ext cx="28728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8"/>
              <p:cNvSpPr txBox="1"/>
              <p:nvPr/>
            </p:nvSpPr>
            <p:spPr>
              <a:xfrm>
                <a:off x="6572160" y="2928960"/>
                <a:ext cx="35100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9"/>
              <p:cNvSpPr txBox="1"/>
              <p:nvPr/>
            </p:nvSpPr>
            <p:spPr>
              <a:xfrm>
                <a:off x="7358040" y="2286000"/>
                <a:ext cx="33516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10"/>
              <p:cNvSpPr txBox="1"/>
              <p:nvPr/>
            </p:nvSpPr>
            <p:spPr>
              <a:xfrm>
                <a:off x="6929280" y="1608120"/>
                <a:ext cx="2192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247" name="Объект 11"/>
          <p:cNvGraphicFramePr/>
          <p:nvPr/>
        </p:nvGraphicFramePr>
        <p:xfrm>
          <a:off x="3143160" y="3786120"/>
          <a:ext cx="272592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Объект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3160" y="3786120"/>
                    <a:ext cx="27259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Объект 4"/>
          <p:cNvGraphicFramePr/>
          <p:nvPr/>
        </p:nvGraphicFramePr>
        <p:xfrm>
          <a:off x="3571920" y="4714920"/>
          <a:ext cx="2101680" cy="58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0" name="Объект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71920" y="4714920"/>
                    <a:ext cx="21016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3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55480" y="271440"/>
            <a:ext cx="8280720" cy="62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ектор         также обознач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 а м е ч а н и е 2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ля любого векто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ерны  равенст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 а м е ч а н и е 3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. У равных векторов равны соответствующие координа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 а м е ч а н и е 4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У коллинеарных векторов координаты пропорциональны: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Объект 3"/>
          <p:cNvGraphicFramePr/>
          <p:nvPr/>
        </p:nvGraphicFramePr>
        <p:xfrm>
          <a:off x="1835280" y="260280"/>
          <a:ext cx="25560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60280"/>
                    <a:ext cx="25560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Объект 4"/>
          <p:cNvGraphicFramePr/>
          <p:nvPr/>
        </p:nvGraphicFramePr>
        <p:xfrm>
          <a:off x="5665680" y="127080"/>
          <a:ext cx="2102040" cy="58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65680" y="127080"/>
                    <a:ext cx="21020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AutoShape 39"/>
          <p:cNvSpPr/>
          <p:nvPr/>
        </p:nvSpPr>
        <p:spPr>
          <a:xfrm>
            <a:off x="4606920" y="-601560"/>
            <a:ext cx="942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40"/>
          <p:cNvSpPr/>
          <p:nvPr/>
        </p:nvSpPr>
        <p:spPr>
          <a:xfrm>
            <a:off x="336600" y="-326880"/>
            <a:ext cx="68580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41"/>
          <p:cNvSpPr/>
          <p:nvPr/>
        </p:nvSpPr>
        <p:spPr>
          <a:xfrm>
            <a:off x="555480" y="-326880"/>
            <a:ext cx="6955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42"/>
          <p:cNvSpPr/>
          <p:nvPr/>
        </p:nvSpPr>
        <p:spPr>
          <a:xfrm>
            <a:off x="743040" y="-326880"/>
            <a:ext cx="676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44"/>
          <p:cNvSpPr/>
          <p:nvPr/>
        </p:nvSpPr>
        <p:spPr>
          <a:xfrm>
            <a:off x="3008160" y="3151080"/>
            <a:ext cx="21052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Объект 12"/>
          <p:cNvGraphicFramePr/>
          <p:nvPr/>
        </p:nvGraphicFramePr>
        <p:xfrm>
          <a:off x="1006560" y="1123920"/>
          <a:ext cx="2668680" cy="58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0" name="Объект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06560" y="1123920"/>
                    <a:ext cx="26686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Объект 13"/>
          <p:cNvGraphicFramePr/>
          <p:nvPr/>
        </p:nvGraphicFramePr>
        <p:xfrm>
          <a:off x="1763640" y="1655640"/>
          <a:ext cx="4834080" cy="1629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2" name="Объект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63640" y="1655640"/>
                    <a:ext cx="4834080" cy="16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Объект 14"/>
          <p:cNvGraphicFramePr/>
          <p:nvPr/>
        </p:nvGraphicFramePr>
        <p:xfrm>
          <a:off x="2673360" y="4076640"/>
          <a:ext cx="3976560" cy="611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4" name="Объект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73360" y="4076640"/>
                    <a:ext cx="397656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Объект 15"/>
          <p:cNvGraphicFramePr/>
          <p:nvPr/>
        </p:nvGraphicFramePr>
        <p:xfrm>
          <a:off x="2828880" y="5303880"/>
          <a:ext cx="3286080" cy="1077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6" name="Объект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28880" y="5303880"/>
                    <a:ext cx="328608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394920" y="188640"/>
            <a:ext cx="84358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 а м е ч а н и е 5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лина вектора                          через координаты определяется по формул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Если известны координаты точек                         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Объект 4"/>
          <p:cNvGraphicFramePr/>
          <p:nvPr/>
        </p:nvGraphicFramePr>
        <p:xfrm>
          <a:off x="5462640" y="115920"/>
          <a:ext cx="204624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2640" y="115920"/>
                    <a:ext cx="204624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Объект 6"/>
          <p:cNvGraphicFramePr/>
          <p:nvPr/>
        </p:nvGraphicFramePr>
        <p:xfrm>
          <a:off x="2646360" y="1285920"/>
          <a:ext cx="2585880" cy="69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1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46360" y="1285920"/>
                    <a:ext cx="258588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Объект 7"/>
          <p:cNvGraphicFramePr/>
          <p:nvPr/>
        </p:nvGraphicFramePr>
        <p:xfrm>
          <a:off x="5535720" y="2216160"/>
          <a:ext cx="2138400" cy="5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3" name="Объект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35720" y="2216160"/>
                    <a:ext cx="21384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Объект 8"/>
          <p:cNvGraphicFramePr/>
          <p:nvPr/>
        </p:nvGraphicFramePr>
        <p:xfrm>
          <a:off x="504720" y="2792520"/>
          <a:ext cx="2173320" cy="53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5" name="Объект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4720" y="2792520"/>
                    <a:ext cx="21733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Объект 9"/>
          <p:cNvGraphicFramePr/>
          <p:nvPr/>
        </p:nvGraphicFramePr>
        <p:xfrm>
          <a:off x="3203640" y="2878200"/>
          <a:ext cx="5797440" cy="695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7" name="Объект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03640" y="2878200"/>
                    <a:ext cx="579744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Объект 10"/>
          <p:cNvGraphicFramePr/>
          <p:nvPr/>
        </p:nvGraphicFramePr>
        <p:xfrm>
          <a:off x="1778040" y="3986280"/>
          <a:ext cx="5626080" cy="666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9" name="Объект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778040" y="3986280"/>
                    <a:ext cx="562608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31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ПЕРАЦИИ НАД ВЕКТОР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ложение:   Координаты суммы двух векторов равны сумме соответствующих координат слагаемых векторов.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2) Вычит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2" name="Прямая со стрелкой 5"/>
          <p:cNvCxnSpPr/>
          <p:nvPr/>
        </p:nvCxnSpPr>
        <p:spPr>
          <a:xfrm flipV="1">
            <a:off x="1763280" y="1988640"/>
            <a:ext cx="1513800" cy="93600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93" name="Прямая со стрелкой 6"/>
          <p:cNvCxnSpPr/>
          <p:nvPr/>
        </p:nvCxnSpPr>
        <p:spPr>
          <a:xfrm>
            <a:off x="1763280" y="2924280"/>
            <a:ext cx="1360800" cy="56880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294" name="Прямая соединительная линия 9"/>
          <p:cNvSpPr/>
          <p:nvPr/>
        </p:nvSpPr>
        <p:spPr>
          <a:xfrm>
            <a:off x="3276720" y="1989000"/>
            <a:ext cx="1366560" cy="468360"/>
          </a:xfrm>
          <a:prstGeom prst="line">
            <a:avLst/>
          </a:prstGeom>
          <a:ln w="93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ая соединительная линия 11"/>
          <p:cNvSpPr/>
          <p:nvPr/>
        </p:nvSpPr>
        <p:spPr>
          <a:xfrm flipV="1">
            <a:off x="3124080" y="2457000"/>
            <a:ext cx="1519200" cy="1035000"/>
          </a:xfrm>
          <a:prstGeom prst="line">
            <a:avLst/>
          </a:prstGeom>
          <a:ln w="1908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6" name="Прямая со стрелкой 12"/>
          <p:cNvCxnSpPr/>
          <p:nvPr/>
        </p:nvCxnSpPr>
        <p:spPr>
          <a:xfrm flipV="1">
            <a:off x="1915920" y="2456640"/>
            <a:ext cx="2727720" cy="4676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graphicFrame>
        <p:nvGraphicFramePr>
          <p:cNvPr id="297" name="Объект 15"/>
          <p:cNvGraphicFramePr/>
          <p:nvPr/>
        </p:nvGraphicFramePr>
        <p:xfrm>
          <a:off x="2050920" y="1971720"/>
          <a:ext cx="284400" cy="47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Объект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971720"/>
                    <a:ext cx="2844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Объект 16"/>
          <p:cNvGraphicFramePr/>
          <p:nvPr/>
        </p:nvGraphicFramePr>
        <p:xfrm>
          <a:off x="2286000" y="3208320"/>
          <a:ext cx="31608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Объект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3208320"/>
                    <a:ext cx="31608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Объект 1"/>
          <p:cNvGraphicFramePr/>
          <p:nvPr/>
        </p:nvGraphicFramePr>
        <p:xfrm>
          <a:off x="3411360" y="1982880"/>
          <a:ext cx="795600" cy="47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2" name="Объект 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11360" y="1982880"/>
                    <a:ext cx="7956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303" name="Прямая со стрелкой 13"/>
          <p:cNvCxnSpPr/>
          <p:nvPr/>
        </p:nvCxnSpPr>
        <p:spPr>
          <a:xfrm flipV="1">
            <a:off x="3203640" y="4075920"/>
            <a:ext cx="1513440" cy="93564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04" name="Прямая со стрелкой 14"/>
          <p:cNvCxnSpPr/>
          <p:nvPr/>
        </p:nvCxnSpPr>
        <p:spPr>
          <a:xfrm>
            <a:off x="3203640" y="5022720"/>
            <a:ext cx="1800720" cy="2782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05" name="Прямая со стрелкой 15"/>
          <p:cNvCxnSpPr/>
          <p:nvPr/>
        </p:nvCxnSpPr>
        <p:spPr>
          <a:xfrm flipH="1" flipV="1">
            <a:off x="4714560" y="4071240"/>
            <a:ext cx="286560" cy="121500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graphicFrame>
        <p:nvGraphicFramePr>
          <p:cNvPr id="306" name="Объект 4"/>
          <p:cNvGraphicFramePr/>
          <p:nvPr/>
        </p:nvGraphicFramePr>
        <p:xfrm>
          <a:off x="3726000" y="3933720"/>
          <a:ext cx="315720" cy="487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7" name="Объект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26000" y="3933720"/>
                    <a:ext cx="31572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Объект 7"/>
          <p:cNvGraphicFramePr/>
          <p:nvPr/>
        </p:nvGraphicFramePr>
        <p:xfrm>
          <a:off x="3492360" y="5151600"/>
          <a:ext cx="284400" cy="473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9" name="Объект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92360" y="5151600"/>
                    <a:ext cx="2844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Объект 8"/>
          <p:cNvGraphicFramePr/>
          <p:nvPr/>
        </p:nvGraphicFramePr>
        <p:xfrm>
          <a:off x="4970520" y="4222800"/>
          <a:ext cx="766800" cy="473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1" name="Объект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70520" y="4222800"/>
                    <a:ext cx="7668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2" name="Object 18"/>
              <p:cNvSpPr txBox="1"/>
              <p:nvPr/>
            </p:nvSpPr>
            <p:spPr>
              <a:xfrm>
                <a:off x="4643280" y="2643120"/>
                <a:ext cx="39006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20"/>
              <p:cNvSpPr txBox="1"/>
              <p:nvPr/>
            </p:nvSpPr>
            <p:spPr>
              <a:xfrm>
                <a:off x="4714920" y="5643720"/>
                <a:ext cx="390060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507520" cy="63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3) Умножение вектора на скаля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22268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) Скалярное произведение двух век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Arial"/>
              </a:rPr>
              <a:t>О п р е д е л е н и е. </a:t>
            </a: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Скалярным произведением двух векторов                         называется </a:t>
            </a:r>
            <a:r>
              <a:rPr b="0" i="1" lang="ru-RU" sz="2400" spc="-1" strike="noStrike">
                <a:solidFill>
                  <a:srgbClr val="222268"/>
                </a:solidFill>
                <a:latin typeface="Arial"/>
              </a:rPr>
              <a:t>число</a:t>
            </a: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, обозначаем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, вычисляемое по формуле                                  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где            угол между векторами                  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Если известны координаты век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                                                           </a:t>
            </a: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, 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Объект 4"/>
          <p:cNvGraphicFramePr/>
          <p:nvPr/>
        </p:nvGraphicFramePr>
        <p:xfrm>
          <a:off x="5364000" y="189000"/>
          <a:ext cx="316080" cy="4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0" y="189000"/>
                    <a:ext cx="31608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Объект 5"/>
          <p:cNvGraphicFramePr/>
          <p:nvPr/>
        </p:nvGraphicFramePr>
        <p:xfrm>
          <a:off x="2266920" y="907920"/>
          <a:ext cx="2900520" cy="60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Объект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6920" y="907920"/>
                    <a:ext cx="290052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Объект 6"/>
          <p:cNvGraphicFramePr/>
          <p:nvPr/>
        </p:nvGraphicFramePr>
        <p:xfrm>
          <a:off x="2124000" y="2637000"/>
          <a:ext cx="1378080" cy="57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0" name="Объект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24000" y="2637000"/>
                    <a:ext cx="137808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Объект 8"/>
          <p:cNvGraphicFramePr/>
          <p:nvPr/>
        </p:nvGraphicFramePr>
        <p:xfrm>
          <a:off x="539640" y="3141720"/>
          <a:ext cx="1136880" cy="72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2" name="Объект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9640" y="3141720"/>
                    <a:ext cx="113688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Объект 9"/>
          <p:cNvGraphicFramePr/>
          <p:nvPr/>
        </p:nvGraphicFramePr>
        <p:xfrm>
          <a:off x="5724360" y="3141720"/>
          <a:ext cx="2778120" cy="704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4" name="Объект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24360" y="3141720"/>
                    <a:ext cx="277812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Объект 10"/>
          <p:cNvGraphicFramePr/>
          <p:nvPr/>
        </p:nvGraphicFramePr>
        <p:xfrm>
          <a:off x="1258920" y="3933720"/>
          <a:ext cx="554040" cy="360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6" name="Объект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58920" y="3933720"/>
                    <a:ext cx="5540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Объект 11"/>
          <p:cNvGraphicFramePr/>
          <p:nvPr/>
        </p:nvGraphicFramePr>
        <p:xfrm>
          <a:off x="5435640" y="3789360"/>
          <a:ext cx="1378080" cy="571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28" name="Объект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35640" y="3789360"/>
                    <a:ext cx="137808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Объект 12"/>
          <p:cNvGraphicFramePr/>
          <p:nvPr/>
        </p:nvGraphicFramePr>
        <p:xfrm>
          <a:off x="684360" y="4724280"/>
          <a:ext cx="4748040" cy="606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30" name="Объект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84360" y="4724280"/>
                    <a:ext cx="474804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Объект 13"/>
          <p:cNvGraphicFramePr/>
          <p:nvPr/>
        </p:nvGraphicFramePr>
        <p:xfrm>
          <a:off x="755640" y="5300640"/>
          <a:ext cx="4443480" cy="720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32" name="Объект 1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55640" y="5300640"/>
                    <a:ext cx="444348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войства скалярного произ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8400" y="1213920"/>
            <a:ext cx="85071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Объект 4"/>
          <p:cNvGraphicFramePr/>
          <p:nvPr/>
        </p:nvGraphicFramePr>
        <p:xfrm>
          <a:off x="1332000" y="1197000"/>
          <a:ext cx="204948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197000"/>
                    <a:ext cx="204948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Объект 5"/>
          <p:cNvGraphicFramePr/>
          <p:nvPr/>
        </p:nvGraphicFramePr>
        <p:xfrm>
          <a:off x="1474920" y="2276640"/>
          <a:ext cx="356688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8" name="Объект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4920" y="2276640"/>
                    <a:ext cx="356688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Объект 6"/>
          <p:cNvGraphicFramePr/>
          <p:nvPr/>
        </p:nvGraphicFramePr>
        <p:xfrm>
          <a:off x="1474920" y="3429000"/>
          <a:ext cx="3452760" cy="72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0" name="Объект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74920" y="3429000"/>
                    <a:ext cx="345276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Объект 7"/>
          <p:cNvGraphicFramePr/>
          <p:nvPr/>
        </p:nvGraphicFramePr>
        <p:xfrm>
          <a:off x="1619280" y="4292640"/>
          <a:ext cx="1944720" cy="126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2" name="Объект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19280" y="4292640"/>
                    <a:ext cx="194472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Объект 8"/>
          <p:cNvGraphicFramePr/>
          <p:nvPr/>
        </p:nvGraphicFramePr>
        <p:xfrm>
          <a:off x="1692360" y="5516640"/>
          <a:ext cx="1730160" cy="1189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4" name="Объект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92360" y="5516640"/>
                    <a:ext cx="173016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TextBox 8"/>
          <p:cNvSpPr/>
          <p:nvPr/>
        </p:nvSpPr>
        <p:spPr>
          <a:xfrm>
            <a:off x="4929120" y="471492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ол между двумя вектор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9"/>
              <p:cNvSpPr txBox="1"/>
              <p:nvPr/>
            </p:nvSpPr>
            <p:spPr>
              <a:xfrm>
                <a:off x="4357800" y="4813200"/>
                <a:ext cx="5079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6"/>
          <p:cNvSpPr/>
          <p:nvPr/>
        </p:nvSpPr>
        <p:spPr>
          <a:xfrm>
            <a:off x="653760" y="1571760"/>
            <a:ext cx="22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аны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екторы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2"/>
              <p:cNvSpPr txBox="1"/>
              <p:nvPr/>
            </p:nvSpPr>
            <p:spPr>
              <a:xfrm>
                <a:off x="3143160" y="1500120"/>
                <a:ext cx="40276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8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0" name="TextBox 8"/>
          <p:cNvSpPr/>
          <p:nvPr/>
        </p:nvSpPr>
        <p:spPr>
          <a:xfrm>
            <a:off x="719640" y="250020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айти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3"/>
              <p:cNvSpPr txBox="1"/>
              <p:nvPr/>
            </p:nvSpPr>
            <p:spPr>
              <a:xfrm>
                <a:off x="1928880" y="3214800"/>
                <a:ext cx="6124680" cy="28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с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2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;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−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длины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ов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с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калярный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вадра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а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  <m:r>
                              <m:t xml:space="preserve">;</m:t>
                            </m:r>
                          </m:e>
                        </m:acc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калярно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оизведени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ов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с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;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угол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между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сторами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с</m:t>
                            </m:r>
                          </m:e>
                        </m:acc>
                        <m:r>
                          <m:t xml:space="preserve"> </m:t>
                        </m:r>
                        <m:r>
                          <m:t xml:space="preserve">и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7"/>
              <p:cNvSpPr txBox="1"/>
              <p:nvPr/>
            </p:nvSpPr>
            <p:spPr>
              <a:xfrm>
                <a:off x="3143160" y="1500120"/>
                <a:ext cx="40276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8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82296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Реш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42920" y="1071720"/>
            <a:ext cx="87868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о определе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айдем длины векторов        и        .    По формуле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айд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калярный квадрат равен квадрату модуля вектора, т.е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2"/>
              <p:cNvSpPr txBox="1"/>
              <p:nvPr/>
            </p:nvSpPr>
            <p:spPr>
              <a:xfrm>
                <a:off x="2357280" y="1643040"/>
                <a:ext cx="49086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с</m:t>
                        </m:r>
                      </m:e>
                    </m:acc>
                    <m:r>
                      <m:t xml:space="preserve">=</m:t>
                    </m:r>
                    <m:r>
                      <m:t xml:space="preserve">2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3"/>
              <p:cNvSpPr txBox="1"/>
              <p:nvPr/>
            </p:nvSpPr>
            <p:spPr>
              <a:xfrm>
                <a:off x="4429080" y="2357280"/>
                <a:ext cx="3351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с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57" name="Объект 6"/>
          <p:cNvGraphicFramePr/>
          <p:nvPr/>
        </p:nvGraphicFramePr>
        <p:xfrm>
          <a:off x="1000080" y="3000240"/>
          <a:ext cx="2586240" cy="6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3000240"/>
                    <a:ext cx="25862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59" name="Object 5"/>
              <p:cNvSpPr txBox="1"/>
              <p:nvPr/>
            </p:nvSpPr>
            <p:spPr>
              <a:xfrm>
                <a:off x="1214280" y="3929040"/>
                <a:ext cx="68788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с</m:t>
                            </m:r>
                          </m:e>
                        </m:acc>
                        <m:r>
                          <m:t xml:space="preserve"> 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 </m:t>
                        </m: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8"/>
              <p:cNvSpPr txBox="1"/>
              <p:nvPr/>
            </p:nvSpPr>
            <p:spPr>
              <a:xfrm>
                <a:off x="5286240" y="2357280"/>
                <a:ext cx="3603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9"/>
              <p:cNvSpPr txBox="1"/>
              <p:nvPr/>
            </p:nvSpPr>
            <p:spPr>
              <a:xfrm>
                <a:off x="3836880" y="5643720"/>
                <a:ext cx="209232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56840" y="357120"/>
            <a:ext cx="8472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242280" indent="-242280">
              <a:spcBef>
                <a:spcPts val="601"/>
              </a:spcBef>
              <a:buClr>
                <a:srgbClr val="00206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калярное произ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-242280">
              <a:spcBef>
                <a:spcPts val="601"/>
              </a:spcBef>
              <a:buClr>
                <a:srgbClr val="00206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Угол между векторами                      определяется равенство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ткуда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Object 3"/>
              <p:cNvSpPr txBox="1"/>
              <p:nvPr/>
            </p:nvSpPr>
            <p:spPr>
              <a:xfrm>
                <a:off x="2071800" y="857160"/>
                <a:ext cx="474012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4"/>
              <p:cNvSpPr txBox="1"/>
              <p:nvPr/>
            </p:nvSpPr>
            <p:spPr>
              <a:xfrm>
                <a:off x="4500720" y="2000160"/>
                <a:ext cx="110160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с</m:t>
                        </m:r>
                      </m:e>
                    </m:acc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d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5"/>
              <p:cNvSpPr txBox="1"/>
              <p:nvPr/>
            </p:nvSpPr>
            <p:spPr>
              <a:xfrm>
                <a:off x="2714760" y="3071880"/>
                <a:ext cx="3730320" cy="11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сos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с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с</m:t>
                                </m:r>
                              </m:e>
                            </m:acc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d</m:t>
                                </m:r>
                              </m:e>
                            </m:acc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6"/>
              <p:cNvSpPr txBox="1"/>
              <p:nvPr/>
            </p:nvSpPr>
            <p:spPr>
              <a:xfrm>
                <a:off x="2933640" y="4776840"/>
                <a:ext cx="30067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ϕ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≈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395280" y="825480"/>
            <a:ext cx="835344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22268"/>
                </a:solidFill>
                <a:latin typeface="Arial"/>
              </a:rPr>
              <a:t>“</a:t>
            </a:r>
            <a:r>
              <a:rPr b="1" i="1" lang="ru-RU" sz="2800" spc="-1" strike="noStrike">
                <a:solidFill>
                  <a:srgbClr val="222268"/>
                </a:solidFill>
                <a:latin typeface="Arial"/>
              </a:rPr>
              <a:t>Весь этот мир держится исключительно  на математике,</a:t>
            </a:r>
            <a:r>
              <a:rPr b="1" i="1" lang="en-US" sz="2800" spc="-1" strike="noStrike">
                <a:solidFill>
                  <a:srgbClr val="222268"/>
                </a:solidFill>
                <a:latin typeface="Arial"/>
              </a:rPr>
              <a:t>-</a:t>
            </a:r>
            <a:r>
              <a:rPr b="1" i="1" lang="ru-RU" sz="2800" spc="-1" strike="noStrike">
                <a:solidFill>
                  <a:srgbClr val="222268"/>
                </a:solidFill>
                <a:latin typeface="Arial"/>
              </a:rPr>
              <a:t> сказал Роб Кук, ушедший на пенсию вице-президент </a:t>
            </a:r>
            <a:r>
              <a:rPr b="1" i="1" lang="en-US" sz="2800" spc="-1" strike="noStrike">
                <a:solidFill>
                  <a:srgbClr val="222268"/>
                </a:solidFill>
                <a:latin typeface="Arial"/>
              </a:rPr>
              <a:t>Pixar </a:t>
            </a:r>
            <a:r>
              <a:rPr b="1" i="1" lang="ru-RU" sz="2800" spc="-1" strike="noStrike">
                <a:solidFill>
                  <a:srgbClr val="222268"/>
                </a:solidFill>
                <a:latin typeface="Arial"/>
              </a:rPr>
              <a:t>и автор многих важных программ, используемых при создании трехмерной графики.- Что бы вы в нем ни делали, все описывается математическими действиями. И если все сделано правильно, то никто об этом не догадывается</a:t>
            </a:r>
            <a:r>
              <a:rPr b="1" i="1" lang="en-US" sz="2800" spc="-1" strike="noStrike">
                <a:solidFill>
                  <a:srgbClr val="222268"/>
                </a:solidFill>
                <a:latin typeface="Arial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250920" y="404640"/>
            <a:ext cx="8785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ля создания трехмерной анимации требуется не только разбираться в программном обеспечении, но и быть знатоком физики с математикой. Только обладая совокупностью этих  познаний, можно созд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еалистический виртуальный ми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едставьте себе локоть. Когда он гнется, рука, предплечье, запястье двигаются ,  а мышцы сжимаются и разжимаются – и все это можно описать при помощи матема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и работе над трехмерной анимацией или графикой компьютерной игры тригонометрия помогает зад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ращение и движение, алгебра используется  при создании спецэффектов, а интегральное исчисление помогает создать реалистичное освещ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тив Джоб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11280" y="33156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Декартовы прямоугольные координаты на плоскости и в пространст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Векторы. Операции над вектор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Скалярное произведение двух векто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Свойства скалярного произве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Arial"/>
              </a:rPr>
              <a:t>Декартовы прямоугольные координаты на плоскости и в пространств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Arial"/>
              </a:rPr>
              <a:t>Система координ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Arial"/>
              </a:rPr>
              <a:t>Определение 1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ямая, служащая для изображения действительных чисел, в которой выбрана начальная точка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, единица измерения и положительное направление, называется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числовой прямой,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или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числовой осью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Точка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  М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этой прямой характеризуется определенным числом –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координатой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   ,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т.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Объект 3"/>
          <p:cNvGraphicFramePr/>
          <p:nvPr/>
        </p:nvGraphicFramePr>
        <p:xfrm>
          <a:off x="3044880" y="4491000"/>
          <a:ext cx="284040" cy="3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4880" y="4491000"/>
                    <a:ext cx="28404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Объект 4"/>
          <p:cNvGraphicFramePr/>
          <p:nvPr/>
        </p:nvGraphicFramePr>
        <p:xfrm>
          <a:off x="3995640" y="4424400"/>
          <a:ext cx="93672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4424400"/>
                    <a:ext cx="9367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00" name="Прямая со стрелкой 6"/>
          <p:cNvCxnSpPr/>
          <p:nvPr/>
        </p:nvCxnSpPr>
        <p:spPr>
          <a:xfrm>
            <a:off x="1474560" y="5949720"/>
            <a:ext cx="5545800" cy="1080"/>
          </a:xfrm>
          <a:prstGeom prst="straightConnector1">
            <a:avLst/>
          </a:prstGeom>
          <a:ln w="9360">
            <a:solidFill>
              <a:srgbClr val="222268"/>
            </a:solidFill>
            <a:miter/>
            <a:tailEnd len="med" type="triangle" w="med"/>
          </a:ln>
        </p:spPr>
      </p:cxnSp>
      <p:graphicFrame>
        <p:nvGraphicFramePr>
          <p:cNvPr id="101" name="Объект 7"/>
          <p:cNvGraphicFramePr/>
          <p:nvPr/>
        </p:nvGraphicFramePr>
        <p:xfrm>
          <a:off x="2411280" y="5300640"/>
          <a:ext cx="210024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Объект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11280" y="5300640"/>
                    <a:ext cx="210024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Объект 8"/>
          <p:cNvGraphicFramePr/>
          <p:nvPr/>
        </p:nvGraphicFramePr>
        <p:xfrm>
          <a:off x="3276720" y="5084640"/>
          <a:ext cx="284040" cy="30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" name="Объект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76720" y="5084640"/>
                    <a:ext cx="28404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Объект 9"/>
          <p:cNvGraphicFramePr/>
          <p:nvPr/>
        </p:nvGraphicFramePr>
        <p:xfrm>
          <a:off x="6735600" y="5516640"/>
          <a:ext cx="284400" cy="306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6" name="Объект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35600" y="5516640"/>
                    <a:ext cx="284400" cy="3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Объект 11"/>
          <p:cNvGraphicFramePr/>
          <p:nvPr/>
        </p:nvGraphicFramePr>
        <p:xfrm>
          <a:off x="2411280" y="5810400"/>
          <a:ext cx="255600" cy="279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8" name="Объект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11280" y="5810400"/>
                    <a:ext cx="2556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Объект 12"/>
          <p:cNvGraphicFramePr/>
          <p:nvPr/>
        </p:nvGraphicFramePr>
        <p:xfrm>
          <a:off x="4260960" y="5808600"/>
          <a:ext cx="257040" cy="279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0" name="Объект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60960" y="5808600"/>
                    <a:ext cx="25704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95280" y="-360"/>
            <a:ext cx="822960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Определение 2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ве взаимно перпендикулярные оси                       , имеющие общее начало      и одинаковую единицу масштаба, образуют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рямоугольную (или декартовую) систему координат на плоскости.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сь          называется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сью абсцисс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, а ось         -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сью ординат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, точка     -началом координат и плоскость             - координатной плоскостью.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Объект 3"/>
          <p:cNvGraphicFramePr/>
          <p:nvPr/>
        </p:nvGraphicFramePr>
        <p:xfrm>
          <a:off x="4486320" y="452520"/>
          <a:ext cx="172872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86320" y="452520"/>
                    <a:ext cx="17287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Объект 4"/>
          <p:cNvGraphicFramePr/>
          <p:nvPr/>
        </p:nvGraphicFramePr>
        <p:xfrm>
          <a:off x="3059280" y="857160"/>
          <a:ext cx="345960" cy="41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9280" y="857160"/>
                    <a:ext cx="34596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Объект 5"/>
          <p:cNvGraphicFramePr/>
          <p:nvPr/>
        </p:nvGraphicFramePr>
        <p:xfrm>
          <a:off x="1619280" y="2011320"/>
          <a:ext cx="519120" cy="41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19280" y="2011320"/>
                    <a:ext cx="5191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Объект 6"/>
          <p:cNvGraphicFramePr/>
          <p:nvPr/>
        </p:nvGraphicFramePr>
        <p:xfrm>
          <a:off x="7669080" y="2000160"/>
          <a:ext cx="519120" cy="47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9" name="Объект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69080" y="2000160"/>
                    <a:ext cx="5191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Объект 8"/>
          <p:cNvGraphicFramePr/>
          <p:nvPr/>
        </p:nvGraphicFramePr>
        <p:xfrm>
          <a:off x="2484360" y="2786040"/>
          <a:ext cx="663480" cy="476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1" name="Объект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84360" y="2786040"/>
                    <a:ext cx="6634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22" name="Прямая со стрелкой 10"/>
          <p:cNvCxnSpPr/>
          <p:nvPr/>
        </p:nvCxnSpPr>
        <p:spPr>
          <a:xfrm flipH="1" flipV="1">
            <a:off x="6803280" y="3284640"/>
            <a:ext cx="37080" cy="244980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stealth" w="med"/>
          </a:ln>
        </p:spPr>
      </p:cxnSp>
      <p:cxnSp>
        <p:nvCxnSpPr>
          <p:cNvPr id="123" name="Прямая со стрелкой 14"/>
          <p:cNvCxnSpPr/>
          <p:nvPr/>
        </p:nvCxnSpPr>
        <p:spPr>
          <a:xfrm>
            <a:off x="6227280" y="5265360"/>
            <a:ext cx="2521800" cy="108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graphicFrame>
        <p:nvGraphicFramePr>
          <p:cNvPr id="124" name="Объект 16"/>
          <p:cNvGraphicFramePr/>
          <p:nvPr/>
        </p:nvGraphicFramePr>
        <p:xfrm>
          <a:off x="6458040" y="5219640"/>
          <a:ext cx="345960" cy="416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5" name="Объект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58040" y="5219640"/>
                    <a:ext cx="34596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Объект 17"/>
          <p:cNvGraphicFramePr/>
          <p:nvPr/>
        </p:nvGraphicFramePr>
        <p:xfrm>
          <a:off x="8440560" y="5265720"/>
          <a:ext cx="308160" cy="338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7" name="Объект 1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440560" y="5265720"/>
                    <a:ext cx="30816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Объект 18"/>
          <p:cNvGraphicFramePr/>
          <p:nvPr/>
        </p:nvGraphicFramePr>
        <p:xfrm>
          <a:off x="6539040" y="3141720"/>
          <a:ext cx="338040" cy="399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9" name="Объект 1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539040" y="3141720"/>
                    <a:ext cx="33804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Объект 19"/>
          <p:cNvGraphicFramePr/>
          <p:nvPr/>
        </p:nvGraphicFramePr>
        <p:xfrm>
          <a:off x="6300720" y="3641760"/>
          <a:ext cx="914400" cy="1658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1" name="Объект 1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300720" y="3641760"/>
                    <a:ext cx="91440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Объект 20"/>
          <p:cNvGraphicFramePr/>
          <p:nvPr/>
        </p:nvGraphicFramePr>
        <p:xfrm>
          <a:off x="6732720" y="4767120"/>
          <a:ext cx="1439640" cy="924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3" name="Объект 2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732720" y="4767120"/>
                    <a:ext cx="143964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TextBox 25"/>
          <p:cNvSpPr/>
          <p:nvPr/>
        </p:nvSpPr>
        <p:spPr>
          <a:xfrm>
            <a:off x="539640" y="3357720"/>
            <a:ext cx="5786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аждой точке 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М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эт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лоскости соответствует пара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, называемых ее координат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т.е.                        называется абсциссой,     - называется ординатой точки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Объект 27"/>
          <p:cNvGraphicFramePr/>
          <p:nvPr/>
        </p:nvGraphicFramePr>
        <p:xfrm>
          <a:off x="596880" y="4076640"/>
          <a:ext cx="784080" cy="539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6" name="Объект 2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96880" y="4076640"/>
                    <a:ext cx="78408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Объект 28"/>
          <p:cNvGraphicFramePr/>
          <p:nvPr/>
        </p:nvGraphicFramePr>
        <p:xfrm>
          <a:off x="1236600" y="4508640"/>
          <a:ext cx="1152720" cy="4330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38" name="Объект 2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236600" y="4508640"/>
                    <a:ext cx="11527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Объект 29"/>
          <p:cNvGraphicFramePr/>
          <p:nvPr/>
        </p:nvGraphicFramePr>
        <p:xfrm>
          <a:off x="8055000" y="3284640"/>
          <a:ext cx="1054080" cy="5349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40" name="Объект 29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8055000" y="3284640"/>
                    <a:ext cx="10540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Объект 30"/>
          <p:cNvGraphicFramePr/>
          <p:nvPr/>
        </p:nvGraphicFramePr>
        <p:xfrm>
          <a:off x="4643280" y="2428920"/>
          <a:ext cx="346320" cy="4158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42" name="Объект 30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643280" y="2428920"/>
                    <a:ext cx="34632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Объект 31"/>
          <p:cNvGraphicFramePr/>
          <p:nvPr/>
        </p:nvGraphicFramePr>
        <p:xfrm>
          <a:off x="2411280" y="4581360"/>
          <a:ext cx="584280" cy="3384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44" name="Объект 31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411280" y="4581360"/>
                    <a:ext cx="584280" cy="3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Объект 33"/>
          <p:cNvGraphicFramePr/>
          <p:nvPr/>
        </p:nvGraphicFramePr>
        <p:xfrm>
          <a:off x="2340000" y="4883040"/>
          <a:ext cx="282600" cy="3636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46" name="Объект 33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340000" y="4883040"/>
                    <a:ext cx="2826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Прямая соединительная линия 37"/>
          <p:cNvSpPr/>
          <p:nvPr/>
        </p:nvSpPr>
        <p:spPr>
          <a:xfrm>
            <a:off x="6840360" y="3716280"/>
            <a:ext cx="1260720" cy="0"/>
          </a:xfrm>
          <a:prstGeom prst="line">
            <a:avLst/>
          </a:prstGeom>
          <a:ln w="28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39"/>
          <p:cNvSpPr/>
          <p:nvPr/>
        </p:nvSpPr>
        <p:spPr>
          <a:xfrm>
            <a:off x="8101080" y="3716280"/>
            <a:ext cx="0" cy="1549440"/>
          </a:xfrm>
          <a:prstGeom prst="line">
            <a:avLst/>
          </a:prstGeom>
          <a:ln w="28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95280" y="188640"/>
            <a:ext cx="8229600" cy="60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Определение 3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Три взаимно перпендикулярные оси                         , имеющие общее начало      и одинаковую единицу масштаба, образуют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рямоугольную (или декартовую) систему координат в пространстве                  .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Ось         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азывается осью апплика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Любая точка                    характеризуется трой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чисел, называемых ее координат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т.е.        называется абсциссой,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называется ординатой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аппликатой точки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Объект 3"/>
          <p:cNvGraphicFramePr/>
          <p:nvPr/>
        </p:nvGraphicFramePr>
        <p:xfrm>
          <a:off x="4429080" y="692280"/>
          <a:ext cx="253512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9080" y="692280"/>
                    <a:ext cx="25351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Объект 4"/>
          <p:cNvGraphicFramePr/>
          <p:nvPr/>
        </p:nvGraphicFramePr>
        <p:xfrm>
          <a:off x="3132000" y="1052640"/>
          <a:ext cx="346320" cy="41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1052640"/>
                    <a:ext cx="34632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Объект 5"/>
          <p:cNvGraphicFramePr/>
          <p:nvPr/>
        </p:nvGraphicFramePr>
        <p:xfrm>
          <a:off x="1692360" y="2205000"/>
          <a:ext cx="490320" cy="41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5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92360" y="2205000"/>
                    <a:ext cx="4903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56" name="Прямая со стрелкой 10"/>
          <p:cNvCxnSpPr/>
          <p:nvPr/>
        </p:nvCxnSpPr>
        <p:spPr>
          <a:xfrm flipV="1">
            <a:off x="6156000" y="3428640"/>
            <a:ext cx="1080" cy="151344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stealth" w="med"/>
          </a:ln>
        </p:spPr>
      </p:cxnSp>
      <p:cxnSp>
        <p:nvCxnSpPr>
          <p:cNvPr id="157" name="Прямая со стрелкой 14"/>
          <p:cNvCxnSpPr/>
          <p:nvPr/>
        </p:nvCxnSpPr>
        <p:spPr>
          <a:xfrm>
            <a:off x="6156360" y="4941360"/>
            <a:ext cx="2358000" cy="108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graphicFrame>
        <p:nvGraphicFramePr>
          <p:cNvPr id="158" name="Объект 16"/>
          <p:cNvGraphicFramePr/>
          <p:nvPr/>
        </p:nvGraphicFramePr>
        <p:xfrm>
          <a:off x="6156360" y="4902120"/>
          <a:ext cx="345960" cy="416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9" name="Объект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56360" y="4902120"/>
                    <a:ext cx="34596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Объект 17"/>
          <p:cNvGraphicFramePr/>
          <p:nvPr/>
        </p:nvGraphicFramePr>
        <p:xfrm>
          <a:off x="8728200" y="5396040"/>
          <a:ext cx="307800" cy="33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1" name="Объект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728200" y="5396040"/>
                    <a:ext cx="30780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Объект 18"/>
          <p:cNvGraphicFramePr/>
          <p:nvPr/>
        </p:nvGraphicFramePr>
        <p:xfrm>
          <a:off x="5884920" y="3422520"/>
          <a:ext cx="338040" cy="400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3" name="Объект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84920" y="3422520"/>
                    <a:ext cx="33804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Объект 19"/>
          <p:cNvGraphicFramePr/>
          <p:nvPr/>
        </p:nvGraphicFramePr>
        <p:xfrm>
          <a:off x="5643720" y="3571920"/>
          <a:ext cx="639720" cy="1403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5" name="Объект 1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43720" y="3571920"/>
                    <a:ext cx="639720" cy="14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Объект 1"/>
          <p:cNvGraphicFramePr/>
          <p:nvPr/>
        </p:nvGraphicFramePr>
        <p:xfrm>
          <a:off x="7016760" y="1773360"/>
          <a:ext cx="808200" cy="476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7" name="Объект 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016760" y="1773360"/>
                    <a:ext cx="8082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Объект 11"/>
          <p:cNvGraphicFramePr/>
          <p:nvPr/>
        </p:nvGraphicFramePr>
        <p:xfrm>
          <a:off x="2782800" y="2592360"/>
          <a:ext cx="1501920" cy="476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69" name="Объект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82800" y="2592360"/>
                    <a:ext cx="15019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Объект 12"/>
          <p:cNvGraphicFramePr/>
          <p:nvPr/>
        </p:nvGraphicFramePr>
        <p:xfrm>
          <a:off x="1474920" y="3573360"/>
          <a:ext cx="583920" cy="338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1" name="Объект 1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474920" y="3573360"/>
                    <a:ext cx="583920" cy="3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Объект 13"/>
          <p:cNvGraphicFramePr/>
          <p:nvPr/>
        </p:nvGraphicFramePr>
        <p:xfrm>
          <a:off x="971640" y="4002120"/>
          <a:ext cx="282600" cy="363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73" name="Объект 1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971640" y="4002120"/>
                    <a:ext cx="2826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Объект 15"/>
          <p:cNvGraphicFramePr/>
          <p:nvPr/>
        </p:nvGraphicFramePr>
        <p:xfrm>
          <a:off x="900000" y="4459320"/>
          <a:ext cx="595440" cy="360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75" name="Объект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900000" y="4459320"/>
                    <a:ext cx="5954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76" name="Прямая со стрелкой 25"/>
          <p:cNvCxnSpPr/>
          <p:nvPr/>
        </p:nvCxnSpPr>
        <p:spPr>
          <a:xfrm flipH="1">
            <a:off x="5471640" y="4902120"/>
            <a:ext cx="721440" cy="111672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177" name="Левая фигурная скобка 34"/>
          <p:cNvSpPr/>
          <p:nvPr/>
        </p:nvSpPr>
        <p:spPr>
          <a:xfrm rot="1917000">
            <a:off x="5601960" y="4782960"/>
            <a:ext cx="284040" cy="1103400"/>
          </a:xfrm>
          <a:custGeom>
            <a:avLst/>
            <a:gdLst>
              <a:gd name="textAreaLeft" fmla="*/ 181440 w 284040"/>
              <a:gd name="textAreaRight" fmla="*/ 284040 w 284040"/>
              <a:gd name="textAreaTop" fmla="*/ 7200 h 1103400"/>
              <a:gd name="textAreaBottom" fmla="*/ 1096200 h 1103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2"/>
                  <a:pt x="10800" y="464"/>
                </a:cubicBezTo>
                <a:lnTo>
                  <a:pt x="10800" y="10336"/>
                </a:lnTo>
                <a:cubicBezTo>
                  <a:pt x="10800" y="10568"/>
                  <a:pt x="5400" y="10800"/>
                  <a:pt x="0" y="10800"/>
                </a:cubicBezTo>
                <a:cubicBezTo>
                  <a:pt x="5400" y="10800"/>
                  <a:pt x="10800" y="11032"/>
                  <a:pt x="10800" y="11264"/>
                </a:cubicBezTo>
                <a:lnTo>
                  <a:pt x="10800" y="21136"/>
                </a:lnTo>
                <a:cubicBezTo>
                  <a:pt x="10800" y="21368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Объект 35"/>
          <p:cNvGraphicFramePr/>
          <p:nvPr/>
        </p:nvGraphicFramePr>
        <p:xfrm>
          <a:off x="5491080" y="4929120"/>
          <a:ext cx="308160" cy="338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79" name="Объект 3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491080" y="4929120"/>
                    <a:ext cx="30816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Прямая соединительная линия 37"/>
          <p:cNvSpPr/>
          <p:nvPr/>
        </p:nvSpPr>
        <p:spPr>
          <a:xfrm>
            <a:off x="6192720" y="3701880"/>
            <a:ext cx="827280" cy="0"/>
          </a:xfrm>
          <a:prstGeom prst="line">
            <a:avLst/>
          </a:prstGeom>
          <a:ln w="28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2" descr=""/>
          <p:cNvPicPr/>
          <p:nvPr/>
        </p:nvPicPr>
        <p:blipFill>
          <a:blip r:embed="rId27"/>
          <a:stretch/>
        </p:blipFill>
        <p:spPr>
          <a:xfrm>
            <a:off x="6910560" y="3689280"/>
            <a:ext cx="218880" cy="1260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182" name="Picture 32" descr=""/>
          <p:cNvPicPr/>
          <p:nvPr/>
        </p:nvPicPr>
        <p:blipFill>
          <a:blip r:embed="rId28"/>
          <a:stretch/>
        </p:blipFill>
        <p:spPr>
          <a:xfrm>
            <a:off x="7450200" y="3500280"/>
            <a:ext cx="218880" cy="12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Объект 46"/>
          <p:cNvGraphicFramePr/>
          <p:nvPr/>
        </p:nvGraphicFramePr>
        <p:xfrm>
          <a:off x="6966000" y="3117960"/>
          <a:ext cx="1404720" cy="792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84" name="Объект 4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966000" y="3117960"/>
                    <a:ext cx="140472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Прямая соединительная линия 48"/>
          <p:cNvSpPr/>
          <p:nvPr/>
        </p:nvSpPr>
        <p:spPr>
          <a:xfrm flipV="1">
            <a:off x="5616720" y="5872320"/>
            <a:ext cx="1566720" cy="10800"/>
          </a:xfrm>
          <a:prstGeom prst="line">
            <a:avLst/>
          </a:prstGeom>
          <a:ln w="28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52"/>
          <p:cNvSpPr/>
          <p:nvPr/>
        </p:nvSpPr>
        <p:spPr>
          <a:xfrm flipV="1">
            <a:off x="7129440" y="4941360"/>
            <a:ext cx="611280" cy="930600"/>
          </a:xfrm>
          <a:prstGeom prst="line">
            <a:avLst/>
          </a:prstGeom>
          <a:ln w="28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57"/>
          <p:cNvSpPr/>
          <p:nvPr/>
        </p:nvSpPr>
        <p:spPr>
          <a:xfrm>
            <a:off x="7093080" y="3689280"/>
            <a:ext cx="33120" cy="2183040"/>
          </a:xfrm>
          <a:prstGeom prst="line">
            <a:avLst/>
          </a:prstGeom>
          <a:ln w="28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Объект 47138"/>
          <p:cNvGraphicFramePr/>
          <p:nvPr/>
        </p:nvGraphicFramePr>
        <p:xfrm>
          <a:off x="6084720" y="4437000"/>
          <a:ext cx="1787760" cy="9352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89" name="Объект 47138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084720" y="4437000"/>
                    <a:ext cx="178776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042560" y="189000"/>
            <a:ext cx="77058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 П Р Е Д Е Л Е Н И 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.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ектором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называется направленный  отрезок с началом в точке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и концом в точке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Длиной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(или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модулем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) вектора         называется длина отрезка </a:t>
            </a:r>
            <a:r>
              <a:rPr b="0" i="1" lang="ru-RU" sz="2400" spc="-1" strike="noStrike">
                <a:solidFill>
                  <a:srgbClr val="0d0d0d"/>
                </a:solidFill>
                <a:latin typeface="Arial"/>
              </a:rPr>
              <a:t>АВ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. Используется обозначение:         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ва вектора и называются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равным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, если они имеют одинаковые длины, лежат на параллельных прямых (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коллинеарны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) и направлены в одну сторону (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сонаправлены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4.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роекцией вектора  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а ось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азываются число, обозначаемое       , вычисляемое по формул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Объект 1"/>
          <p:cNvGraphicFramePr/>
          <p:nvPr/>
        </p:nvGraphicFramePr>
        <p:xfrm>
          <a:off x="3564000" y="549360"/>
          <a:ext cx="511200" cy="43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549360"/>
                    <a:ext cx="5112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Объект 2"/>
          <p:cNvGraphicFramePr/>
          <p:nvPr/>
        </p:nvGraphicFramePr>
        <p:xfrm>
          <a:off x="6877080" y="1413000"/>
          <a:ext cx="51120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Объект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1413000"/>
                    <a:ext cx="5112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Объект 3"/>
          <p:cNvGraphicFramePr/>
          <p:nvPr/>
        </p:nvGraphicFramePr>
        <p:xfrm>
          <a:off x="3132000" y="2133720"/>
          <a:ext cx="614520" cy="59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Объект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2000" y="2133720"/>
                    <a:ext cx="61452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Объект 4"/>
          <p:cNvGraphicFramePr/>
          <p:nvPr/>
        </p:nvGraphicFramePr>
        <p:xfrm>
          <a:off x="4716360" y="4076640"/>
          <a:ext cx="255600" cy="459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8" name="Объект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6360" y="4076640"/>
                    <a:ext cx="25560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Объект 5"/>
          <p:cNvGraphicFramePr/>
          <p:nvPr/>
        </p:nvGraphicFramePr>
        <p:xfrm>
          <a:off x="6300720" y="4149720"/>
          <a:ext cx="486000" cy="37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0" name="Объект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300720" y="4149720"/>
                    <a:ext cx="4860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Объект 6"/>
          <p:cNvGraphicFramePr/>
          <p:nvPr/>
        </p:nvGraphicFramePr>
        <p:xfrm>
          <a:off x="4807080" y="4437000"/>
          <a:ext cx="772920" cy="612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2" name="Объект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07080" y="4437000"/>
                    <a:ext cx="77292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Объект 7"/>
          <p:cNvGraphicFramePr/>
          <p:nvPr/>
        </p:nvGraphicFramePr>
        <p:xfrm>
          <a:off x="1584360" y="5286240"/>
          <a:ext cx="2844720" cy="757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4" name="Объект 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84360" y="5286240"/>
                    <a:ext cx="2844720" cy="7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5" name="Picture 2" descr=""/>
          <p:cNvPicPr/>
          <p:nvPr/>
        </p:nvPicPr>
        <p:blipFill>
          <a:blip r:embed="rId15"/>
          <a:stretch/>
        </p:blipFill>
        <p:spPr>
          <a:xfrm>
            <a:off x="4786200" y="5072040"/>
            <a:ext cx="3643560" cy="163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71280" y="4285800"/>
            <a:ext cx="878688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пределение.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Если начало и конец вектора совпадают, например             , то такой вектор называется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улевым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и обозначается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лина нулевого вектора равна ну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2786040" y="5000760"/>
                <a:ext cx="482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8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9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11"/>
              <p:cNvSpPr txBox="1"/>
              <p:nvPr/>
            </p:nvSpPr>
            <p:spPr>
              <a:xfrm>
                <a:off x="2071800" y="4643280"/>
                <a:ext cx="892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0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213" name="Picture 2" descr="C:\Users\HP\Desktop\фото (2).JPG"/>
          <p:cNvPicPr/>
          <p:nvPr/>
        </p:nvPicPr>
        <p:blipFill>
          <a:blip r:embed="rId1"/>
          <a:stretch/>
        </p:blipFill>
        <p:spPr>
          <a:xfrm>
            <a:off x="0" y="0"/>
            <a:ext cx="4643280" cy="3357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4" name="Object 12"/>
              <p:cNvSpPr txBox="1"/>
              <p:nvPr/>
            </p:nvSpPr>
            <p:spPr>
              <a:xfrm>
                <a:off x="714240" y="2685960"/>
                <a:ext cx="21733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e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e>
                        </m:acc>
                      </m:sub>
                    </m:sSub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15" name="Picture 2" descr="C:\Users\HP\Desktop\фото (3).JPG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357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6" name="Object 13"/>
              <p:cNvSpPr txBox="1"/>
              <p:nvPr/>
            </p:nvSpPr>
            <p:spPr>
              <a:xfrm>
                <a:off x="6970680" y="2714760"/>
                <a:ext cx="217332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e>
                      <m:sub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</m:t>
                            </m:r>
                          </m:e>
                        </m:acc>
                      </m:sub>
                    </m:sSub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S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19:29:58Z</dcterms:created>
  <dc:creator>Admin</dc:creator>
  <dc:description/>
  <dc:language>en-US</dc:language>
  <cp:lastModifiedBy>JADU</cp:lastModifiedBy>
  <dcterms:modified xsi:type="dcterms:W3CDTF">2014-09-14T15:55:07Z</dcterms:modified>
  <cp:revision>212</cp:revision>
  <dc:subject/>
  <dc:title>Лекция 1</dc:title>
</cp:coreProperties>
</file>