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84.png" ContentType="image/png"/>
  <Override PartName="/ppt/media/image40.wmf" ContentType="image/x-wmf"/>
  <Override PartName="/ppt/media/image83.png" ContentType="image/pn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8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65.wmf" ContentType="image/x-wmf"/>
  <Override PartName="/ppt/media/image82.png" ContentType="image/png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29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6ED-9C20-42AA-B95D-35ABEE3BB2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4E6A-66D9-4199-8F23-5D6C95AC99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233B-5747-468A-965A-69EFD5D3CE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C0D-6155-43A9-95F9-E7AB5301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B26-858D-44CC-B0C8-6A396043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67C1-ED2E-4F97-A122-6BFEBA9F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3D26-916A-4AC5-9F19-D5208576E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9214-7100-434E-8CD3-8ED3DC5D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A1CF-595B-4C60-9260-E7566A90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6C29-2140-40AE-AA6B-A45A6DD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7B8D-8C08-405D-BCFE-B49FFEDA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F53D-3CC7-4D32-BF47-214B87C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A8AB-4918-467E-A178-2374F03B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3791-C548-4DA3-829C-171CB700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D5C-B037-4FFD-A4C1-A9EA64AF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70B6-5401-4D9E-B21B-1D422D87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D0C-22D9-4DC5-B380-5FD1460F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487D-B5B6-426F-B010-897580E2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DFDD-59C4-4203-B668-9734980F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086-6F19-4624-9580-CC0CFF87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EA3-D40B-48B1-80C6-FC903212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7F12-FC0E-41BF-93BD-26E999D9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AC8-B094-41D6-93B0-7FC43250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CB34-45E3-4BAA-AA08-84D241EE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22F-6548-4B9C-B01E-80CDED9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8CB8-1F2E-4F2F-BBA6-5390F6F5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6C4-A74A-46B9-B43A-345621D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7D54-F5FC-437E-AE46-BE16DC3511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28CB-B7AD-4BD7-B1E8-5F33D17B16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6.wmf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6.wmf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1.wmf"/><Relationship Id="rId1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7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wmf"/><Relationship Id="rId5" Type="http://schemas.openxmlformats.org/officeDocument/2006/relationships/image" Target="../media/image8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190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. Базис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284640"/>
            <a:ext cx="66294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ые векторные простран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нейная зависимость векто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азис и размерность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еобразование координ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трица перех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1420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юбой элемент      линейного пространства           разлагается по базису                          этого пространства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динствен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Доказательство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едположим   обратное, пусть элемент        разлагается по базису                   двумя различными способами:               </a:t>
            </a: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4608360" y="17146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360" y="17146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2928960" y="221472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2147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Object 4"/>
          <p:cNvGraphicFramePr/>
          <p:nvPr/>
        </p:nvGraphicFramePr>
        <p:xfrm>
          <a:off x="6858000" y="2143080"/>
          <a:ext cx="14540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143080"/>
                    <a:ext cx="1454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2928960" y="428616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4286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6715080" y="4143240"/>
          <a:ext cx="145404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15080" y="414324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2905200" y="5214960"/>
          <a:ext cx="4052880" cy="100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05200" y="5214960"/>
                    <a:ext cx="405288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357120" y="1285920"/>
          <a:ext cx="5119920" cy="12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285920"/>
                    <a:ext cx="511992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654280"/>
          <a:ext cx="8264520" cy="6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654280"/>
                    <a:ext cx="82645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Box 7"/>
          <p:cNvSpPr/>
          <p:nvPr/>
        </p:nvSpPr>
        <p:spPr>
          <a:xfrm>
            <a:off x="504720" y="3214800"/>
            <a:ext cx="801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силу линейной независимости базисных элемен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, равенство               справедливо  только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олько тогда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4"/>
          <p:cNvGraphicFramePr/>
          <p:nvPr/>
        </p:nvGraphicFramePr>
        <p:xfrm>
          <a:off x="714240" y="3714840"/>
          <a:ext cx="145440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37148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5"/>
          <p:cNvGraphicFramePr/>
          <p:nvPr/>
        </p:nvGraphicFramePr>
        <p:xfrm>
          <a:off x="4071960" y="3714840"/>
          <a:ext cx="7254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714840"/>
                    <a:ext cx="725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571680" y="4714920"/>
          <a:ext cx="574020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714920"/>
                    <a:ext cx="574020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" name="Object 7"/>
          <p:cNvGraphicFramePr/>
          <p:nvPr/>
        </p:nvGraphicFramePr>
        <p:xfrm>
          <a:off x="571680" y="5357880"/>
          <a:ext cx="4162320" cy="566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1680" y="5357880"/>
                    <a:ext cx="4162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Box 13"/>
          <p:cNvSpPr/>
          <p:nvPr/>
        </p:nvSpPr>
        <p:spPr>
          <a:xfrm>
            <a:off x="4997520" y="535788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Теорема доказ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56760" y="135720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з этих равенств, в силу аксиом 1-8 линейного векторного пространства, 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Object 2"/>
          <p:cNvGraphicFramePr/>
          <p:nvPr/>
        </p:nvGraphicFramePr>
        <p:xfrm>
          <a:off x="560520" y="4857840"/>
          <a:ext cx="763272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520" y="4857840"/>
                    <a:ext cx="76327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1913040" y="5643720"/>
          <a:ext cx="5506920" cy="56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13040" y="5643720"/>
                    <a:ext cx="550692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9"/>
          <p:cNvSpPr/>
          <p:nvPr/>
        </p:nvSpPr>
        <p:spPr>
          <a:xfrm>
            <a:off x="642960" y="1668600"/>
            <a:ext cx="802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элементы                         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ы по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3500280" y="1778040"/>
          <a:ext cx="1285920" cy="365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0280" y="1778040"/>
                    <a:ext cx="1285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2928960" y="207180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20718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572000" y="2286000"/>
          <a:ext cx="15937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2286000"/>
                    <a:ext cx="15937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8"/>
          <p:cNvGraphicFramePr/>
          <p:nvPr/>
        </p:nvGraphicFramePr>
        <p:xfrm>
          <a:off x="2571840" y="3000240"/>
          <a:ext cx="3665520" cy="912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71840" y="3000240"/>
                    <a:ext cx="3665520" cy="9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71680" y="142884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1) означает, что при сложении двух элементов линейного пространства           их координаты складыв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(2) означает, что при умножении элемента линейного пространства        на некоторое число         координаты этого элемента умножаются на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Object 3"/>
          <p:cNvGraphicFramePr/>
          <p:nvPr/>
        </p:nvGraphicFramePr>
        <p:xfrm>
          <a:off x="6286680" y="2071800"/>
          <a:ext cx="35208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2071800"/>
                    <a:ext cx="3520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4"/>
          <p:cNvGraphicFramePr/>
          <p:nvPr/>
        </p:nvGraphicFramePr>
        <p:xfrm>
          <a:off x="4572000" y="372096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720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8" name="Объект 6"/>
              <p:cNvSpPr txBox="1"/>
              <p:nvPr/>
            </p:nvSpPr>
            <p:spPr>
              <a:xfrm>
                <a:off x="8001000" y="380196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9" name="Object 6"/>
          <p:cNvGraphicFramePr/>
          <p:nvPr/>
        </p:nvGraphicFramePr>
        <p:xfrm>
          <a:off x="7358040" y="4286160"/>
          <a:ext cx="365040" cy="412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58040" y="4286160"/>
                    <a:ext cx="36504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линейное простр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базис,  состоящий и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ов, то это числ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ается размерностью линейного простра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а само пространство называется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ым или векторным простра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 обозначается через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152e"/>
                </a:solidFill>
                <a:latin typeface="Arial"/>
              </a:rPr>
              <a:t>dim L.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3"/>
          <p:cNvGraphicFramePr/>
          <p:nvPr/>
        </p:nvGraphicFramePr>
        <p:xfrm>
          <a:off x="7858080" y="1643040"/>
          <a:ext cx="3524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080" y="1643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8"/>
          <p:cNvGraphicFramePr/>
          <p:nvPr/>
        </p:nvGraphicFramePr>
        <p:xfrm>
          <a:off x="642960" y="34290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34290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"/>
          <p:cNvGraphicFramePr/>
          <p:nvPr/>
        </p:nvGraphicFramePr>
        <p:xfrm>
          <a:off x="6072120" y="46432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4643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змерность линейного простра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56760" y="1356840"/>
            <a:ext cx="82868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пространство, в котором не существует бази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азывется бесконечномерным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любые два базиса содержат  одинаковое число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 плоскости равна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всех век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равна тр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мерность линейного пространства          рав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3"/>
          <p:cNvGraphicFramePr/>
          <p:nvPr/>
        </p:nvGraphicFramePr>
        <p:xfrm>
          <a:off x="8143920" y="5214960"/>
          <a:ext cx="38412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920" y="5214960"/>
                    <a:ext cx="3841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8"/>
          <p:cNvGraphicFramePr/>
          <p:nvPr/>
        </p:nvGraphicFramePr>
        <p:xfrm>
          <a:off x="6429240" y="5072040"/>
          <a:ext cx="51300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240" y="5072040"/>
                    <a:ext cx="51300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11858760" y="307188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58760" y="30718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4"/>
          <p:cNvSpPr/>
          <p:nvPr/>
        </p:nvSpPr>
        <p:spPr>
          <a:xfrm>
            <a:off x="357120" y="1428840"/>
            <a:ext cx="8286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         и                               два произво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n-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ерного линейного пространства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Элементы                             разложим по  бази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7"/>
          <p:cNvGraphicFramePr/>
          <p:nvPr/>
        </p:nvGraphicFramePr>
        <p:xfrm>
          <a:off x="1357200" y="1495440"/>
          <a:ext cx="145440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1495440"/>
                    <a:ext cx="1454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6"/>
          <p:cNvGraphicFramePr/>
          <p:nvPr/>
        </p:nvGraphicFramePr>
        <p:xfrm>
          <a:off x="3357720" y="1382760"/>
          <a:ext cx="1928520" cy="61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7720" y="1382760"/>
                    <a:ext cx="19285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8"/>
          <p:cNvGraphicFramePr/>
          <p:nvPr/>
        </p:nvGraphicFramePr>
        <p:xfrm>
          <a:off x="6858000" y="2000160"/>
          <a:ext cx="51264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2000160"/>
                    <a:ext cx="5126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5"/>
          <p:cNvGraphicFramePr/>
          <p:nvPr/>
        </p:nvGraphicFramePr>
        <p:xfrm>
          <a:off x="500040" y="3143160"/>
          <a:ext cx="1454040" cy="505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040" y="3143160"/>
                    <a:ext cx="145404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9"/>
          <p:cNvGraphicFramePr/>
          <p:nvPr/>
        </p:nvGraphicFramePr>
        <p:xfrm>
          <a:off x="2143080" y="2571840"/>
          <a:ext cx="1928880" cy="61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2571840"/>
                    <a:ext cx="19288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1"/>
          <p:cNvGraphicFramePr/>
          <p:nvPr/>
        </p:nvGraphicFramePr>
        <p:xfrm>
          <a:off x="2428920" y="3643200"/>
          <a:ext cx="4360680" cy="20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3643200"/>
                    <a:ext cx="4360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4"/>
          <p:cNvSpPr/>
          <p:nvPr/>
        </p:nvSpPr>
        <p:spPr>
          <a:xfrm>
            <a:off x="357120" y="1428840"/>
            <a:ext cx="8286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7"/>
          <p:cNvGraphicFramePr/>
          <p:nvPr/>
        </p:nvGraphicFramePr>
        <p:xfrm>
          <a:off x="2863800" y="1571760"/>
          <a:ext cx="273852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571760"/>
                    <a:ext cx="27385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Box 11"/>
          <p:cNvSpPr/>
          <p:nvPr/>
        </p:nvSpPr>
        <p:spPr>
          <a:xfrm>
            <a:off x="718200" y="178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озна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2"/>
          <p:cNvSpPr/>
          <p:nvPr/>
        </p:nvSpPr>
        <p:spPr>
          <a:xfrm>
            <a:off x="434880" y="4071960"/>
            <a:ext cx="776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Матрицу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называют матрицей перехода от  нов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а к  старому базису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пределитель этой матрицы отличен от н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28760" y="1599840"/>
            <a:ext cx="828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Замечание 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ждый вектор          пространства  имеет координаты как в старом базисе, так и в но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оторое связывает координаты                                      вектора                                 в старом базисе и координаты      вектора        в новом базисе, где          –  матрица перехода от нового базиса к ста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ереход от одного базиса к другом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5572080" y="192888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9288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3"/>
          <p:cNvGraphicFramePr/>
          <p:nvPr/>
        </p:nvGraphicFramePr>
        <p:xfrm>
          <a:off x="8143920" y="18572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43920" y="18572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0"/>
          <p:cNvGraphicFramePr/>
          <p:nvPr/>
        </p:nvGraphicFramePr>
        <p:xfrm>
          <a:off x="4357800" y="3000240"/>
          <a:ext cx="42685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7800" y="3000240"/>
                    <a:ext cx="4268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3"/>
          <p:cNvGraphicFramePr/>
          <p:nvPr/>
        </p:nvGraphicFramePr>
        <p:xfrm>
          <a:off x="5572080" y="3500280"/>
          <a:ext cx="178596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50028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4"/>
          <p:cNvGraphicFramePr/>
          <p:nvPr/>
        </p:nvGraphicFramePr>
        <p:xfrm>
          <a:off x="4286160" y="4643280"/>
          <a:ext cx="320760" cy="357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6160" y="4643280"/>
                    <a:ext cx="32076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5"/>
          <p:cNvGraphicFramePr/>
          <p:nvPr/>
        </p:nvGraphicFramePr>
        <p:xfrm>
          <a:off x="7858080" y="4500720"/>
          <a:ext cx="503280" cy="53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1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858080" y="4500720"/>
                    <a:ext cx="5032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8"/>
          <p:cNvGraphicFramePr/>
          <p:nvPr/>
        </p:nvGraphicFramePr>
        <p:xfrm>
          <a:off x="2500200" y="4071960"/>
          <a:ext cx="1785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3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500200" y="4071960"/>
                    <a:ext cx="1785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6760" y="135720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калярным  произведением  векторов         и           линейного векторного пространства          называется число, обозначаем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довлетворяющее следующим 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2.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8"/>
          <p:cNvGraphicFramePr/>
          <p:nvPr/>
        </p:nvGraphicFramePr>
        <p:xfrm>
          <a:off x="2286000" y="2286000"/>
          <a:ext cx="32076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3286080" y="2214720"/>
          <a:ext cx="32076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214720"/>
                    <a:ext cx="32076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3"/>
          <p:cNvGraphicFramePr/>
          <p:nvPr/>
        </p:nvGraphicFramePr>
        <p:xfrm>
          <a:off x="2928960" y="278604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1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28960" y="27860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10"/>
          <p:cNvGraphicFramePr/>
          <p:nvPr/>
        </p:nvGraphicFramePr>
        <p:xfrm>
          <a:off x="785880" y="3286080"/>
          <a:ext cx="89676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80" y="3286080"/>
                    <a:ext cx="8967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11"/>
          <p:cNvGraphicFramePr/>
          <p:nvPr/>
        </p:nvGraphicFramePr>
        <p:xfrm>
          <a:off x="785880" y="4000680"/>
          <a:ext cx="20113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5880" y="4000680"/>
                    <a:ext cx="20113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Object 13"/>
          <p:cNvGraphicFramePr/>
          <p:nvPr/>
        </p:nvGraphicFramePr>
        <p:xfrm>
          <a:off x="2928960" y="4000680"/>
          <a:ext cx="1490760" cy="475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28960" y="4000680"/>
                    <a:ext cx="1490760" cy="47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15"/>
          <p:cNvGraphicFramePr/>
          <p:nvPr/>
        </p:nvGraphicFramePr>
        <p:xfrm>
          <a:off x="857160" y="4572000"/>
          <a:ext cx="3602160" cy="493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4572000"/>
                    <a:ext cx="360216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Object 17"/>
          <p:cNvGraphicFramePr/>
          <p:nvPr/>
        </p:nvGraphicFramePr>
        <p:xfrm>
          <a:off x="4602240" y="4595760"/>
          <a:ext cx="1755720" cy="476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02240" y="4595760"/>
                    <a:ext cx="1755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19"/>
          <p:cNvGraphicFramePr/>
          <p:nvPr/>
        </p:nvGraphicFramePr>
        <p:xfrm>
          <a:off x="857160" y="5214960"/>
          <a:ext cx="2449440" cy="476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2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57160" y="5214960"/>
                    <a:ext cx="24494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Object 21"/>
          <p:cNvGraphicFramePr/>
          <p:nvPr/>
        </p:nvGraphicFramePr>
        <p:xfrm>
          <a:off x="3514680" y="5240160"/>
          <a:ext cx="2776680" cy="474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514680" y="5240160"/>
                    <a:ext cx="27766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24"/>
          <p:cNvGraphicFramePr/>
          <p:nvPr/>
        </p:nvGraphicFramePr>
        <p:xfrm>
          <a:off x="2786040" y="5786280"/>
          <a:ext cx="1143000" cy="4762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4" name="Object 2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786040" y="5786280"/>
                    <a:ext cx="114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26"/>
          <p:cNvGraphicFramePr/>
          <p:nvPr/>
        </p:nvGraphicFramePr>
        <p:xfrm>
          <a:off x="1000080" y="5786280"/>
          <a:ext cx="1413000" cy="476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6" name="Object 2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00080" y="5786280"/>
                    <a:ext cx="141300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зывается линейным векторным пространством,  если для любых его элементов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называемых  векторами  этого  пространства,  и любого действительного числа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 определены  в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 что верны следующие аксио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4"/>
              <p:cNvSpPr txBox="1"/>
              <p:nvPr/>
            </p:nvSpPr>
            <p:spPr>
              <a:xfrm>
                <a:off x="2124000" y="256536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5"/>
              <p:cNvSpPr txBox="1"/>
              <p:nvPr/>
            </p:nvSpPr>
            <p:spPr>
              <a:xfrm>
                <a:off x="2916360" y="2522520"/>
                <a:ext cx="2808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6"/>
              <p:cNvSpPr txBox="1"/>
              <p:nvPr/>
            </p:nvSpPr>
            <p:spPr>
              <a:xfrm>
                <a:off x="7502400" y="301608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7"/>
              <p:cNvSpPr txBox="1"/>
              <p:nvPr/>
            </p:nvSpPr>
            <p:spPr>
              <a:xfrm>
                <a:off x="4356000" y="3573360"/>
                <a:ext cx="758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8"/>
              <p:cNvSpPr txBox="1"/>
              <p:nvPr/>
            </p:nvSpPr>
            <p:spPr>
              <a:xfrm>
                <a:off x="5916600" y="3573360"/>
                <a:ext cx="6476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"/>
          <p:cNvGraphicFramePr/>
          <p:nvPr/>
        </p:nvGraphicFramePr>
        <p:xfrm>
          <a:off x="428760" y="1285920"/>
          <a:ext cx="145404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1454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Box 6"/>
          <p:cNvSpPr/>
          <p:nvPr/>
        </p:nvSpPr>
        <p:spPr>
          <a:xfrm>
            <a:off x="357120" y="1322280"/>
            <a:ext cx="835812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гда, ког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улевой эле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пространство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котором определено скалярное произ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ов,  называется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евклидовым простра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о            является евклидовым, так как о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е векторное и в нем определено скаля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изведение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4143240" y="1357200"/>
          <a:ext cx="65880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1357200"/>
                    <a:ext cx="65880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3"/>
          <p:cNvGraphicFramePr/>
          <p:nvPr/>
        </p:nvGraphicFramePr>
        <p:xfrm>
          <a:off x="2643120" y="1785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1785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8"/>
          <p:cNvGraphicFramePr/>
          <p:nvPr/>
        </p:nvGraphicFramePr>
        <p:xfrm>
          <a:off x="7858080" y="2357280"/>
          <a:ext cx="35244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58080" y="23572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9"/>
          <p:cNvGraphicFramePr/>
          <p:nvPr/>
        </p:nvGraphicFramePr>
        <p:xfrm>
          <a:off x="2714760" y="4143240"/>
          <a:ext cx="49356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4143240"/>
                    <a:ext cx="49356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1428480"/>
            <a:ext cx="82486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юбом евклидовом пространстве опреде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длину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вект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асстояние между двумя вектор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синус угла   между векторами        и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8"/>
          <p:cNvGraphicFramePr/>
          <p:nvPr/>
        </p:nvGraphicFramePr>
        <p:xfrm>
          <a:off x="3143160" y="2143080"/>
          <a:ext cx="151776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2143080"/>
                    <a:ext cx="15177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7"/>
          <p:cNvGraphicFramePr/>
          <p:nvPr/>
        </p:nvGraphicFramePr>
        <p:xfrm>
          <a:off x="3214800" y="3357720"/>
          <a:ext cx="1984320" cy="52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3357720"/>
                    <a:ext cx="198432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-1643040" y="1500120"/>
          <a:ext cx="142920" cy="1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643040" y="1500120"/>
                    <a:ext cx="14292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5"/>
          <p:cNvGraphicFramePr/>
          <p:nvPr/>
        </p:nvGraphicFramePr>
        <p:xfrm>
          <a:off x="5572080" y="4102200"/>
          <a:ext cx="284040" cy="32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4102200"/>
                    <a:ext cx="28404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3"/>
          <p:cNvGraphicFramePr/>
          <p:nvPr/>
        </p:nvGraphicFramePr>
        <p:xfrm>
          <a:off x="3929040" y="4714920"/>
          <a:ext cx="1571760" cy="81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9040" y="4714920"/>
                    <a:ext cx="157176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2"/>
          <p:cNvGraphicFramePr/>
          <p:nvPr/>
        </p:nvGraphicFramePr>
        <p:xfrm>
          <a:off x="-1071720" y="1928880"/>
          <a:ext cx="37152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3" name="Object 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-1071720" y="1928880"/>
                    <a:ext cx="3715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Rectangle 14"/>
          <p:cNvSpPr/>
          <p:nvPr/>
        </p:nvSpPr>
        <p:spPr>
          <a:xfrm>
            <a:off x="4692600" y="1267920"/>
            <a:ext cx="21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7"/>
          <p:cNvSpPr/>
          <p:nvPr/>
        </p:nvSpPr>
        <p:spPr>
          <a:xfrm>
            <a:off x="2520" y="2339280"/>
            <a:ext cx="250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ВКЛИДОВЫ  ПРОСТРАН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18"/>
          <p:cNvGraphicFramePr/>
          <p:nvPr/>
        </p:nvGraphicFramePr>
        <p:xfrm>
          <a:off x="6357960" y="4057560"/>
          <a:ext cx="301680" cy="443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57960" y="4057560"/>
                    <a:ext cx="30168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ртогональные элементы. Ортонормированный бази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56760" y="1571400"/>
            <a:ext cx="8177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азис                        евклид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а        называется ортогональным,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и любых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</a:t>
            </a:r>
            <a:r>
              <a:rPr b="1" lang="ru-RU" sz="3200" spc="-1" strike="noStrike">
                <a:solidFill>
                  <a:srgbClr val="cc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ый  баз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вклидова  пространства  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ортонормированны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Object 4"/>
          <p:cNvGraphicFramePr/>
          <p:nvPr/>
        </p:nvGraphicFramePr>
        <p:xfrm>
          <a:off x="3857760" y="156852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15685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Object 3"/>
          <p:cNvGraphicFramePr/>
          <p:nvPr/>
        </p:nvGraphicFramePr>
        <p:xfrm>
          <a:off x="2643120" y="200664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00664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8"/>
          <p:cNvGraphicFramePr/>
          <p:nvPr/>
        </p:nvGraphicFramePr>
        <p:xfrm>
          <a:off x="571680" y="2416320"/>
          <a:ext cx="145404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680" y="2416320"/>
                    <a:ext cx="145404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0"/>
          <p:cNvGraphicFramePr/>
          <p:nvPr/>
        </p:nvGraphicFramePr>
        <p:xfrm>
          <a:off x="3929040" y="2452680"/>
          <a:ext cx="1836720" cy="47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2452680"/>
                    <a:ext cx="1836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3"/>
          <p:cNvGraphicFramePr/>
          <p:nvPr/>
        </p:nvGraphicFramePr>
        <p:xfrm>
          <a:off x="6215040" y="2925720"/>
          <a:ext cx="150804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3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15040" y="292572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5"/>
          <p:cNvGraphicFramePr/>
          <p:nvPr/>
        </p:nvGraphicFramePr>
        <p:xfrm>
          <a:off x="4357800" y="3435480"/>
          <a:ext cx="352440" cy="42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5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57800" y="343548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6"/>
          <p:cNvGraphicFramePr/>
          <p:nvPr/>
        </p:nvGraphicFramePr>
        <p:xfrm>
          <a:off x="4857840" y="3960720"/>
          <a:ext cx="1342800" cy="5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8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7840" y="3960720"/>
                    <a:ext cx="134280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17"/>
          <p:cNvGraphicFramePr/>
          <p:nvPr/>
        </p:nvGraphicFramePr>
        <p:xfrm>
          <a:off x="6424560" y="3954600"/>
          <a:ext cx="1719360" cy="47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0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424560" y="3954600"/>
                    <a:ext cx="17193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56760" y="1599840"/>
            <a:ext cx="83581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–                          базис в  евклидовом пространстве        .  Тогда   векторов, вычисленных по формул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бразуют  ортогональный базис  в  евклидо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странстве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3" name="Object 5"/>
          <p:cNvGraphicFramePr/>
          <p:nvPr/>
        </p:nvGraphicFramePr>
        <p:xfrm>
          <a:off x="2257560" y="1785960"/>
          <a:ext cx="156528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7560" y="1785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2928960" y="2435400"/>
          <a:ext cx="35244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28960" y="24354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Object 8"/>
          <p:cNvGraphicFramePr/>
          <p:nvPr/>
        </p:nvGraphicFramePr>
        <p:xfrm>
          <a:off x="1571760" y="3429000"/>
          <a:ext cx="100476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1760" y="3429000"/>
                    <a:ext cx="10047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Object 10"/>
          <p:cNvGraphicFramePr/>
          <p:nvPr/>
        </p:nvGraphicFramePr>
        <p:xfrm>
          <a:off x="3214800" y="3143160"/>
          <a:ext cx="2184120" cy="887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3143160"/>
                    <a:ext cx="21841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12"/>
          <p:cNvGraphicFramePr/>
          <p:nvPr/>
        </p:nvGraphicFramePr>
        <p:xfrm>
          <a:off x="6000840" y="3286080"/>
          <a:ext cx="164448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3286080"/>
                    <a:ext cx="1644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4"/>
          <p:cNvGraphicFramePr/>
          <p:nvPr/>
        </p:nvGraphicFramePr>
        <p:xfrm>
          <a:off x="1571760" y="4071960"/>
          <a:ext cx="3098520" cy="903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8" name="Object 1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4071960"/>
                    <a:ext cx="309852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7"/>
          <p:cNvGraphicFramePr/>
          <p:nvPr/>
        </p:nvGraphicFramePr>
        <p:xfrm>
          <a:off x="2643120" y="5506920"/>
          <a:ext cx="352440" cy="422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0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43120" y="550692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28760" y="1356840"/>
            <a:ext cx="82152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роцесс построения указан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ьного базиса                            по не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данному                        базису   называется  процес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ртогонализации  Шмид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Нормированием вектора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замена его вектором         ,  имеющим длину,  равную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СС  ОРТОГОНАЛИЗАЦИИ  БАЗИСА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3" name="Object 3"/>
          <p:cNvGraphicFramePr/>
          <p:nvPr/>
        </p:nvGraphicFramePr>
        <p:xfrm>
          <a:off x="4214880" y="2286000"/>
          <a:ext cx="150804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286000"/>
                    <a:ext cx="150804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1928880" y="2928960"/>
          <a:ext cx="15652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2928960"/>
                    <a:ext cx="1565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6429240" y="4214880"/>
          <a:ext cx="28440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240" y="4214880"/>
                    <a:ext cx="28440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Object 7"/>
          <p:cNvGraphicFramePr/>
          <p:nvPr/>
        </p:nvGraphicFramePr>
        <p:xfrm>
          <a:off x="3714840" y="4500720"/>
          <a:ext cx="393480" cy="92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14840" y="4500720"/>
                    <a:ext cx="393480" cy="92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ыяснить, являются л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о зависим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оставим матрицу, у которой, наприм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троками являются векторы                        .  Приведем ее к ступенчатому ви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2"/>
          <p:cNvGraphicFramePr/>
          <p:nvPr/>
        </p:nvGraphicFramePr>
        <p:xfrm>
          <a:off x="500040" y="2214720"/>
          <a:ext cx="810900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214720"/>
                    <a:ext cx="81090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3"/>
          <p:cNvGraphicFramePr/>
          <p:nvPr/>
        </p:nvGraphicFramePr>
        <p:xfrm>
          <a:off x="4714920" y="4071960"/>
          <a:ext cx="186516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4071960"/>
                    <a:ext cx="1865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0040" y="1428480"/>
            <a:ext cx="82152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Object 4"/>
          <p:cNvGraphicFramePr/>
          <p:nvPr/>
        </p:nvGraphicFramePr>
        <p:xfrm>
          <a:off x="1000080" y="1457280"/>
          <a:ext cx="72309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457280"/>
                    <a:ext cx="7230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33" name="Прямая со стрелкой 22"/>
          <p:cNvCxnSpPr/>
          <p:nvPr/>
        </p:nvCxnSpPr>
        <p:spPr>
          <a:xfrm flipH="1" flipV="1">
            <a:off x="2626920" y="2994840"/>
            <a:ext cx="2865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4" name="Прямая со стрелкой 26"/>
          <p:cNvCxnSpPr/>
          <p:nvPr/>
        </p:nvCxnSpPr>
        <p:spPr>
          <a:xfrm flipH="1" flipV="1">
            <a:off x="2642400" y="2142360"/>
            <a:ext cx="500760" cy="252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435" name="Прямая со стрелкой 27"/>
          <p:cNvCxnSpPr/>
          <p:nvPr/>
        </p:nvCxnSpPr>
        <p:spPr>
          <a:xfrm flipH="1" flipV="1">
            <a:off x="2643120" y="2571480"/>
            <a:ext cx="643320" cy="2160"/>
          </a:xfrm>
          <a:prstGeom prst="straightConnector1">
            <a:avLst/>
          </a:prstGeom>
          <a:ln w="3492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436" name="Прямая соединительная линия 29"/>
          <p:cNvSpPr/>
          <p:nvPr/>
        </p:nvSpPr>
        <p:spPr>
          <a:xfrm>
            <a:off x="3071880" y="1785960"/>
            <a:ext cx="0" cy="35712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32"/>
          <p:cNvSpPr/>
          <p:nvPr/>
        </p:nvSpPr>
        <p:spPr>
          <a:xfrm flipH="1">
            <a:off x="3284640" y="1714680"/>
            <a:ext cx="1440" cy="85716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37"/>
          <p:cNvSpPr/>
          <p:nvPr/>
        </p:nvSpPr>
        <p:spPr>
          <a:xfrm flipH="1">
            <a:off x="2928960" y="1785960"/>
            <a:ext cx="1440" cy="121428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6"/>
          <p:cNvSpPr/>
          <p:nvPr/>
        </p:nvSpPr>
        <p:spPr>
          <a:xfrm>
            <a:off x="571680" y="3857760"/>
            <a:ext cx="814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Ранг системы векторов   равен дв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 Векторы линейно зависим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2457720" cy="140328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3276720" y="1700280"/>
            <a:ext cx="2469960" cy="12603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"/>
          <p:cNvPicPr/>
          <p:nvPr/>
        </p:nvPicPr>
        <p:blipFill>
          <a:blip r:embed="rId3"/>
          <a:stretch/>
        </p:blipFill>
        <p:spPr>
          <a:xfrm>
            <a:off x="6227640" y="1700280"/>
            <a:ext cx="1819440" cy="11523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8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9" descr=""/>
          <p:cNvPicPr/>
          <p:nvPr/>
        </p:nvPicPr>
        <p:blipFill>
          <a:blip r:embed="rId4"/>
          <a:stretch/>
        </p:blipFill>
        <p:spPr>
          <a:xfrm>
            <a:off x="395280" y="3124080"/>
            <a:ext cx="7835760" cy="1160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4" descr=""/>
          <p:cNvPicPr/>
          <p:nvPr/>
        </p:nvPicPr>
        <p:blipFill>
          <a:blip r:embed="rId5"/>
          <a:stretch/>
        </p:blipFill>
        <p:spPr>
          <a:xfrm>
            <a:off x="395280" y="4376880"/>
            <a:ext cx="7658280" cy="64908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11"/>
              <p:cNvSpPr txBox="1"/>
              <p:nvPr/>
            </p:nvSpPr>
            <p:spPr>
              <a:xfrm>
                <a:off x="1547640" y="4799160"/>
                <a:ext cx="249588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Прямоугольник 12"/>
          <p:cNvSpPr/>
          <p:nvPr/>
        </p:nvSpPr>
        <p:spPr>
          <a:xfrm>
            <a:off x="468360" y="53132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координаты данного разложения удовлетворяют линейной системе алгебраических уравн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Объект 5"/>
              <p:cNvSpPr txBox="1"/>
              <p:nvPr/>
            </p:nvSpPr>
            <p:spPr>
              <a:xfrm>
                <a:off x="900000" y="1628640"/>
                <a:ext cx="21700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Объект 7"/>
              <p:cNvSpPr txBox="1"/>
              <p:nvPr/>
            </p:nvSpPr>
            <p:spPr>
              <a:xfrm>
                <a:off x="3276720" y="1628640"/>
                <a:ext cx="234468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4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Объект 9"/>
              <p:cNvSpPr txBox="1"/>
              <p:nvPr/>
            </p:nvSpPr>
            <p:spPr>
              <a:xfrm>
                <a:off x="5796000" y="1700280"/>
                <a:ext cx="258912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  <m:r>
                          <m:t xml:space="preserve">|</m:t>
                        </m:r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0" name="Picture 7" descr=""/>
          <p:cNvPicPr/>
          <p:nvPr/>
        </p:nvPicPr>
        <p:blipFill>
          <a:blip r:embed="rId1"/>
          <a:stretch/>
        </p:blipFill>
        <p:spPr>
          <a:xfrm>
            <a:off x="428760" y="2817720"/>
            <a:ext cx="5151240" cy="341964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13"/>
              <p:cNvSpPr txBox="1"/>
              <p:nvPr/>
            </p:nvSpPr>
            <p:spPr>
              <a:xfrm>
                <a:off x="5724360" y="4905360"/>
                <a:ext cx="27878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35164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14200" y="1341360"/>
            <a:ext cx="8715600" cy="4332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rcRect l="-2059" t="0" r="-2059" b="0"/>
          <a:stretch/>
        </p:blipFill>
        <p:spPr>
          <a:xfrm>
            <a:off x="611280" y="1484280"/>
            <a:ext cx="7561080" cy="20890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056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488360" cy="2235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684360" y="3645000"/>
            <a:ext cx="7632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5"/>
              <p:cNvSpPr txBox="1"/>
              <p:nvPr/>
            </p:nvSpPr>
            <p:spPr>
              <a:xfrm>
                <a:off x="2700360" y="1484280"/>
                <a:ext cx="35956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75" name="Picture 5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7993080" cy="180036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Объект 7"/>
              <p:cNvSpPr txBox="1"/>
              <p:nvPr/>
            </p:nvSpPr>
            <p:spPr>
              <a:xfrm>
                <a:off x="971640" y="4653000"/>
                <a:ext cx="19508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2"/>
          <p:cNvSpPr/>
          <p:nvPr/>
        </p:nvSpPr>
        <p:spPr>
          <a:xfrm>
            <a:off x="3419640" y="493884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твет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0" name="Объект 10"/>
              <p:cNvSpPr txBox="1"/>
              <p:nvPr/>
            </p:nvSpPr>
            <p:spPr>
              <a:xfrm>
                <a:off x="4859280" y="4686480"/>
                <a:ext cx="19512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8137440" cy="46836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428760" y="2214720"/>
          <a:ext cx="2889000" cy="52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214720"/>
                    <a:ext cx="2889000" cy="52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3714840" y="2238480"/>
          <a:ext cx="287964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14840" y="2238480"/>
                    <a:ext cx="28796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13"/>
          <p:cNvGraphicFramePr/>
          <p:nvPr/>
        </p:nvGraphicFramePr>
        <p:xfrm>
          <a:off x="428760" y="2928960"/>
          <a:ext cx="2595600" cy="530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4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59560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15"/>
          <p:cNvGraphicFramePr/>
          <p:nvPr/>
        </p:nvGraphicFramePr>
        <p:xfrm>
          <a:off x="3635280" y="3068640"/>
          <a:ext cx="2741760" cy="476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7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5280" y="3068640"/>
                    <a:ext cx="274176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Box 16"/>
          <p:cNvSpPr/>
          <p:nvPr/>
        </p:nvSpPr>
        <p:spPr>
          <a:xfrm>
            <a:off x="357120" y="38577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ножество всех векторов плоскости или трехмерного пространства является линейным пространством относительно операций сложения дву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екторов и умножения векторов на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8215200" cy="2557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428760" y="4071960"/>
            <a:ext cx="8143920" cy="13032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1"/>
          <p:cNvGraphicFramePr/>
          <p:nvPr/>
        </p:nvGraphicFramePr>
        <p:xfrm>
          <a:off x="4786200" y="1643040"/>
          <a:ext cx="130680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1643040"/>
                    <a:ext cx="130680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4643280" y="1973160"/>
          <a:ext cx="384480" cy="4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73160"/>
                    <a:ext cx="38448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Теорема.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 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векторов 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пространства   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является линейно независимой тогда и только тогда, когда матриц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,  столбцы  (строки)  которой составлены из этих векторов, имеет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нг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Следств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истема, состоящая более чем из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n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екторов пространства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,  линейно зависи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"/>
          <p:cNvGraphicFramePr/>
          <p:nvPr/>
        </p:nvGraphicFramePr>
        <p:xfrm>
          <a:off x="6386400" y="1643040"/>
          <a:ext cx="16239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6400" y="1643040"/>
                    <a:ext cx="1623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7"/>
          <p:cNvGraphicFramePr/>
          <p:nvPr/>
        </p:nvGraphicFramePr>
        <p:xfrm>
          <a:off x="3214800" y="2143080"/>
          <a:ext cx="59364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14308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4572000" y="5000760"/>
          <a:ext cx="59364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5000760"/>
                    <a:ext cx="59364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нейные векторные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3584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усть           произвольное линейное простра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инейная независимая система элементов                     пространства         называе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азисом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этого пространства, если любой элемент      пространства         является линейной комбинацией этих элементов,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где                           некоторые числа называемые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оординатами элемента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относительно базиса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643040" y="1428840"/>
          <a:ext cx="639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428840"/>
                    <a:ext cx="639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"/>
          <p:cNvGraphicFramePr/>
          <p:nvPr/>
        </p:nvGraphicFramePr>
        <p:xfrm>
          <a:off x="2357280" y="2500200"/>
          <a:ext cx="145440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500200"/>
                    <a:ext cx="1454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6072120" y="2577960"/>
          <a:ext cx="352440" cy="42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72120" y="257796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"/>
          <p:cNvGraphicFramePr/>
          <p:nvPr/>
        </p:nvGraphicFramePr>
        <p:xfrm>
          <a:off x="8072280" y="3214800"/>
          <a:ext cx="320760" cy="3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2280" y="321480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2714760" y="3643200"/>
          <a:ext cx="352440" cy="422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14760" y="3643200"/>
                    <a:ext cx="3524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7"/>
          <p:cNvGraphicFramePr/>
          <p:nvPr/>
        </p:nvGraphicFramePr>
        <p:xfrm>
          <a:off x="3803760" y="4143240"/>
          <a:ext cx="405432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3760" y="4143240"/>
                    <a:ext cx="40543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8"/>
          <p:cNvGraphicFramePr/>
          <p:nvPr/>
        </p:nvGraphicFramePr>
        <p:xfrm>
          <a:off x="1214280" y="4786200"/>
          <a:ext cx="1789200" cy="505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14280" y="4786200"/>
                    <a:ext cx="17892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9"/>
          <p:cNvGraphicFramePr/>
          <p:nvPr/>
        </p:nvGraphicFramePr>
        <p:xfrm>
          <a:off x="4572000" y="5429160"/>
          <a:ext cx="320760" cy="357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7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0" y="542916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0"/>
          <p:cNvGraphicFramePr/>
          <p:nvPr/>
        </p:nvGraphicFramePr>
        <p:xfrm>
          <a:off x="3571920" y="5786280"/>
          <a:ext cx="1809720" cy="594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71920" y="5786280"/>
                    <a:ext cx="180972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854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венство                                                         назы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азложением элемента         по базис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1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лоскости любые два неколлине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66"/>
                </a:solidFill>
                <a:latin typeface="Arial"/>
              </a:rPr>
              <a:t>Пример 2.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 линейном пространстве  всех векторов пространства любые три  некомпланарные вектора являются базисом эт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ис линейного простр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"/>
          <p:cNvGraphicFramePr/>
          <p:nvPr/>
        </p:nvGraphicFramePr>
        <p:xfrm>
          <a:off x="2428920" y="1428840"/>
          <a:ext cx="405432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428840"/>
                    <a:ext cx="4054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4071960" y="2143080"/>
          <a:ext cx="32076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1960" y="2143080"/>
                    <a:ext cx="32076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6143760" y="2071800"/>
          <a:ext cx="153828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3760" y="2071800"/>
                    <a:ext cx="153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10-24T08:08:38Z</dcterms:modified>
  <cp:revision>136</cp:revision>
  <dc:subject/>
  <dc:title>Определители второго и третьего порядка.</dc:title>
</cp:coreProperties>
</file>