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10.wmf" ContentType="image/x-wmf"/>
  <Override PartName="/ppt/media/image47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62.wmf" ContentType="image/x-wmf"/>
  <Override PartName="/ppt/media/image25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2.wmf" ContentType="image/x-wmf"/>
  <Override PartName="/ppt/media/image59.wmf" ContentType="image/x-wmf"/>
  <Override PartName="/ppt/media/image57.wmf" ContentType="image/x-wmf"/>
  <Override PartName="/ppt/media/image20.wmf" ContentType="image/x-wmf"/>
  <Override PartName="/ppt/media/image61.wmf" ContentType="image/x-wmf"/>
  <Override PartName="/ppt/media/image24.wmf" ContentType="image/x-wmf"/>
  <Override PartName="/ppt/media/image3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816A-0605-4C88-B27E-455A56ED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3C9B-B83C-4F08-93D7-2935918E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6D9-AA3C-44A4-9A2D-A0E7C701A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B5AC-0D99-453B-A363-46332BF4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B306-6535-4AF1-A16B-60A5EF4DA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0B13-4FD7-4B18-A63C-1AB8CE7C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683B-6CFA-423B-8FF4-2929E51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DAE8-9DD2-40F6-886D-2B37E22C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9552-37B0-4C00-9BDA-D4F3C88B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6143-31A3-4E21-95E9-B4148843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4F50-4005-487D-852D-A45C24C8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1E8-EDCF-443F-A95E-5876C028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D00F-6519-42D8-A486-754832AF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829C-4517-4208-A557-0E676526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B6FF-2F52-4C29-9372-5307020E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A72F-2EDE-44F4-9312-F50A5BE5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192C-1E49-4DDA-915E-BBD5BF68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C9D-FEAF-47E5-9D4C-3BDD4966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AEF-1CAD-4A7B-BC7D-9501A1C1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003-BF1E-4999-A2F5-DCD7AC8F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7AF-C474-463A-B1D4-9DF7DFF6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A854-E0E1-4AD5-ADF7-47E672CA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472-F09F-4DC2-A8FF-270173F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E471-77A3-401A-B795-CD8727F1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9F3E-68F6-4F40-A2B1-F8CC71FBBC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D125-C5F9-4886-AE11-973C0AD417C7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B10A-FBB0-4ACB-9000-45A301F0340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Системы линейных алгебраических уравнений: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Arial"/>
              </a:rPr>
              <a:t>совместность( теорема Кронекера –Каппели), число решений, решение методом Гау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67AE-9064-43BA-A6D2-A61CE71CD10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62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стема совместн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зисными неизвестными объявить те, номера которых совпадут с номерами базисных столбцов ступенчатого вида матрицы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содержащих опорные элементы этой матрицы; остальные неизвестные объявить свободным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свободных неизвестных рав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йти к выполнению следующего шаг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6659640" y="4653000"/>
          <a:ext cx="19447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653000"/>
                    <a:ext cx="19447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1520-4673-47BE-86C7-057182C817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вести ступенчатую матрицу, полученную при выполнении шага 1),   к виду Гаусс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исать систему линейных уравнений, соответствующую матрице, построенной на шаге 3),  обозначив свободные неизвест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зить из полученной системы базисные неизвестные через свободные неизвест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, воспользовавшись  или  векторной формой записи (5), или координатной формо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5867280" y="3284640"/>
          <a:ext cx="15130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284640"/>
                    <a:ext cx="15130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6"/>
          <p:cNvGraphicFramePr/>
          <p:nvPr/>
        </p:nvGraphicFramePr>
        <p:xfrm>
          <a:off x="2484360" y="5373720"/>
          <a:ext cx="4896000" cy="6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5373720"/>
                    <a:ext cx="4896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449-CAAD-4098-AE1A-9B69F9F87D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З а м е ч а н и е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Применение метода Гаусса не требует, чтобы матрица системы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ыла квадратной и предварительного вычисления ее определител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E6A4-D63F-46BF-9146-A0289B0F2F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2920" y="1773360"/>
            <a:ext cx="88581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1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Для сист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2916360" y="2349360"/>
          <a:ext cx="2736720" cy="18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2349360"/>
                    <a:ext cx="273672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7"/>
          <p:cNvSpPr/>
          <p:nvPr/>
        </p:nvSpPr>
        <p:spPr>
          <a:xfrm>
            <a:off x="108000" y="4364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казать матрицу системы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ru-RU" sz="2400" spc="-1" strike="noStrike">
                <a:solidFill>
                  <a:srgbClr val="003300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и столбец свободных член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6"/>
          <p:cNvGraphicFramePr/>
          <p:nvPr/>
        </p:nvGraphicFramePr>
        <p:xfrm>
          <a:off x="8521560" y="4286160"/>
          <a:ext cx="34956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1560" y="4286160"/>
                    <a:ext cx="34956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8"/>
          <p:cNvSpPr/>
          <p:nvPr/>
        </p:nvSpPr>
        <p:spPr>
          <a:xfrm>
            <a:off x="137160" y="479628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сать систему в векторной форм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470880" y="5444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бозначим столбец неизвестных 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CF71-55AD-4080-8DDB-203EB96B5A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гда матрица </a:t>
            </a:r>
            <a:r>
              <a:rPr b="0" i="1" lang="ru-RU" sz="2400" spc="-1" strike="noStrike">
                <a:solidFill>
                  <a:srgbClr val="003300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 составляется из числовых коэффициентов, стоящих в системе при неизвестны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Object 4"/>
          <p:cNvGraphicFramePr/>
          <p:nvPr/>
        </p:nvGraphicFramePr>
        <p:xfrm>
          <a:off x="3635280" y="1844640"/>
          <a:ext cx="12366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844640"/>
                    <a:ext cx="12366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Object 6"/>
          <p:cNvGraphicFramePr/>
          <p:nvPr/>
        </p:nvGraphicFramePr>
        <p:xfrm>
          <a:off x="3132000" y="4365720"/>
          <a:ext cx="288000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4365720"/>
                    <a:ext cx="2880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87AC-3C03-444C-81CE-1BB68D3BA1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     составляется из свободных членов систем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Object 4"/>
          <p:cNvGraphicFramePr/>
          <p:nvPr/>
        </p:nvGraphicFramePr>
        <p:xfrm>
          <a:off x="2195640" y="1773360"/>
          <a:ext cx="36036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773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Object 6"/>
          <p:cNvGraphicFramePr/>
          <p:nvPr/>
        </p:nvGraphicFramePr>
        <p:xfrm>
          <a:off x="3780000" y="2276640"/>
          <a:ext cx="1319040" cy="180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276640"/>
                    <a:ext cx="13190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8"/>
          <p:cNvSpPr/>
          <p:nvPr/>
        </p:nvSpPr>
        <p:spPr>
          <a:xfrm>
            <a:off x="539640" y="42375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этому систему можно переписать в векторной форм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9"/>
          <p:cNvGraphicFramePr/>
          <p:nvPr/>
        </p:nvGraphicFramePr>
        <p:xfrm>
          <a:off x="3780000" y="4653000"/>
          <a:ext cx="151128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1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4653000"/>
                    <a:ext cx="15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11"/>
          <p:cNvGraphicFramePr/>
          <p:nvPr/>
        </p:nvGraphicFramePr>
        <p:xfrm>
          <a:off x="1979640" y="5229360"/>
          <a:ext cx="1790640" cy="111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5229360"/>
                    <a:ext cx="1790640" cy="11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Rectangle 14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3"/>
          <p:cNvGraphicFramePr/>
          <p:nvPr/>
        </p:nvGraphicFramePr>
        <p:xfrm>
          <a:off x="3924360" y="5229360"/>
          <a:ext cx="844560" cy="1150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4360" y="5229360"/>
                    <a:ext cx="84456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15"/>
          <p:cNvGraphicFramePr/>
          <p:nvPr/>
        </p:nvGraphicFramePr>
        <p:xfrm>
          <a:off x="5003640" y="5589720"/>
          <a:ext cx="1079640" cy="371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5589720"/>
                    <a:ext cx="1079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17"/>
          <p:cNvSpPr/>
          <p:nvPr/>
        </p:nvSpPr>
        <p:spPr>
          <a:xfrm>
            <a:off x="613080" y="5444280"/>
            <a:ext cx="16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812E-F519-4B86-BA0F-EFF5DD54F9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2</a:t>
            </a:r>
            <a:r>
              <a:rPr b="1" lang="ru-RU" sz="2400" spc="-1" strike="noStrike">
                <a:solidFill>
                  <a:srgbClr val="0033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3348000" y="2276640"/>
          <a:ext cx="244800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76640"/>
                    <a:ext cx="244800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6"/>
          <p:cNvSpPr/>
          <p:nvPr/>
        </p:nvSpPr>
        <p:spPr>
          <a:xfrm>
            <a:off x="468360" y="3933000"/>
            <a:ext cx="246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Object 7"/>
          <p:cNvGraphicFramePr/>
          <p:nvPr/>
        </p:nvGraphicFramePr>
        <p:xfrm>
          <a:off x="1042920" y="4437000"/>
          <a:ext cx="1343160" cy="180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4437000"/>
                    <a:ext cx="13431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Object 9"/>
          <p:cNvGraphicFramePr/>
          <p:nvPr/>
        </p:nvGraphicFramePr>
        <p:xfrm>
          <a:off x="2916360" y="4508640"/>
          <a:ext cx="4319640" cy="1751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4508640"/>
                    <a:ext cx="43196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19B-BDF3-4C39-B1F9-9F05AB9D17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полним шаг 1) метода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4"/>
          <p:cNvGraphicFramePr/>
          <p:nvPr/>
        </p:nvGraphicFramePr>
        <p:xfrm>
          <a:off x="539640" y="2276640"/>
          <a:ext cx="7848720" cy="148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7848720" cy="14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Line 6"/>
          <p:cNvSpPr/>
          <p:nvPr/>
        </p:nvSpPr>
        <p:spPr>
          <a:xfrm>
            <a:off x="3851280" y="2708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"/>
          <p:cNvSpPr/>
          <p:nvPr/>
        </p:nvSpPr>
        <p:spPr>
          <a:xfrm flipH="1">
            <a:off x="3564000" y="299736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8"/>
          <p:cNvSpPr/>
          <p:nvPr/>
        </p:nvSpPr>
        <p:spPr>
          <a:xfrm>
            <a:off x="4356000" y="2708280"/>
            <a:ext cx="0" cy="79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9"/>
          <p:cNvSpPr/>
          <p:nvPr/>
        </p:nvSpPr>
        <p:spPr>
          <a:xfrm flipH="1">
            <a:off x="3564000" y="3500280"/>
            <a:ext cx="792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7812000" y="314172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11"/>
          <p:cNvSpPr/>
          <p:nvPr/>
        </p:nvSpPr>
        <p:spPr>
          <a:xfrm flipH="1">
            <a:off x="7524720" y="342900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3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12"/>
          <p:cNvGraphicFramePr/>
          <p:nvPr/>
        </p:nvGraphicFramePr>
        <p:xfrm>
          <a:off x="971640" y="3860640"/>
          <a:ext cx="309564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860640"/>
                    <a:ext cx="309564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Line 14"/>
          <p:cNvSpPr/>
          <p:nvPr/>
        </p:nvSpPr>
        <p:spPr>
          <a:xfrm>
            <a:off x="1547640" y="4292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1908000" y="4292640"/>
            <a:ext cx="0" cy="57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16"/>
          <p:cNvSpPr/>
          <p:nvPr/>
        </p:nvSpPr>
        <p:spPr>
          <a:xfrm>
            <a:off x="1908000" y="4869000"/>
            <a:ext cx="1440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7"/>
          <p:cNvSpPr/>
          <p:nvPr/>
        </p:nvSpPr>
        <p:spPr>
          <a:xfrm>
            <a:off x="3276720" y="400536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8"/>
          <p:cNvSpPr/>
          <p:nvPr/>
        </p:nvSpPr>
        <p:spPr>
          <a:xfrm>
            <a:off x="3348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9"/>
          <p:cNvSpPr/>
          <p:nvPr/>
        </p:nvSpPr>
        <p:spPr>
          <a:xfrm>
            <a:off x="3348000" y="530064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0"/>
          <p:cNvSpPr/>
          <p:nvPr/>
        </p:nvSpPr>
        <p:spPr>
          <a:xfrm>
            <a:off x="4213440" y="4867920"/>
            <a:ext cx="23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22"/>
          <p:cNvGraphicFramePr/>
          <p:nvPr/>
        </p:nvGraphicFramePr>
        <p:xfrm>
          <a:off x="755640" y="5373720"/>
          <a:ext cx="324000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5373720"/>
                    <a:ext cx="32400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1"/>
          <p:cNvGraphicFramePr/>
          <p:nvPr/>
        </p:nvGraphicFramePr>
        <p:xfrm>
          <a:off x="4572000" y="5373720"/>
          <a:ext cx="2232000" cy="654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0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5373720"/>
                    <a:ext cx="223200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23"/>
          <p:cNvSpPr/>
          <p:nvPr/>
        </p:nvSpPr>
        <p:spPr>
          <a:xfrm>
            <a:off x="0" y="303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3992400" y="54439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25"/>
          <p:cNvSpPr/>
          <p:nvPr/>
        </p:nvSpPr>
        <p:spPr>
          <a:xfrm>
            <a:off x="1188720" y="5804640"/>
            <a:ext cx="44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   система несовместн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CE93-1315-4317-8350-91FD9FA747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900000" y="3932280"/>
            <a:ext cx="52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е ш е н и е.   В данном случае имее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7"/>
          <p:cNvGraphicFramePr/>
          <p:nvPr/>
        </p:nvGraphicFramePr>
        <p:xfrm>
          <a:off x="684360" y="4508640"/>
          <a:ext cx="1236600" cy="16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508640"/>
                    <a:ext cx="1236600" cy="16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Rectangle 10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9"/>
          <p:cNvGraphicFramePr/>
          <p:nvPr/>
        </p:nvGraphicFramePr>
        <p:xfrm>
          <a:off x="1995480" y="4508640"/>
          <a:ext cx="2482920" cy="164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95480" y="4508640"/>
                    <a:ext cx="24829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Object 11"/>
          <p:cNvGraphicFramePr/>
          <p:nvPr/>
        </p:nvGraphicFramePr>
        <p:xfrm>
          <a:off x="4600440" y="4508640"/>
          <a:ext cx="1351080" cy="158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0440" y="4508640"/>
                    <a:ext cx="1351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13"/>
          <p:cNvSpPr/>
          <p:nvPr/>
        </p:nvSpPr>
        <p:spPr>
          <a:xfrm>
            <a:off x="6227640" y="5012280"/>
            <a:ext cx="29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олбец свободных члено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14"/>
          <p:cNvGraphicFramePr/>
          <p:nvPr/>
        </p:nvGraphicFramePr>
        <p:xfrm>
          <a:off x="2987640" y="2225520"/>
          <a:ext cx="2592360" cy="175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2225520"/>
                    <a:ext cx="259236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746F-4AA5-4C41-A8E4-4BC41189E7B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Object 4"/>
          <p:cNvGraphicFramePr/>
          <p:nvPr/>
        </p:nvGraphicFramePr>
        <p:xfrm>
          <a:off x="324000" y="2014560"/>
          <a:ext cx="8569080" cy="15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14560"/>
                    <a:ext cx="856908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Line 6"/>
          <p:cNvSpPr/>
          <p:nvPr/>
        </p:nvSpPr>
        <p:spPr>
          <a:xfrm>
            <a:off x="305928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7164360" y="213372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"/>
          <p:cNvSpPr/>
          <p:nvPr/>
        </p:nvSpPr>
        <p:spPr>
          <a:xfrm>
            <a:off x="3924360" y="2492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9"/>
          <p:cNvSpPr/>
          <p:nvPr/>
        </p:nvSpPr>
        <p:spPr>
          <a:xfrm flipH="1">
            <a:off x="3563640" y="278136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0"/>
          <p:cNvSpPr/>
          <p:nvPr/>
        </p:nvSpPr>
        <p:spPr>
          <a:xfrm flipH="1">
            <a:off x="3563640" y="3284640"/>
            <a:ext cx="93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1"/>
          <p:cNvSpPr/>
          <p:nvPr/>
        </p:nvSpPr>
        <p:spPr>
          <a:xfrm>
            <a:off x="4500720" y="2492280"/>
            <a:ext cx="0" cy="792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2"/>
          <p:cNvSpPr/>
          <p:nvPr/>
        </p:nvSpPr>
        <p:spPr>
          <a:xfrm>
            <a:off x="8244000" y="2997360"/>
            <a:ext cx="0" cy="288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13"/>
          <p:cNvSpPr/>
          <p:nvPr/>
        </p:nvSpPr>
        <p:spPr>
          <a:xfrm flipH="1">
            <a:off x="7884720" y="3284640"/>
            <a:ext cx="360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14"/>
          <p:cNvGraphicFramePr/>
          <p:nvPr/>
        </p:nvGraphicFramePr>
        <p:xfrm>
          <a:off x="395280" y="3811680"/>
          <a:ext cx="8497800" cy="17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811680"/>
                    <a:ext cx="8497800" cy="17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Line 16"/>
          <p:cNvSpPr/>
          <p:nvPr/>
        </p:nvSpPr>
        <p:spPr>
          <a:xfrm>
            <a:off x="2843280" y="4005360"/>
            <a:ext cx="0" cy="129528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3924360" y="4724280"/>
            <a:ext cx="0" cy="289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427640" y="414972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9"/>
          <p:cNvSpPr/>
          <p:nvPr/>
        </p:nvSpPr>
        <p:spPr>
          <a:xfrm flipH="1">
            <a:off x="3635280" y="4724280"/>
            <a:ext cx="2872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3634920" y="4149720"/>
            <a:ext cx="7938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84BF-480F-4F7A-80E5-E7EFB8038F7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640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О п р е д е л е н и е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истемой линейных алгебраических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остоящей из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уравнений с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известными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i="1" lang="ru-RU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,…,х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2124000" y="3197160"/>
          <a:ext cx="4464000" cy="26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197160"/>
                    <a:ext cx="446400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6"/>
          <p:cNvSpPr/>
          <p:nvPr/>
        </p:nvSpPr>
        <p:spPr>
          <a:xfrm>
            <a:off x="7596720" y="400464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1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EB4B-0B6C-4BF1-A19A-3203A3A306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443664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324000" y="2349360"/>
          <a:ext cx="6553080" cy="16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49360"/>
                    <a:ext cx="655308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6"/>
          <p:cNvGraphicFramePr/>
          <p:nvPr/>
        </p:nvGraphicFramePr>
        <p:xfrm>
          <a:off x="6948360" y="2276640"/>
          <a:ext cx="1314720" cy="17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2276640"/>
                    <a:ext cx="131472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8"/>
          <p:cNvSpPr/>
          <p:nvPr/>
        </p:nvSpPr>
        <p:spPr>
          <a:xfrm>
            <a:off x="248436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9"/>
          <p:cNvSpPr/>
          <p:nvPr/>
        </p:nvSpPr>
        <p:spPr>
          <a:xfrm>
            <a:off x="5796000" y="2492280"/>
            <a:ext cx="0" cy="129564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4" name="Object 10"/>
          <p:cNvGraphicFramePr/>
          <p:nvPr/>
        </p:nvGraphicFramePr>
        <p:xfrm>
          <a:off x="2050920" y="4508640"/>
          <a:ext cx="424836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0920" y="4508640"/>
                    <a:ext cx="424836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32F2-41A3-42E6-8C02-9936029E548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50560" y="1828800"/>
            <a:ext cx="8435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Times New Roman"/>
              </a:rPr>
              <a:t>П р и м е р 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Исследовать на совместность и решить систем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1332000" y="2781360"/>
          <a:ext cx="6119640" cy="27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781360"/>
                    <a:ext cx="6119640" cy="27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C6A1-2DF2-49DB-999E-4A81BF2E64D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Р е ш е н и е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спользуемся методом Гаусса: составим матрицу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ссматриваемой системы, столбец свободных членов        и преобразуем расширенную матрицу            к виду Гаусс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3564000" y="2565360"/>
          <a:ext cx="3078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2565360"/>
                    <a:ext cx="307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7"/>
          <p:cNvGraphicFramePr/>
          <p:nvPr/>
        </p:nvGraphicFramePr>
        <p:xfrm>
          <a:off x="2124000" y="2852640"/>
          <a:ext cx="863640" cy="59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2852640"/>
                    <a:ext cx="86364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Rectangle 10"/>
          <p:cNvSpPr/>
          <p:nvPr/>
        </p:nvSpPr>
        <p:spPr>
          <a:xfrm>
            <a:off x="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9"/>
          <p:cNvGraphicFramePr/>
          <p:nvPr/>
        </p:nvGraphicFramePr>
        <p:xfrm>
          <a:off x="324000" y="3605040"/>
          <a:ext cx="8569080" cy="212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605040"/>
                    <a:ext cx="8569080" cy="21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Line 11"/>
          <p:cNvSpPr/>
          <p:nvPr/>
        </p:nvSpPr>
        <p:spPr>
          <a:xfrm>
            <a:off x="3780000" y="4005360"/>
            <a:ext cx="0" cy="936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4140360" y="4005360"/>
            <a:ext cx="0" cy="1439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8244000" y="458136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Line 14"/>
          <p:cNvSpPr/>
          <p:nvPr/>
        </p:nvSpPr>
        <p:spPr>
          <a:xfrm flipH="1">
            <a:off x="3563640" y="5445000"/>
            <a:ext cx="576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5"/>
          <p:cNvSpPr/>
          <p:nvPr/>
        </p:nvSpPr>
        <p:spPr>
          <a:xfrm flipH="1">
            <a:off x="7956720" y="5445000"/>
            <a:ext cx="2887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6"/>
          <p:cNvSpPr/>
          <p:nvPr/>
        </p:nvSpPr>
        <p:spPr>
          <a:xfrm flipH="1">
            <a:off x="7956360" y="4869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7"/>
          <p:cNvSpPr/>
          <p:nvPr/>
        </p:nvSpPr>
        <p:spPr>
          <a:xfrm flipH="1">
            <a:off x="3564000" y="4941720"/>
            <a:ext cx="2174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3563640" y="4365720"/>
            <a:ext cx="144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9"/>
          <p:cNvSpPr/>
          <p:nvPr/>
        </p:nvSpPr>
        <p:spPr>
          <a:xfrm>
            <a:off x="8172360" y="458136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20"/>
          <p:cNvSpPr/>
          <p:nvPr/>
        </p:nvSpPr>
        <p:spPr>
          <a:xfrm>
            <a:off x="3708360" y="4005360"/>
            <a:ext cx="0" cy="358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1"/>
          <p:cNvSpPr/>
          <p:nvPr/>
        </p:nvSpPr>
        <p:spPr>
          <a:xfrm>
            <a:off x="305928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7451640" y="3716280"/>
            <a:ext cx="0" cy="1873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BA59-C5B8-4CCD-B690-D9E811D2800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0" name="Object 4"/>
          <p:cNvGraphicFramePr/>
          <p:nvPr/>
        </p:nvGraphicFramePr>
        <p:xfrm>
          <a:off x="539640" y="1916280"/>
          <a:ext cx="8136000" cy="193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81360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7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324000" y="4005360"/>
          <a:ext cx="8280360" cy="26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05360"/>
                    <a:ext cx="828036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Line 11"/>
          <p:cNvSpPr/>
          <p:nvPr/>
        </p:nvSpPr>
        <p:spPr>
          <a:xfrm flipH="1">
            <a:off x="8028000" y="306864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2"/>
          <p:cNvSpPr/>
          <p:nvPr/>
        </p:nvSpPr>
        <p:spPr>
          <a:xfrm flipH="1">
            <a:off x="8028000" y="3573360"/>
            <a:ext cx="2160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13"/>
          <p:cNvSpPr/>
          <p:nvPr/>
        </p:nvSpPr>
        <p:spPr>
          <a:xfrm>
            <a:off x="8244000" y="3068640"/>
            <a:ext cx="0" cy="504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14"/>
          <p:cNvSpPr/>
          <p:nvPr/>
        </p:nvSpPr>
        <p:spPr>
          <a:xfrm>
            <a:off x="3492360" y="5084640"/>
            <a:ext cx="0" cy="287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5"/>
          <p:cNvSpPr/>
          <p:nvPr/>
        </p:nvSpPr>
        <p:spPr>
          <a:xfrm flipH="1">
            <a:off x="3276360" y="508464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6"/>
          <p:cNvSpPr/>
          <p:nvPr/>
        </p:nvSpPr>
        <p:spPr>
          <a:xfrm>
            <a:off x="3419640" y="1989000"/>
            <a:ext cx="0" cy="18003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17"/>
          <p:cNvSpPr/>
          <p:nvPr/>
        </p:nvSpPr>
        <p:spPr>
          <a:xfrm>
            <a:off x="7524720" y="1989000"/>
            <a:ext cx="0" cy="172728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8"/>
          <p:cNvSpPr/>
          <p:nvPr/>
        </p:nvSpPr>
        <p:spPr>
          <a:xfrm>
            <a:off x="2843280" y="458136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9"/>
          <p:cNvSpPr/>
          <p:nvPr/>
        </p:nvSpPr>
        <p:spPr>
          <a:xfrm>
            <a:off x="826920" y="4869000"/>
            <a:ext cx="28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20"/>
          <p:cNvSpPr/>
          <p:nvPr/>
        </p:nvSpPr>
        <p:spPr>
          <a:xfrm>
            <a:off x="1116000" y="4869000"/>
            <a:ext cx="0" cy="43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21"/>
          <p:cNvSpPr/>
          <p:nvPr/>
        </p:nvSpPr>
        <p:spPr>
          <a:xfrm>
            <a:off x="1116000" y="5300640"/>
            <a:ext cx="1295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22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23"/>
          <p:cNvSpPr/>
          <p:nvPr/>
        </p:nvSpPr>
        <p:spPr>
          <a:xfrm>
            <a:off x="2411280" y="5734080"/>
            <a:ext cx="72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9371-B4D7-429D-981F-DDCE94F8D8A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324000" y="1820880"/>
          <a:ext cx="8569080" cy="19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20880"/>
                    <a:ext cx="85690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Line 6"/>
          <p:cNvSpPr/>
          <p:nvPr/>
        </p:nvSpPr>
        <p:spPr>
          <a:xfrm>
            <a:off x="298764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7"/>
          <p:cNvSpPr/>
          <p:nvPr/>
        </p:nvSpPr>
        <p:spPr>
          <a:xfrm>
            <a:off x="7308720" y="2060640"/>
            <a:ext cx="0" cy="1439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8"/>
          <p:cNvSpPr/>
          <p:nvPr/>
        </p:nvSpPr>
        <p:spPr>
          <a:xfrm flipH="1">
            <a:off x="7956360" y="22050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9"/>
          <p:cNvSpPr/>
          <p:nvPr/>
        </p:nvSpPr>
        <p:spPr>
          <a:xfrm>
            <a:off x="8172360" y="2205000"/>
            <a:ext cx="0" cy="432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Object 10"/>
          <p:cNvGraphicFramePr/>
          <p:nvPr/>
        </p:nvGraphicFramePr>
        <p:xfrm>
          <a:off x="324000" y="3860640"/>
          <a:ext cx="475272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860640"/>
                    <a:ext cx="47527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Line 12"/>
          <p:cNvSpPr/>
          <p:nvPr/>
        </p:nvSpPr>
        <p:spPr>
          <a:xfrm>
            <a:off x="3995640" y="4076640"/>
            <a:ext cx="0" cy="144000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D009-88FB-4031-B2A8-C7E86281199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684360" y="2349360"/>
          <a:ext cx="29034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349360"/>
                    <a:ext cx="29034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7"/>
          <p:cNvSpPr/>
          <p:nvPr/>
        </p:nvSpPr>
        <p:spPr>
          <a:xfrm>
            <a:off x="3473280" y="3969360"/>
            <a:ext cx="8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ли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Object 6"/>
          <p:cNvGraphicFramePr/>
          <p:nvPr/>
        </p:nvGraphicFramePr>
        <p:xfrm>
          <a:off x="4284720" y="2924280"/>
          <a:ext cx="4608360" cy="26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2924280"/>
                    <a:ext cx="460836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6691-462F-4DC2-8BBD-196202B1AA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828800"/>
            <a:ext cx="896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a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n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 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,…,b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оторые числа. Есл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,….,b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=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то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  однород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противном случае система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линейной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однородной  систем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З а м е ч а н и е  </a:t>
            </a:r>
            <a:r>
              <a:rPr b="1" i="1" lang="en-US" sz="2400" spc="-1" strike="noStrike" u="sng">
                <a:solidFill>
                  <a:srgbClr val="660000"/>
                </a:solidFill>
                <a:uFillTx/>
                <a:latin typeface="Times New Roman"/>
              </a:rPr>
              <a:t>1</a:t>
            </a:r>
            <a:r>
              <a:rPr b="1" i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i="1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может быть записана в векторной форм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3851280" y="4292640"/>
          <a:ext cx="1662120" cy="6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4292640"/>
                    <a:ext cx="166212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6"/>
          <p:cNvSpPr/>
          <p:nvPr/>
        </p:nvSpPr>
        <p:spPr>
          <a:xfrm>
            <a:off x="7812360" y="4149360"/>
            <a:ext cx="8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)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8E23-C836-4EC4-9A29-A9F2583EA8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979640" y="1844640"/>
          <a:ext cx="1658880" cy="17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1658880" cy="17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6"/>
          <p:cNvSpPr/>
          <p:nvPr/>
        </p:nvSpPr>
        <p:spPr>
          <a:xfrm>
            <a:off x="3783240" y="2133000"/>
            <a:ext cx="417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неизвестных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1908000" y="3716280"/>
          <a:ext cx="1800360" cy="17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3716280"/>
                    <a:ext cx="180036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9"/>
          <p:cNvSpPr/>
          <p:nvPr/>
        </p:nvSpPr>
        <p:spPr>
          <a:xfrm>
            <a:off x="3711960" y="4076280"/>
            <a:ext cx="49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ктор–столбец  свободных членов,</a:t>
            </a:r>
            <a:r>
              <a:rPr b="0" lang="ru-RU" sz="48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4885-A9E8-4ADA-958F-DE2B7A8159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асширенной матриц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матрица, обозначаем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олученная приписыванием к  матрице 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справа после вертикальной черты столбц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1979640" y="1844640"/>
          <a:ext cx="3311640" cy="22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844640"/>
                    <a:ext cx="3311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6"/>
          <p:cNvSpPr/>
          <p:nvPr/>
        </p:nvSpPr>
        <p:spPr>
          <a:xfrm>
            <a:off x="5365440" y="2564640"/>
            <a:ext cx="26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трица системы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7"/>
          <p:cNvGraphicFramePr/>
          <p:nvPr/>
        </p:nvGraphicFramePr>
        <p:xfrm>
          <a:off x="6084720" y="4508640"/>
          <a:ext cx="100836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4508640"/>
                    <a:ext cx="100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4859280" y="5229360"/>
          <a:ext cx="36036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5229360"/>
                    <a:ext cx="3603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7538-1F37-44CE-A9D4-926F5EE9A48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476360" y="1989000"/>
          <a:ext cx="388944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89000"/>
                    <a:ext cx="388944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ывается любой 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й  вект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тановка которого в 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66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66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ает тожд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4211640" y="2421000"/>
            <a:ext cx="0" cy="1728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4788000" y="2133720"/>
            <a:ext cx="0" cy="18716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4427640" y="4941720"/>
          <a:ext cx="38088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941720"/>
                    <a:ext cx="38088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0EE4-38F6-4BCA-85EC-28D3B35C5F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О п р е д е л е н и е  </a:t>
            </a:r>
            <a:r>
              <a:rPr b="1" lang="en-US" sz="2400" spc="-1" strike="noStrike">
                <a:solidFill>
                  <a:srgbClr val="660000"/>
                </a:solidFill>
                <a:latin typeface="Times New Roman"/>
              </a:rPr>
              <a:t>4</a:t>
            </a:r>
            <a:r>
              <a:rPr b="1" lang="ru-RU" sz="2400" spc="-1" strike="noStrike">
                <a:solidFill>
                  <a:srgbClr val="660000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если она имеет хотя бы одно решение. В противном случае система называется </a:t>
            </a:r>
            <a:r>
              <a:rPr b="0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несовмес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00"/>
                </a:solidFill>
                <a:uFillTx/>
                <a:latin typeface="Times New Roman"/>
              </a:rPr>
              <a:t>Т е о р е м а  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0" i="1" lang="ru-RU" sz="2400" spc="-1" strike="noStrike">
                <a:solidFill>
                  <a:srgbClr val="ff0066"/>
                </a:solidFill>
                <a:latin typeface="Times New Roman"/>
              </a:rPr>
              <a:t>Кронекера – Капелли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истема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1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вместна тогда и только тогда, когда ранг матрицы системы равен рангу расширенной матрицы, то ест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5400" indent="-45540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этом  если                то система имеет единственное решение; если                 то система имеет бесконечное множество решений (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неизвестных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635280" y="4365720"/>
          <a:ext cx="244800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4365720"/>
                    <a:ext cx="244800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6"/>
          <p:cNvGraphicFramePr/>
          <p:nvPr/>
        </p:nvGraphicFramePr>
        <p:xfrm>
          <a:off x="2987640" y="5013360"/>
          <a:ext cx="115272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5013360"/>
                    <a:ext cx="11527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8"/>
          <p:cNvGraphicFramePr/>
          <p:nvPr/>
        </p:nvGraphicFramePr>
        <p:xfrm>
          <a:off x="2916360" y="5373720"/>
          <a:ext cx="1224000" cy="46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6360" y="5373720"/>
                    <a:ext cx="12240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A429-0C6E-487F-BA97-AA2F47AF9E4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3300"/>
                </a:solidFill>
                <a:uFillTx/>
                <a:latin typeface="Times New Roman"/>
              </a:rPr>
              <a:t>Т е о р е м а  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ет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             частное решение линейной  неоднородной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числ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зываемое числом свободных неизвестных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вычисляется по формул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льные постоянные числа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стоянны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мерные векторы, являющиеся линейно независимыми решениями соответствующей линейной однородной систем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763640" y="2276640"/>
          <a:ext cx="453708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276640"/>
                    <a:ext cx="453708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Rectangle 6"/>
          <p:cNvSpPr/>
          <p:nvPr/>
        </p:nvSpPr>
        <p:spPr>
          <a:xfrm>
            <a:off x="7957800" y="2348640"/>
            <a:ext cx="69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(3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1403280" y="3068640"/>
          <a:ext cx="792360" cy="5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3068640"/>
                    <a:ext cx="792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11"/>
          <p:cNvGraphicFramePr/>
          <p:nvPr/>
        </p:nvGraphicFramePr>
        <p:xfrm>
          <a:off x="5219640" y="1773360"/>
          <a:ext cx="12240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1773360"/>
                    <a:ext cx="1224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3"/>
          <p:cNvGraphicFramePr/>
          <p:nvPr/>
        </p:nvGraphicFramePr>
        <p:xfrm>
          <a:off x="7488360" y="3860640"/>
          <a:ext cx="1655640" cy="447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88360" y="3860640"/>
                    <a:ext cx="1655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Object 15"/>
          <p:cNvGraphicFramePr/>
          <p:nvPr/>
        </p:nvGraphicFramePr>
        <p:xfrm>
          <a:off x="539640" y="4268880"/>
          <a:ext cx="1656000" cy="54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4268880"/>
                    <a:ext cx="16560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17"/>
          <p:cNvGraphicFramePr/>
          <p:nvPr/>
        </p:nvGraphicFramePr>
        <p:xfrm>
          <a:off x="6732720" y="4221000"/>
          <a:ext cx="1368360" cy="5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1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32720" y="4221000"/>
                    <a:ext cx="136836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9"/>
          <p:cNvGraphicFramePr/>
          <p:nvPr/>
        </p:nvGraphicFramePr>
        <p:xfrm>
          <a:off x="3635280" y="5373720"/>
          <a:ext cx="129708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4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5373720"/>
                    <a:ext cx="12970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7516-F597-4BCB-9CF3-E54706B4D2D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Системы любого числа линейных алгебраических уравнений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8920" y="1828800"/>
            <a:ext cx="8713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Метод  Гаусс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-460080"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решения системы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 матрицей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размерности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и столбцом свободных членов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нужно выполнить следующие действ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ить расширенную матриц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привести ее к ступенчатому виду с помощью элементарных преобразований стр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Есл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исать ответ:   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система несовмест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0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делать выводы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643280" y="2781360"/>
          <a:ext cx="360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781360"/>
                    <a:ext cx="360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6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Object 7"/>
          <p:cNvGraphicFramePr/>
          <p:nvPr/>
        </p:nvGraphicFramePr>
        <p:xfrm>
          <a:off x="5724360" y="3573360"/>
          <a:ext cx="1008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3573360"/>
                    <a:ext cx="1008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9"/>
          <p:cNvGraphicFramePr/>
          <p:nvPr/>
        </p:nvGraphicFramePr>
        <p:xfrm>
          <a:off x="1692360" y="4724280"/>
          <a:ext cx="2016000" cy="62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92360" y="4724280"/>
                    <a:ext cx="201600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Object 11"/>
          <p:cNvGraphicFramePr/>
          <p:nvPr/>
        </p:nvGraphicFramePr>
        <p:xfrm>
          <a:off x="1692360" y="5589720"/>
          <a:ext cx="208764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5589720"/>
                    <a:ext cx="20876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7:30:53Z</dcterms:created>
  <dc:creator>к.502</dc:creator>
  <dc:description/>
  <dc:language>en-US</dc:language>
  <cp:lastModifiedBy>квм</cp:lastModifiedBy>
  <dcterms:modified xsi:type="dcterms:W3CDTF">2014-10-14T07:58:55Z</dcterms:modified>
  <cp:revision>6</cp:revision>
  <dc:subject/>
  <dc:title>Системы линейных алгебраических уравнений:</dc:title>
</cp:coreProperties>
</file>