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151-B784-4604-A4EF-9D72AC4A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A47-E925-4CEA-BC65-6E58E2E1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A21-9AE9-41B0-A0E2-70394ABF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116-21BF-480E-9A2C-ADA1191D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37A4-6170-4A57-8FAA-EC0BDBEF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EB79-DF2D-45A9-8141-86680481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DE4-FB7F-46E0-8E4C-5445B5EE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0E5E-CA91-4EFA-A4BA-8DA3F1F9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8B93-B295-4FA9-8317-4D7595B5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83C-8AB5-4833-9728-E6D913AB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269-1D5A-4CFC-A8C0-1EC2B0F0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555-B6DE-49D9-8187-C1B152F6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C3D6-97FC-47AC-B73F-8458012E2B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3068640"/>
            <a:ext cx="7705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Мария Альберт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Зиро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Профессор кафедры математики и инфор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331920"/>
            <a:ext cx="7772400" cy="22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Лекции по математике для студентов экономических специальнос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оказательная форма записи    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            комплексных чисел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з формулы Эй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2124000" y="2565360"/>
                <a:ext cx="4716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468360" y="3716280"/>
                <a:ext cx="7777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5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6560" y="1700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07-178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еонард Эйлер принадлежит к числу гениев, чье творч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тало достоянием всего человечества. Открытия Эйлера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атематике, механике, физике и технике прочно вошл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овременную науку. Многие из них были сделаны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етербургской Академии наук, где Леонард Эй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работал 31 год (в 1727-1741 гг. и 1766-1783 гг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Объект 7" descr="http://yak15.narod.ru/eiler.jpg"/>
          <p:cNvPicPr/>
          <p:nvPr/>
        </p:nvPicPr>
        <p:blipFill>
          <a:blip r:embed="rId1"/>
          <a:stretch/>
        </p:blipFill>
        <p:spPr>
          <a:xfrm>
            <a:off x="6659640" y="2060640"/>
            <a:ext cx="16574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Показательная форма записи    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             комплексных чисел</a:t>
            </a: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з формулы Эй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3924360" y="2984400"/>
                <a:ext cx="47163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395280" y="5229360"/>
                <a:ext cx="7777080" cy="10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ϕ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21" name="Рисунок 4" descr="http://www.dsplib.ru/content/complex/complex_html_m17bdf51c.gif"/>
          <p:cNvPicPr/>
          <p:nvPr/>
        </p:nvPicPr>
        <p:blipFill>
          <a:blip r:embed="rId1"/>
          <a:stretch/>
        </p:blipFill>
        <p:spPr>
          <a:xfrm>
            <a:off x="250920" y="2205000"/>
            <a:ext cx="35240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1560"/>
            <a:ext cx="7777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6bcf"/>
                </a:solidFill>
                <a:uFillTx/>
                <a:latin typeface="Arial"/>
              </a:rPr>
              <a:t>Пример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.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=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-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1-i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записать в тригонометрической и показательной формах.</a:t>
            </a: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ение</a:t>
            </a: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250920" y="2492280"/>
                <a:ext cx="8426520" cy="40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→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Операции над комплексными числами</a:t>
            </a:r>
            <a:br>
              <a:rPr sz="2400"/>
            </a:b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=x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+iy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0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=x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+iy</a:t>
            </a:r>
            <a:r>
              <a:rPr b="0" lang="ru-RU" sz="2400" spc="-1" strike="noStrike" baseline="-25000">
                <a:solidFill>
                  <a:srgbClr val="6b6bc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Сумма двух комплексных чисел и есть также комплексное числ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=(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)+i(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+y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  <a:ea typeface="Calibri"/>
              </a:rPr>
              <a:t>Пример: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(3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)+(1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i)=(3+1)+i(2+5)=4+7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Как следует из выражения при сложении реальные и мнимые части комплексного числа также складыва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74420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http://www.dsplib.ru/content/complex/complex_html_52954dab.gif"/>
          <p:cNvPicPr/>
          <p:nvPr/>
        </p:nvPicPr>
        <p:blipFill>
          <a:blip r:embed="rId1"/>
          <a:stretch/>
        </p:blipFill>
        <p:spPr>
          <a:xfrm>
            <a:off x="2266920" y="2060640"/>
            <a:ext cx="4249800" cy="3097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Calibri"/>
                <a:ea typeface="Calibri"/>
              </a:rPr>
              <a:t>На комплексной плоскости операцию сложения можно реализовать как сложение векторов комплексных чисел по правилу параллел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Разность двух комплексных чисел и есть также комплексное число: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z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=(x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x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)+i(y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0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-y</a:t>
            </a:r>
            <a:r>
              <a:rPr b="1" i="1" lang="ru-RU" sz="18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Arial"/>
                <a:ea typeface="Calibri"/>
              </a:rPr>
              <a:t>Пример: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(4+i)-(-2-i)=(4+2)+i(1+1)=6+2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r>
              <a:rPr b="1" lang="ru-RU" sz="1800" spc="-1" strike="noStrike">
                <a:solidFill>
                  <a:srgbClr val="6b6bcf"/>
                </a:solidFill>
                <a:latin typeface="Arial"/>
                <a:ea typeface="Calibri"/>
              </a:rPr>
              <a:t>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На комплексной плоскости операц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я можно реализовать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е векторов  комплекс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чисел по правилу параллелограмм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На первом шаге из вектора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формируется вектор            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 </a:t>
            </a: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после чего вектор          склад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6bcf"/>
                </a:solidFill>
                <a:latin typeface="Calibri"/>
                <a:ea typeface="Calibri"/>
              </a:rPr>
              <a:t>с вектором                 по правилу параллелограм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6200" y="331920"/>
            <a:ext cx="85186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000" spc="-1" strike="noStrike">
                <a:solidFill>
                  <a:srgbClr val="6b6bcf"/>
                </a:solidFill>
                <a:latin typeface="Calibri"/>
                <a:ea typeface="Calibri"/>
              </a:rPr>
              <a:t>2.</a:t>
            </a:r>
            <a:r>
              <a:rPr b="1" lang="ru-RU" sz="2000" spc="-1" strike="noStrike">
                <a:solidFill>
                  <a:srgbClr val="6b6bcf"/>
                </a:solidFill>
                <a:latin typeface="Calibri"/>
                <a:ea typeface="Calibri"/>
              </a:rPr>
              <a:t>Вычитание комплексных чисе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18" descr="http://www.dsplib.ru/content/complex/complex_html_51886597.gif"/>
          <p:cNvPicPr/>
          <p:nvPr/>
        </p:nvPicPr>
        <p:blipFill>
          <a:blip r:embed="rId1"/>
          <a:stretch/>
        </p:blipFill>
        <p:spPr>
          <a:xfrm>
            <a:off x="5076720" y="2349360"/>
            <a:ext cx="3606840" cy="27432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9" descr="http://www.dsplib.ru/content/complex/complex_html_7dbf2272.gif"/>
          <p:cNvPicPr/>
          <p:nvPr/>
        </p:nvPicPr>
        <p:blipFill>
          <a:blip r:embed="rId2"/>
          <a:stretch/>
        </p:blipFill>
        <p:spPr>
          <a:xfrm>
            <a:off x="3695760" y="465300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0" descr="http://www.dsplib.ru/content/complex/complex_html_7444b6fa.gif"/>
          <p:cNvPicPr/>
          <p:nvPr/>
        </p:nvPicPr>
        <p:blipFill>
          <a:blip r:embed="rId3"/>
          <a:stretch/>
        </p:blipFill>
        <p:spPr>
          <a:xfrm>
            <a:off x="3022560" y="5162400"/>
            <a:ext cx="362160" cy="2286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1" descr="http://www.dsplib.ru/content/complex/complex_html_7dbf2272.gif"/>
          <p:cNvPicPr/>
          <p:nvPr/>
        </p:nvPicPr>
        <p:blipFill>
          <a:blip r:embed="rId4"/>
          <a:stretch/>
        </p:blipFill>
        <p:spPr>
          <a:xfrm>
            <a:off x="2700360" y="5589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3" descr="http://www.dsplib.ru/content/complex/complex_html_7444b6fa.gif"/>
          <p:cNvPicPr/>
          <p:nvPr/>
        </p:nvPicPr>
        <p:blipFill>
          <a:blip r:embed="rId5"/>
          <a:stretch/>
        </p:blipFill>
        <p:spPr>
          <a:xfrm>
            <a:off x="2124000" y="6093000"/>
            <a:ext cx="3621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3. </a:t>
            </a:r>
            <a:r>
              <a:rPr b="1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 Умножение комплексных чисел.</a:t>
            </a:r>
            <a:br>
              <a:rPr sz="2400"/>
            </a:br>
            <a:r>
              <a:rPr b="0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Для того чтобы получить формулу для умножения комплексных чисел необходимо перемножить два комплексных числа по правилу умножения многочленов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+i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ример 1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3i)(-5-2i)=-5-15i-2i-6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-5-17i+6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-17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ример 2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+3i)(1-3i)=1-3i+3i-9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1+9=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всегда действите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681120" y="5070600"/>
                <a:ext cx="11541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4.</a:t>
            </a:r>
            <a:r>
              <a:rPr b="1" lang="ru-RU" sz="2400" spc="-1" strike="noStrike">
                <a:solidFill>
                  <a:srgbClr val="6b6bcf"/>
                </a:solidFill>
                <a:latin typeface="Calibri"/>
                <a:ea typeface="Calibri"/>
              </a:rPr>
              <a:t> Деление комплексных чисел</a:t>
            </a:r>
            <a:br>
              <a:rPr sz="2400"/>
            </a:br>
            <a:br>
              <a:rPr sz="24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1474920" y="981000"/>
                <a:ext cx="55432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акое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что</m:t>
                    </m:r>
                    <m:r>
                      <m:t xml:space="preserve"> 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539640" y="3357720"/>
                <a:ext cx="8136000" cy="26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5. Операции над комплексными числами, заданными в тригонометрической форме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1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2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3.</a:t>
            </a:r>
            <a:br>
              <a:rPr sz="2400"/>
            </a:br>
            <a:br>
              <a:rPr sz="2400"/>
            </a:br>
            <a:br>
              <a:rPr sz="3200"/>
            </a:b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4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395280" y="1844640"/>
                <a:ext cx="7993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"/>
              <p:cNvSpPr txBox="1"/>
              <p:nvPr/>
            </p:nvSpPr>
            <p:spPr>
              <a:xfrm>
                <a:off x="468360" y="2637000"/>
                <a:ext cx="8064360" cy="12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Rectangle 9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39640" y="4221000"/>
                <a:ext cx="7345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n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nϕ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1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0" y="5680080"/>
                <a:ext cx="91440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z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e>
                    </m:rad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ϕ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кция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280" y="1413000"/>
            <a:ext cx="7705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Комплексные чис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реде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формы записи комплексного числ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ерации над комплексными чис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331920"/>
            <a:ext cx="844524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ить уравнение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Решение: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5"/>
              <p:cNvSpPr txBox="1"/>
              <p:nvPr/>
            </p:nvSpPr>
            <p:spPr>
              <a:xfrm>
                <a:off x="4067280" y="404640"/>
                <a:ext cx="3168720" cy="6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250920" y="1773360"/>
                <a:ext cx="8137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9"/>
              <p:cNvSpPr txBox="1"/>
              <p:nvPr/>
            </p:nvSpPr>
            <p:spPr>
              <a:xfrm>
                <a:off x="539640" y="5141880"/>
                <a:ext cx="669636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1"/>
              <p:cNvSpPr txBox="1"/>
              <p:nvPr/>
            </p:nvSpPr>
            <p:spPr>
              <a:xfrm>
                <a:off x="1042920" y="3213000"/>
                <a:ext cx="66247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3"/>
              <p:cNvSpPr txBox="1"/>
              <p:nvPr/>
            </p:nvSpPr>
            <p:spPr>
              <a:xfrm>
                <a:off x="1325520" y="4076640"/>
                <a:ext cx="555480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Определение.</a:t>
            </a:r>
            <a:br>
              <a:rPr sz="36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Комплексным числом называется выражение вида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где             -   действительные числа</a:t>
            </a:r>
            <a:r>
              <a:rPr b="0" i="1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,           мнимая единица.  Число           действительная часть комплексного числа        и обозначается             , а</a:t>
            </a:r>
            <a:br>
              <a:rPr sz="2400"/>
            </a:br>
            <a:r>
              <a:rPr b="0" i="1" lang="ru-RU" sz="2400" spc="-1" strike="noStrike">
                <a:solidFill>
                  <a:srgbClr val="6b6bcf"/>
                </a:solidFill>
                <a:latin typeface="Arial"/>
              </a:rPr>
              <a:t>мнимая часть и обозначается                ,     т.е.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6659640" y="3933720"/>
                <a:ext cx="865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Объект 2"/>
              <p:cNvSpPr txBox="1"/>
              <p:nvPr/>
            </p:nvSpPr>
            <p:spPr>
              <a:xfrm>
                <a:off x="2843280" y="2637000"/>
                <a:ext cx="2423880" cy="52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Объект 5"/>
              <p:cNvSpPr txBox="1"/>
              <p:nvPr/>
            </p:nvSpPr>
            <p:spPr>
              <a:xfrm>
                <a:off x="3635280" y="4005360"/>
                <a:ext cx="5158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Объект 3"/>
              <p:cNvSpPr txBox="1"/>
              <p:nvPr/>
            </p:nvSpPr>
            <p:spPr>
              <a:xfrm>
                <a:off x="1116000" y="3213000"/>
                <a:ext cx="10843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Объект 7"/>
              <p:cNvSpPr txBox="1"/>
              <p:nvPr/>
            </p:nvSpPr>
            <p:spPr>
              <a:xfrm>
                <a:off x="6227640" y="3213000"/>
                <a:ext cx="82548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Объект 4"/>
              <p:cNvSpPr txBox="1"/>
              <p:nvPr/>
            </p:nvSpPr>
            <p:spPr>
              <a:xfrm>
                <a:off x="2987640" y="3645000"/>
                <a:ext cx="9795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Объект 9"/>
              <p:cNvSpPr txBox="1"/>
              <p:nvPr/>
            </p:nvSpPr>
            <p:spPr>
              <a:xfrm>
                <a:off x="8028000" y="4005360"/>
                <a:ext cx="981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Объект 6"/>
              <p:cNvSpPr txBox="1"/>
              <p:nvPr/>
            </p:nvSpPr>
            <p:spPr>
              <a:xfrm>
                <a:off x="2484360" y="4869000"/>
                <a:ext cx="454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m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Объект 8"/>
              <p:cNvSpPr txBox="1"/>
              <p:nvPr/>
            </p:nvSpPr>
            <p:spPr>
              <a:xfrm>
                <a:off x="5580000" y="436572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b6bcf"/>
                </a:solidFill>
                <a:latin typeface="Arial"/>
              </a:rPr>
              <a:t>Алгебраическая форма записи комплексного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6200" y="1052640"/>
            <a:ext cx="8363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1. Два комплексных чис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                                    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равны, е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2.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=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0,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если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x=0; y=0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3.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Если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y=0,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то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z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    R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b6bcf"/>
                </a:solidFill>
                <a:latin typeface="Arial"/>
              </a:rPr>
              <a:t>4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. Числа                                               назыв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сопряженными и обознач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2"/>
              <p:cNvSpPr txBox="1"/>
              <p:nvPr/>
            </p:nvSpPr>
            <p:spPr>
              <a:xfrm>
                <a:off x="3564000" y="3933720"/>
                <a:ext cx="28872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755640" y="1511280"/>
                <a:ext cx="40384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1403280" y="2135160"/>
                <a:ext cx="27320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5"/>
              <p:cNvSpPr txBox="1"/>
              <p:nvPr/>
            </p:nvSpPr>
            <p:spPr>
              <a:xfrm>
                <a:off x="6300720" y="5157720"/>
                <a:ext cx="12970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и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2314440" y="4751280"/>
                <a:ext cx="3942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79520" y="280800"/>
            <a:ext cx="822960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Такая форма записи комплексного числа называется </a:t>
            </a:r>
            <a:r>
              <a:rPr b="0" lang="ru-RU" sz="2800" spc="-1" strike="noStrike" u="sng">
                <a:solidFill>
                  <a:srgbClr val="6b6bcf"/>
                </a:solidFill>
                <a:uFillTx/>
                <a:latin typeface="Arial"/>
              </a:rPr>
              <a:t>алгебраической</a:t>
            </a: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Изображается комплексное число точкой на комплексной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711360" y="2487600"/>
                <a:ext cx="789768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Text Box 8"/>
          <p:cNvSpPr/>
          <p:nvPr/>
        </p:nvSpPr>
        <p:spPr>
          <a:xfrm>
            <a:off x="3348000" y="321300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348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220840" y="397188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2954160" y="508464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6300720" y="4941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3276720" y="299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4"/>
          <p:cNvSpPr/>
          <p:nvPr/>
        </p:nvSpPr>
        <p:spPr>
          <a:xfrm flipV="1">
            <a:off x="3132000" y="3213000"/>
            <a:ext cx="0" cy="34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5"/>
          <p:cNvSpPr/>
          <p:nvPr/>
        </p:nvSpPr>
        <p:spPr>
          <a:xfrm>
            <a:off x="466560" y="4869000"/>
            <a:ext cx="597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6"/>
          <p:cNvSpPr/>
          <p:nvPr/>
        </p:nvSpPr>
        <p:spPr>
          <a:xfrm>
            <a:off x="3059280" y="37162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9640" y="845640"/>
            <a:ext cx="8353440" cy="602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Для геометрического представления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комплексных чисел служат точки координатной плоскости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Y</a:t>
            </a:r>
            <a:r>
              <a:rPr b="0" i="1" lang="en-US" sz="24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Плоскость называется  комплексной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, если каждому комплексному числу 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соответствует точка плоскости</a:t>
            </a: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, причем это соответствие взаимно однозна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Оси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 и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lang="ru-RU" sz="2000" spc="-1" strike="noStrike">
                <a:solidFill>
                  <a:srgbClr val="6b6bcf"/>
                </a:solidFill>
                <a:latin typeface="Arial"/>
              </a:rPr>
              <a:t>, на которых расположены действительные числа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и чисто мнимые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, называются соответственно действительной и мнимой осями.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Объект 1"/>
              <p:cNvSpPr txBox="1"/>
              <p:nvPr/>
            </p:nvSpPr>
            <p:spPr>
              <a:xfrm>
                <a:off x="4068720" y="3043080"/>
                <a:ext cx="2424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Объект 2"/>
              <p:cNvSpPr txBox="1"/>
              <p:nvPr/>
            </p:nvSpPr>
            <p:spPr>
              <a:xfrm>
                <a:off x="3203640" y="3433680"/>
                <a:ext cx="1805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бозначим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мнимая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диница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Объект 4"/>
              <p:cNvSpPr txBox="1"/>
              <p:nvPr/>
            </p:nvSpPr>
            <p:spPr>
              <a:xfrm>
                <a:off x="755640" y="4581360"/>
                <a:ext cx="33354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89" name="Объект 5"/>
          <p:cNvGraphicFramePr/>
          <p:nvPr/>
        </p:nvGraphicFramePr>
        <p:xfrm>
          <a:off x="633240" y="5013360"/>
          <a:ext cx="343728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5013360"/>
                    <a:ext cx="34372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9"/>
          <p:cNvSpPr/>
          <p:nvPr/>
        </p:nvSpPr>
        <p:spPr>
          <a:xfrm>
            <a:off x="2700360" y="5805360"/>
            <a:ext cx="3603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2771640" y="3573360"/>
            <a:ext cx="3603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845640"/>
            <a:ext cx="8353440" cy="12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6b6bcf"/>
                </a:solidFill>
                <a:latin typeface="Arial"/>
              </a:rPr>
              <a:t>Геометрическое изображение комплексно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6bc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3059280" y="59500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9" descr="http://www.dsplib.ru/content/complex/complex_html_m5b082e0b.gif"/>
          <p:cNvPicPr/>
          <p:nvPr/>
        </p:nvPicPr>
        <p:blipFill>
          <a:blip r:embed="rId1"/>
          <a:stretch/>
        </p:blipFill>
        <p:spPr>
          <a:xfrm>
            <a:off x="1979640" y="2060640"/>
            <a:ext cx="4608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9200" y="19656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6bcf"/>
                </a:solidFill>
                <a:latin typeface="Arial"/>
              </a:rPr>
              <a:t>Тригонометрическая форма записи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6"/>
              <p:cNvSpPr txBox="1"/>
              <p:nvPr/>
            </p:nvSpPr>
            <p:spPr>
              <a:xfrm>
                <a:off x="3564000" y="1347840"/>
                <a:ext cx="5329080" cy="30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ϕ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y</m:t>
                        </m:r>
                        <m:r>
                          <m:t xml:space="preserve">=</m:t>
                        </m:r>
                      </m:e>
                    </m:eqArr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9"/>
              <p:cNvSpPr txBox="1"/>
              <p:nvPr/>
            </p:nvSpPr>
            <p:spPr>
              <a:xfrm>
                <a:off x="611280" y="4516560"/>
                <a:ext cx="792144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модуль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аргумен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ϕ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9" name="Line 12"/>
          <p:cNvSpPr/>
          <p:nvPr/>
        </p:nvSpPr>
        <p:spPr>
          <a:xfrm flipV="1">
            <a:off x="971640" y="1347480"/>
            <a:ext cx="0" cy="301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 flipV="1">
            <a:off x="971640" y="2501640"/>
            <a:ext cx="1944720" cy="9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5"/>
          <p:cNvSpPr/>
          <p:nvPr/>
        </p:nvSpPr>
        <p:spPr>
          <a:xfrm>
            <a:off x="1527120" y="3154320"/>
            <a:ext cx="122400" cy="27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1042920" y="11905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2484360" y="35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395280" y="3429000"/>
            <a:ext cx="27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3"/>
          <p:cNvSpPr/>
          <p:nvPr/>
        </p:nvSpPr>
        <p:spPr>
          <a:xfrm>
            <a:off x="971640" y="249228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4"/>
          <p:cNvSpPr/>
          <p:nvPr/>
        </p:nvSpPr>
        <p:spPr>
          <a:xfrm>
            <a:off x="2843280" y="2565360"/>
            <a:ext cx="0" cy="84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611280" y="2565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6"/>
          <p:cNvSpPr/>
          <p:nvPr/>
        </p:nvSpPr>
        <p:spPr>
          <a:xfrm>
            <a:off x="1649520" y="31068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1258920" y="285264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2700360" y="234936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266920" y="34290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19:29:58Z</dcterms:created>
  <dc:creator>Admin</dc:creator>
  <dc:description/>
  <dc:language>en-US</dc:language>
  <cp:lastModifiedBy>MANYA</cp:lastModifiedBy>
  <dcterms:modified xsi:type="dcterms:W3CDTF">2014-09-25T18:52:14Z</dcterms:modified>
  <cp:revision>44</cp:revision>
  <dc:subject/>
  <dc:title>Лекция 1</dc:title>
</cp:coreProperties>
</file>