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9886-FEB2-46AF-811A-19D1B72C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246F-FBDA-488D-84D3-B1B9D0A68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6DA-0EE6-4297-9C5F-5D5D9563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A8F-998E-425F-8C95-3E1B04A9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7016-FC9A-4F24-B0F6-39641F20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0B99-792F-4299-949D-0CB719F8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665D-503F-4939-9F20-EADE1B6F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38B1-4694-49B3-A74A-AA978E1D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D152-8A2F-4D50-AD39-97933703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70AA-5C8F-47FA-8216-EA259758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AD1-2320-4E95-A014-9A499840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731-DD04-479B-8920-F47FA917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318B-407B-4883-B35D-16CE319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6809-54B9-478C-86CF-1608BE8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2A98-1126-44F4-B234-271BC18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5C35-E1F1-4F50-8D78-39669B89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DD5-CEDB-4904-B9BE-50E4272C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382-84AB-4111-9E4D-2688D54F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7D21-BC7E-4BBE-B8FA-555B5438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3AFE-A868-44BA-8559-B4CBCA63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8260-151A-47CF-89C0-B937A50B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BBF-B8B6-4AE6-AF10-BF9B31C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2B3-4127-4CF6-BD63-0716D43F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4E5-CA91-42CE-A07A-48826AD5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E15-EF51-4478-892F-99EA06DF6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C1CE-FA1E-4995-9BB2-B9AF8D251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0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Лекция 1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Профессор кафедры высшей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и прикладной математик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64d4d"/>
                </a:solidFill>
                <a:latin typeface="Arial"/>
              </a:rPr>
              <a:t>Зироян Мария Альбертовн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0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уммой  (разностью)  матр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кая матрица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у которой все элементы равны сумме  (разности)  соответствующих элементов матриц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а чис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зывается такая матрица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 у которой все элементы равны произведению соответствующего элемента матрицы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на число </a:t>
            </a:r>
            <a:r>
              <a:rPr b="0" i="1" lang="el-GR" sz="28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979640" y="2781360"/>
          <a:ext cx="893880" cy="3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781360"/>
                    <a:ext cx="8938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1) Сложение,  вычит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c0f8b"/>
                </a:solidFill>
                <a:latin typeface="Arial"/>
              </a:rPr>
              <a:t>умножение  матрицы  на 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ерации сложения, вычитания двух матриц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одинаковой размерност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 умножения матрицы на число вводятся (по определению) с помощью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элементног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выполнен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ответствующего действия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3492360" y="4292640"/>
          <a:ext cx="194328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292640"/>
                    <a:ext cx="194328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6"/>
          <p:cNvGraphicFramePr/>
          <p:nvPr/>
        </p:nvGraphicFramePr>
        <p:xfrm>
          <a:off x="6084720" y="4292640"/>
          <a:ext cx="18720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292640"/>
                    <a:ext cx="18720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9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8"/>
          <p:cNvGraphicFramePr/>
          <p:nvPr/>
        </p:nvGraphicFramePr>
        <p:xfrm>
          <a:off x="611280" y="5300640"/>
          <a:ext cx="3314520" cy="924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5300640"/>
                    <a:ext cx="331452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5003640" y="5300640"/>
          <a:ext cx="2880000" cy="928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5300640"/>
                    <a:ext cx="2880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3851280" y="2421000"/>
          <a:ext cx="2016000" cy="9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421000"/>
                    <a:ext cx="20160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203640" y="3429000"/>
          <a:ext cx="352908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3429000"/>
                    <a:ext cx="35290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8"/>
          <p:cNvGraphicFramePr/>
          <p:nvPr/>
        </p:nvGraphicFramePr>
        <p:xfrm>
          <a:off x="3132000" y="4437000"/>
          <a:ext cx="3600720" cy="100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437000"/>
                    <a:ext cx="360072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Rectangle 11"/>
          <p:cNvSpPr/>
          <p:nvPr/>
        </p:nvSpPr>
        <p:spPr>
          <a:xfrm>
            <a:off x="375120" y="5443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10"/>
          <p:cNvGraphicFramePr/>
          <p:nvPr/>
        </p:nvGraphicFramePr>
        <p:xfrm>
          <a:off x="1042920" y="5516640"/>
          <a:ext cx="302436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5516640"/>
                    <a:ext cx="302436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12"/>
          <p:cNvSpPr/>
          <p:nvPr/>
        </p:nvSpPr>
        <p:spPr>
          <a:xfrm>
            <a:off x="3781800" y="5443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рицы одинаковой размер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2)  Умножение  матр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Произведением  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матрицу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l-GR" sz="2400" spc="-1" strike="noStrike">
                <a:solidFill>
                  <a:srgbClr val="097791"/>
                </a:solidFill>
                <a:latin typeface="Arial"/>
              </a:rPr>
              <a:t>κ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я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, у которой элемент с номером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вычисляется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2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 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вно скалярному произведению вектора, составленного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й строки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 вектор, составленный из элементов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 столбца матрицы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236000" y="2276640"/>
          <a:ext cx="1655640" cy="6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2276640"/>
                    <a:ext cx="16556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Rectangle 7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500720" y="2781360"/>
          <a:ext cx="158400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81360"/>
                    <a:ext cx="1584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8"/>
          <p:cNvGraphicFramePr/>
          <p:nvPr/>
        </p:nvGraphicFramePr>
        <p:xfrm>
          <a:off x="1476360" y="4005360"/>
          <a:ext cx="561672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76360" y="4005360"/>
                    <a:ext cx="56167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10"/>
          <p:cNvSpPr/>
          <p:nvPr/>
        </p:nvSpPr>
        <p:spPr>
          <a:xfrm>
            <a:off x="8173440" y="40755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(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войства  опер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843280" y="2349360"/>
          <a:ext cx="3024000" cy="5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349360"/>
                    <a:ext cx="3024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2843280" y="2781360"/>
          <a:ext cx="3097080" cy="54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2781360"/>
                    <a:ext cx="309708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8"/>
          <p:cNvGraphicFramePr/>
          <p:nvPr/>
        </p:nvGraphicFramePr>
        <p:xfrm>
          <a:off x="2771640" y="3284640"/>
          <a:ext cx="2737080" cy="41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1640" y="3284640"/>
                    <a:ext cx="273708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10"/>
          <p:cNvSpPr/>
          <p:nvPr/>
        </p:nvSpPr>
        <p:spPr>
          <a:xfrm>
            <a:off x="5648760" y="3356640"/>
            <a:ext cx="330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квадратных матриц)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11"/>
          <p:cNvGraphicFramePr/>
          <p:nvPr/>
        </p:nvGraphicFramePr>
        <p:xfrm>
          <a:off x="2700360" y="3754440"/>
          <a:ext cx="3384360" cy="53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3754440"/>
                    <a:ext cx="338436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3"/>
          <p:cNvGraphicFramePr/>
          <p:nvPr/>
        </p:nvGraphicFramePr>
        <p:xfrm>
          <a:off x="2700360" y="4292640"/>
          <a:ext cx="3959280" cy="109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00360" y="4292640"/>
                    <a:ext cx="3959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15"/>
          <p:cNvSpPr/>
          <p:nvPr/>
        </p:nvSpPr>
        <p:spPr>
          <a:xfrm>
            <a:off x="963000" y="550152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ся, что указанные здесь действия определен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1" lang="en-US" sz="3300" spc="-1" strike="noStrike">
                <a:solidFill>
                  <a:srgbClr val="ff9900"/>
                </a:solidFill>
                <a:latin typeface="Arial Black"/>
              </a:rPr>
              <a:t>2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ЕРАЦИИ НАД МАТРИЦА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3)  Возведение  в  степ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операция определена только для квадратных матриц и вводится по правилу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826920" y="2924280"/>
          <a:ext cx="7813800" cy="58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924280"/>
                    <a:ext cx="781380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678960" y="3485160"/>
            <a:ext cx="47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астности, справедливы равенств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5435640" y="3357720"/>
          <a:ext cx="2663640" cy="52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3357720"/>
                    <a:ext cx="266364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9"/>
          <p:cNvGraphicFramePr/>
          <p:nvPr/>
        </p:nvGraphicFramePr>
        <p:xfrm>
          <a:off x="5435640" y="3789360"/>
          <a:ext cx="2592360" cy="496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35640" y="3789360"/>
                    <a:ext cx="25923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1"/>
          <p:cNvSpPr/>
          <p:nvPr/>
        </p:nvSpPr>
        <p:spPr>
          <a:xfrm>
            <a:off x="552960" y="4075920"/>
            <a:ext cx="63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иагонально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ы справедлива форму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12"/>
          <p:cNvGraphicFramePr/>
          <p:nvPr/>
        </p:nvGraphicFramePr>
        <p:xfrm>
          <a:off x="826920" y="4437000"/>
          <a:ext cx="7452000" cy="1752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26920" y="4437000"/>
                    <a:ext cx="745200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Line 14"/>
          <p:cNvSpPr/>
          <p:nvPr/>
        </p:nvSpPr>
        <p:spPr>
          <a:xfrm>
            <a:off x="111600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5"/>
          <p:cNvSpPr/>
          <p:nvPr/>
        </p:nvSpPr>
        <p:spPr>
          <a:xfrm>
            <a:off x="4284720" y="4869000"/>
            <a:ext cx="1871640" cy="100800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рными преобразован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рок матрицы называются преобразования следующих тип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)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становка местами двух строк матр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где стрелки указывают на стро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авляемые  мест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мена строки суммой этой строки и некоторой другой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спомогатель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редварительно умноженной на какое-либ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исло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100" spc="-1" strike="noStrike">
                <a:solidFill>
                  <a:srgbClr val="097791"/>
                </a:solidFill>
                <a:latin typeface="Arial"/>
              </a:rPr>
              <a:t>α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ловное обозначение: </a:t>
            </a:r>
            <a:r>
              <a:rPr b="0" i="1" lang="el-GR" sz="32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32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  где стрелка  указывает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меняемую стро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851280" y="306864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5"/>
          <p:cNvSpPr/>
          <p:nvPr/>
        </p:nvSpPr>
        <p:spPr>
          <a:xfrm flipH="1">
            <a:off x="3851280" y="357336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4284720" y="3068640"/>
            <a:ext cx="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"/>
          <p:cNvSpPr/>
          <p:nvPr/>
        </p:nvSpPr>
        <p:spPr>
          <a:xfrm flipH="1">
            <a:off x="3564000" y="5734080"/>
            <a:ext cx="4334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995640" y="537372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611280" y="591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ожитель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тавят рядом со вспомогательной стро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2485800" y="5642640"/>
            <a:ext cx="3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множение строки на ненулевое число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условное обозначение: </a:t>
            </a:r>
            <a:r>
              <a:rPr b="0" i="1" lang="el-GR" sz="20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lang="el-GR" sz="2000" spc="-1" strike="noStrike">
                <a:solidFill>
                  <a:srgbClr val="097791"/>
                </a:solidFill>
                <a:latin typeface="Arial"/>
              </a:rPr>
              <a:t>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ставится рядом с изменяемой строкой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З а м е ч а н и е  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Аналогично вводятся элементарные преобразования столбцов матр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Опорным элементом стро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ы называется первый слева ненулевой  элемент этой строки. Если строка нулевая, то опорного элемента у нее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О п р е д е л е н и е  1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атрица называется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ступенчат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(и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имеющей ступенчатый вид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выполнены следующие усло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акая-то строка матрицы нулевая, то все последующие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улевые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*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орный элемент в каждой последующей строке располо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ее, чем в предыдущ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7138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6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Говорят, что матрица имеет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вид Гаусс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ли: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рица является ступенчат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порные элементы равны единиц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опорными элементами стоят только н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cc00"/>
                </a:solidFill>
                <a:uFillTx/>
                <a:latin typeface="Arial"/>
              </a:rPr>
              <a:t>Т е о р е м а 1</a:t>
            </a:r>
            <a:r>
              <a:rPr b="1" i="1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помощью элементарных преобразований строк первого и второго типов.  Любая матрица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риведена к ступенчатой матрице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да Гаусса с помощью элементарных преобразований строк первого – третьего тип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3. СТУПЕНЧАТЫЙ  ВИД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7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400" spc="-1" strike="noStrike" baseline="-25000">
                <a:solidFill>
                  <a:srgbClr val="097791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построенные по матрице 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с помощью элементарных преобразований, называются, соответственно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упенчатым видом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идом Гаусса матрицы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 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4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упенчатый вид у матрицы и ее вид Гаусса не единственен.  Наборы базисных строк и базисных столбцов матрицы также не являются инвариантами этой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97791"/>
                </a:solidFill>
                <a:latin typeface="comic"/>
              </a:rPr>
              <a:t>М А Т Р И Ц Ы</a:t>
            </a: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a50021"/>
                </a:solidFill>
                <a:latin typeface="Arial"/>
              </a:rPr>
              <a:t>Матрица, операция над матрицами. Приведение матрицы к виду Гаусса. Ранг матрицы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324000" y="620640"/>
          <a:ext cx="201600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201600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Rectangle 7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1476360" y="2421000"/>
          <a:ext cx="1047600" cy="71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2421000"/>
                    <a:ext cx="10476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7308720" y="2060640"/>
          <a:ext cx="1393920" cy="1324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2060640"/>
                    <a:ext cx="13939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Line 10"/>
          <p:cNvSpPr/>
          <p:nvPr/>
        </p:nvSpPr>
        <p:spPr>
          <a:xfrm>
            <a:off x="7451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802800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802800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4. РАНГ  МАТРИЦ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9900"/>
                </a:solidFill>
                <a:latin typeface="Arial"/>
              </a:rPr>
              <a:t>О п р е д е л е н и е  19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Рангом матрицы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число ненулевых строк в ступенчатом виде этой матрицы.   Обозначение:  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5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нг матрицы не меняется  при применении к матрице   </a:t>
            </a:r>
            <a:r>
              <a:rPr b="0" i="1" lang="ru-RU" sz="20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элементарных преобразований, то есть не зависит от способа приведения матрицы к ступенчатому ви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Arial"/>
              </a:rPr>
              <a:t>З а м е ч а н и е  6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Справедливы неравенства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987640" y="512532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0</a:t>
            </a:r>
            <a:r>
              <a:rPr b="0" i="1" lang="en-US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r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A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i="1" lang="ru-RU" sz="2800" spc="-1" strike="noStrike">
                <a:solidFill>
                  <a:srgbClr val="097791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97791"/>
                </a:solidFill>
                <a:latin typeface="Arial"/>
              </a:rPr>
              <a:t>min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 (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ru-RU" sz="2800" spc="-1" strike="noStrike">
                <a:solidFill>
                  <a:srgbClr val="097791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840" y="1999800"/>
            <a:ext cx="871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ить размерность матр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2700360" y="2421000"/>
          <a:ext cx="3311640" cy="17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2421000"/>
                    <a:ext cx="331164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7"/>
          <p:cNvSpPr/>
          <p:nvPr/>
        </p:nvSpPr>
        <p:spPr>
          <a:xfrm>
            <a:off x="687240" y="4072680"/>
            <a:ext cx="308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указать ее элементы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6"/>
          <p:cNvGraphicFramePr/>
          <p:nvPr/>
        </p:nvGraphicFramePr>
        <p:xfrm>
          <a:off x="3913200" y="3929040"/>
          <a:ext cx="194472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3200" y="3929040"/>
                    <a:ext cx="19447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9"/>
          <p:cNvSpPr/>
          <p:nvPr/>
        </p:nvSpPr>
        <p:spPr>
          <a:xfrm>
            <a:off x="395280" y="4368240"/>
            <a:ext cx="82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 е ш е н и е.   Матрица  </a:t>
            </a:r>
            <a:r>
              <a:rPr b="0" i="1" lang="ru-RU" sz="2800" spc="-1" strike="noStrike">
                <a:solidFill>
                  <a:srgbClr val="5c0f8b"/>
                </a:solidFill>
                <a:latin typeface="Arial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еет три строки и четыре столбца, то есть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8"/>
          <p:cNvGraphicFramePr/>
          <p:nvPr/>
        </p:nvGraphicFramePr>
        <p:xfrm>
          <a:off x="2340000" y="4941720"/>
          <a:ext cx="1871640" cy="48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4941720"/>
                    <a:ext cx="18716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10"/>
          <p:cNvSpPr/>
          <p:nvPr/>
        </p:nvSpPr>
        <p:spPr>
          <a:xfrm>
            <a:off x="2657520" y="354420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11"/>
          <p:cNvGraphicFramePr/>
          <p:nvPr/>
        </p:nvGraphicFramePr>
        <p:xfrm>
          <a:off x="2340000" y="5486400"/>
          <a:ext cx="424800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40000" y="5486400"/>
                    <a:ext cx="42480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2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ычислить матрицу  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2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 </a:t>
            </a:r>
            <a:r>
              <a:rPr b="0" lang="ru-RU" sz="2000" spc="-1" strike="noStrike">
                <a:solidFill>
                  <a:srgbClr val="5c0f8b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5c0f8b"/>
                </a:solidFill>
                <a:latin typeface="Arial"/>
              </a:rPr>
              <a:t> 3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979640" y="2232000"/>
          <a:ext cx="540072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232000"/>
                    <a:ext cx="540072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6"/>
          <p:cNvSpPr/>
          <p:nvPr/>
        </p:nvSpPr>
        <p:spPr>
          <a:xfrm>
            <a:off x="1272960" y="321228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Зная матрицы 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i="1" lang="ru-RU" sz="2000" spc="-1" strike="noStrike">
                <a:solidFill>
                  <a:srgbClr val="5c0f8b"/>
                </a:solidFill>
                <a:latin typeface="Arial"/>
              </a:rPr>
              <a:t>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аходи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7"/>
          <p:cNvGraphicFramePr/>
          <p:nvPr/>
        </p:nvGraphicFramePr>
        <p:xfrm>
          <a:off x="1476360" y="3573360"/>
          <a:ext cx="633564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3573360"/>
                    <a:ext cx="633564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9"/>
          <p:cNvGraphicFramePr/>
          <p:nvPr/>
        </p:nvGraphicFramePr>
        <p:xfrm>
          <a:off x="324000" y="4653000"/>
          <a:ext cx="8353440" cy="102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653000"/>
                    <a:ext cx="83534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Line 11"/>
          <p:cNvSpPr/>
          <p:nvPr/>
        </p:nvSpPr>
        <p:spPr>
          <a:xfrm>
            <a:off x="1979640" y="5157720"/>
            <a:ext cx="3600360" cy="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298764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4284720" y="4797360"/>
            <a:ext cx="0" cy="719280"/>
          </a:xfrm>
          <a:prstGeom prst="line">
            <a:avLst/>
          </a:prstGeom>
          <a:ln w="9360">
            <a:solidFill>
              <a:srgbClr val="00ff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3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а) Первая из перемножаемых матриц имеет размерность 2х3,  а вторая матрица – размерность 2х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число столбцов первой матрицы не равно числу строк второй, то данные две матрицы перемножить нельз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П р и м е р  4</a:t>
            </a:r>
            <a:r>
              <a:rPr b="0" lang="ru-RU" sz="24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ычислить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5292720" y="1700280"/>
          <a:ext cx="273528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1700280"/>
                    <a:ext cx="27352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11"/>
          <p:cNvGraphicFramePr/>
          <p:nvPr/>
        </p:nvGraphicFramePr>
        <p:xfrm>
          <a:off x="3203640" y="4508640"/>
          <a:ext cx="3024000" cy="17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4508640"/>
                    <a:ext cx="3024000" cy="17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 (1), находим матрицу размер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 5</a:t>
            </a:r>
            <a:r>
              <a:rPr b="0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ru-RU" sz="2400" spc="-1" strike="noStrike">
                <a:solidFill>
                  <a:srgbClr val="5c0f8b"/>
                </a:solidFill>
                <a:latin typeface="Arial"/>
              </a:rPr>
              <a:t>А</a:t>
            </a:r>
            <a:r>
              <a:rPr b="0" lang="ru-RU" sz="2400" spc="-1" strike="noStrike" baseline="30000">
                <a:solidFill>
                  <a:srgbClr val="5c0f8b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4"/>
          <p:cNvGraphicFramePr/>
          <p:nvPr/>
        </p:nvGraphicFramePr>
        <p:xfrm>
          <a:off x="971640" y="2349360"/>
          <a:ext cx="698328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349360"/>
                    <a:ext cx="698328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1547640" y="4508640"/>
          <a:ext cx="2089440" cy="136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508640"/>
                    <a:ext cx="208944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5003640" y="4365720"/>
          <a:ext cx="2160720" cy="16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4365720"/>
                    <a:ext cx="21607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8"/>
          <p:cNvSpPr/>
          <p:nvPr/>
        </p:nvSpPr>
        <p:spPr>
          <a:xfrm>
            <a:off x="1187280" y="4941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988080" y="4941000"/>
            <a:ext cx="55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2900"/>
            </a:br>
            <a:r>
              <a:rPr b="1" lang="ru-RU" sz="29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699920"/>
            <a:ext cx="769608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 е ш е н и е.     а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рицы являются квадратными, то вычисляем: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4572000" y="1844640"/>
          <a:ext cx="1582560" cy="4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844640"/>
                    <a:ext cx="15825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1619280" y="2708280"/>
          <a:ext cx="5977080" cy="151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2708280"/>
                    <a:ext cx="597708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8"/>
          <p:cNvSpPr/>
          <p:nvPr/>
        </p:nvSpPr>
        <p:spPr>
          <a:xfrm>
            <a:off x="310320" y="4149000"/>
            <a:ext cx="883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 Учитывая, что рассматриваемая матрица является диагональной, получае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9"/>
          <p:cNvGraphicFramePr/>
          <p:nvPr/>
        </p:nvGraphicFramePr>
        <p:xfrm>
          <a:off x="684360" y="4437000"/>
          <a:ext cx="7488000" cy="192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4437000"/>
                    <a:ext cx="748800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c0f8b"/>
                </a:solidFill>
                <a:uFillTx/>
                <a:latin typeface="Arial"/>
              </a:rPr>
              <a:t>П р и м е р  6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ь ступенчатый вид  матриц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Object 6"/>
          <p:cNvGraphicFramePr/>
          <p:nvPr/>
        </p:nvGraphicFramePr>
        <p:xfrm>
          <a:off x="6300720" y="1773360"/>
          <a:ext cx="25210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210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Rectangle 8"/>
          <p:cNvSpPr/>
          <p:nvPr/>
        </p:nvSpPr>
        <p:spPr>
          <a:xfrm>
            <a:off x="971640" y="32839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ть базисные строки и столбцы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630720" y="364428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Object 10"/>
          <p:cNvGraphicFramePr/>
          <p:nvPr/>
        </p:nvGraphicFramePr>
        <p:xfrm>
          <a:off x="539640" y="4005360"/>
          <a:ext cx="3384720" cy="21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05360"/>
                    <a:ext cx="33847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Rectangle 13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0" name="Object 12"/>
          <p:cNvGraphicFramePr/>
          <p:nvPr/>
        </p:nvGraphicFramePr>
        <p:xfrm>
          <a:off x="4643280" y="3933720"/>
          <a:ext cx="2519640" cy="215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3933720"/>
                    <a:ext cx="251964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5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4"/>
          <p:cNvGraphicFramePr/>
          <p:nvPr/>
        </p:nvGraphicFramePr>
        <p:xfrm>
          <a:off x="4067280" y="4365720"/>
          <a:ext cx="360360" cy="269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4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67280" y="4365720"/>
                    <a:ext cx="360360" cy="26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Line 16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7"/>
          <p:cNvSpPr/>
          <p:nvPr/>
        </p:nvSpPr>
        <p:spPr>
          <a:xfrm flipH="1">
            <a:off x="284328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8"/>
          <p:cNvSpPr/>
          <p:nvPr/>
        </p:nvSpPr>
        <p:spPr>
          <a:xfrm>
            <a:off x="3564000" y="43657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9"/>
          <p:cNvSpPr/>
          <p:nvPr/>
        </p:nvSpPr>
        <p:spPr>
          <a:xfrm flipH="1">
            <a:off x="2842920" y="573408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0"/>
          <p:cNvSpPr/>
          <p:nvPr/>
        </p:nvSpPr>
        <p:spPr>
          <a:xfrm>
            <a:off x="6516720" y="4941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1"/>
          <p:cNvSpPr/>
          <p:nvPr/>
        </p:nvSpPr>
        <p:spPr>
          <a:xfrm flipH="1">
            <a:off x="6300720" y="522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2"/>
          <p:cNvSpPr/>
          <p:nvPr/>
        </p:nvSpPr>
        <p:spPr>
          <a:xfrm>
            <a:off x="6732720" y="4869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3"/>
          <p:cNvSpPr/>
          <p:nvPr/>
        </p:nvSpPr>
        <p:spPr>
          <a:xfrm flipH="1">
            <a:off x="6227640" y="566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24"/>
          <p:cNvGraphicFramePr/>
          <p:nvPr/>
        </p:nvGraphicFramePr>
        <p:xfrm>
          <a:off x="6804000" y="4869000"/>
          <a:ext cx="471600" cy="345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4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04000" y="4869000"/>
                    <a:ext cx="4716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4"/>
          <p:cNvGraphicFramePr/>
          <p:nvPr/>
        </p:nvGraphicFramePr>
        <p:xfrm>
          <a:off x="755640" y="2637000"/>
          <a:ext cx="7561440" cy="204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37000"/>
                    <a:ext cx="756144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5c0f8b"/>
                </a:solidFill>
                <a:uFillTx/>
                <a:latin typeface="Arial"/>
              </a:rPr>
              <a:t>П р и м е р 7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ривести к виду Гаусса матр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6300720" y="1773360"/>
          <a:ext cx="25192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773360"/>
                    <a:ext cx="25192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Rectangle 6"/>
          <p:cNvSpPr/>
          <p:nvPr/>
        </p:nvSpPr>
        <p:spPr>
          <a:xfrm>
            <a:off x="487080" y="3859920"/>
            <a:ext cx="797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 Выполним элементарные преобразования строк матр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7"/>
          <p:cNvGraphicFramePr/>
          <p:nvPr/>
        </p:nvGraphicFramePr>
        <p:xfrm>
          <a:off x="1042920" y="4149720"/>
          <a:ext cx="7416720" cy="224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149720"/>
                    <a:ext cx="741672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Line 9"/>
          <p:cNvSpPr/>
          <p:nvPr/>
        </p:nvSpPr>
        <p:spPr>
          <a:xfrm>
            <a:off x="2556000" y="4437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0"/>
          <p:cNvSpPr/>
          <p:nvPr/>
        </p:nvSpPr>
        <p:spPr>
          <a:xfrm flipH="1">
            <a:off x="2268000" y="443700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2268000" y="522936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3"/>
          <p:cNvSpPr/>
          <p:nvPr/>
        </p:nvSpPr>
        <p:spPr>
          <a:xfrm flipH="1">
            <a:off x="4211640" y="558972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4"/>
          <p:cNvSpPr/>
          <p:nvPr/>
        </p:nvSpPr>
        <p:spPr>
          <a:xfrm flipH="1">
            <a:off x="4211640" y="6021360"/>
            <a:ext cx="72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5"/>
          <p:cNvSpPr/>
          <p:nvPr/>
        </p:nvSpPr>
        <p:spPr>
          <a:xfrm>
            <a:off x="4500720" y="4581360"/>
            <a:ext cx="0" cy="10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6"/>
          <p:cNvSpPr/>
          <p:nvPr/>
        </p:nvSpPr>
        <p:spPr>
          <a:xfrm>
            <a:off x="4932360" y="4581360"/>
            <a:ext cx="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468360" y="1844640"/>
          <a:ext cx="8424720" cy="20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842472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7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6"/>
          <p:cNvGraphicFramePr/>
          <p:nvPr/>
        </p:nvGraphicFramePr>
        <p:xfrm>
          <a:off x="539640" y="3933720"/>
          <a:ext cx="8209080" cy="22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3933720"/>
                    <a:ext cx="820908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Line 8"/>
          <p:cNvSpPr/>
          <p:nvPr/>
        </p:nvSpPr>
        <p:spPr>
          <a:xfrm>
            <a:off x="2843280" y="249228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 flipH="1">
            <a:off x="255600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0"/>
          <p:cNvSpPr/>
          <p:nvPr/>
        </p:nvSpPr>
        <p:spPr>
          <a:xfrm flipH="1">
            <a:off x="2556000" y="2492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1"/>
          <p:cNvSpPr/>
          <p:nvPr/>
        </p:nvSpPr>
        <p:spPr>
          <a:xfrm>
            <a:off x="5435640" y="2637000"/>
            <a:ext cx="0" cy="107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2"/>
          <p:cNvSpPr/>
          <p:nvPr/>
        </p:nvSpPr>
        <p:spPr>
          <a:xfrm flipH="1">
            <a:off x="5148360" y="2924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3"/>
          <p:cNvSpPr/>
          <p:nvPr/>
        </p:nvSpPr>
        <p:spPr>
          <a:xfrm flipH="1">
            <a:off x="5148360" y="371628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4"/>
          <p:cNvSpPr/>
          <p:nvPr/>
        </p:nvSpPr>
        <p:spPr>
          <a:xfrm flipH="1">
            <a:off x="5219280" y="3284640"/>
            <a:ext cx="57636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5"/>
          <p:cNvSpPr/>
          <p:nvPr/>
        </p:nvSpPr>
        <p:spPr>
          <a:xfrm>
            <a:off x="5786280" y="2643120"/>
            <a:ext cx="0" cy="647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6"/>
          <p:cNvSpPr/>
          <p:nvPr/>
        </p:nvSpPr>
        <p:spPr>
          <a:xfrm flipH="1">
            <a:off x="2410920" y="5589720"/>
            <a:ext cx="287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7"/>
          <p:cNvSpPr/>
          <p:nvPr/>
        </p:nvSpPr>
        <p:spPr>
          <a:xfrm flipH="1">
            <a:off x="2410920" y="6021360"/>
            <a:ext cx="576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2987640" y="53006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2700360" y="5229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0"/>
          <p:cNvSpPr/>
          <p:nvPr/>
        </p:nvSpPr>
        <p:spPr>
          <a:xfrm>
            <a:off x="5148360" y="4653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1"/>
          <p:cNvSpPr/>
          <p:nvPr/>
        </p:nvSpPr>
        <p:spPr>
          <a:xfrm>
            <a:off x="5796000" y="4221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2"/>
          <p:cNvSpPr/>
          <p:nvPr/>
        </p:nvSpPr>
        <p:spPr>
          <a:xfrm flipH="1">
            <a:off x="4859280" y="4653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3"/>
          <p:cNvSpPr/>
          <p:nvPr/>
        </p:nvSpPr>
        <p:spPr>
          <a:xfrm flipH="1">
            <a:off x="4859280" y="4221000"/>
            <a:ext cx="93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4"/>
          <p:cNvSpPr/>
          <p:nvPr/>
        </p:nvSpPr>
        <p:spPr>
          <a:xfrm flipH="1">
            <a:off x="7812000" y="4221000"/>
            <a:ext cx="287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5"/>
          <p:cNvSpPr/>
          <p:nvPr/>
        </p:nvSpPr>
        <p:spPr>
          <a:xfrm>
            <a:off x="8101080" y="422100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56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атрицей размер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тся прямоугольна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ащая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m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 и 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бцов. Числа, составляющие матрицу, называются ее </a:t>
            </a:r>
            <a:r>
              <a:rPr b="0" i="1" lang="ru-RU" sz="20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х обозначают: </a:t>
            </a:r>
            <a:r>
              <a:rPr b="0" i="1" lang="en-US" sz="2800" spc="-1" strike="noStrike">
                <a:solidFill>
                  <a:srgbClr val="09779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97791"/>
                </a:solidFill>
                <a:latin typeface="Arial"/>
              </a:rPr>
              <a:t>i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де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i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роки матрицы, </a:t>
            </a:r>
            <a:r>
              <a:rPr b="0" i="1" lang="en-US" sz="2000" spc="-1" strike="noStrike">
                <a:solidFill>
                  <a:srgbClr val="097791"/>
                </a:solidFill>
                <a:latin typeface="Arial"/>
              </a:rPr>
              <a:t>j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мер столбца матрицы, в которых расположен данный элемент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3132000" y="2637000"/>
          <a:ext cx="3024360" cy="168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3024360" cy="16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br>
              <a:rPr sz="3300"/>
            </a:br>
            <a:r>
              <a:rPr b="1" lang="ru-RU" sz="3300" spc="-1" strike="noStrike" u="sng">
                <a:solidFill>
                  <a:srgbClr val="ff9900"/>
                </a:solidFill>
                <a:uFillTx/>
                <a:latin typeface="Arial Black"/>
              </a:rPr>
              <a:t>5. ПРИМЕРЫ  С  РЕШЕНИЯМ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2268360" y="1773360"/>
          <a:ext cx="221004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73360"/>
                    <a:ext cx="221004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6"/>
          <p:cNvGraphicFramePr/>
          <p:nvPr/>
        </p:nvGraphicFramePr>
        <p:xfrm>
          <a:off x="2627280" y="3789360"/>
          <a:ext cx="3457440" cy="207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3789360"/>
                    <a:ext cx="3457440" cy="20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2"/>
          <p:cNvSpPr/>
          <p:nvPr/>
        </p:nvSpPr>
        <p:spPr>
          <a:xfrm>
            <a:off x="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3"/>
          <p:cNvSpPr/>
          <p:nvPr/>
        </p:nvSpPr>
        <p:spPr>
          <a:xfrm>
            <a:off x="957600" y="45759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 т в е 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2916360" y="21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3348000" y="213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3348000" y="2565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385128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3851280" y="2924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871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у обозначаю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2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матрицы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рав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если они совпадают поэлемен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3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улево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бозначают: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все ее элементы равны нулю.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5"/>
          <p:cNvGraphicFramePr/>
          <p:nvPr/>
        </p:nvGraphicFramePr>
        <p:xfrm>
          <a:off x="2124000" y="2781360"/>
          <a:ext cx="542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2781360"/>
                    <a:ext cx="542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4"/>
          <p:cNvGraphicFramePr/>
          <p:nvPr/>
        </p:nvGraphicFramePr>
        <p:xfrm>
          <a:off x="4500720" y="2708280"/>
          <a:ext cx="1871640" cy="12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708280"/>
                    <a:ext cx="18716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66400" y="285156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4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 размерности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</a:t>
            </a:r>
            <a:r>
              <a:rPr b="0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-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строк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Матрица размерност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97791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матрицей-столбцом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5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m=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 то матрица 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 матрицей 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97791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Ее элементы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; числа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1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n-1,2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a50021"/>
                </a:solidFill>
                <a:latin typeface="Times New Roman"/>
              </a:rPr>
              <a:t>1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771640" y="2997360"/>
          <a:ext cx="82548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8254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864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З а м е ч а н и е  1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стности,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второ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две строки и два столбца.  Числа </a:t>
            </a:r>
            <a:r>
              <a:rPr b="0" i="1" lang="en-US" sz="24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ы, где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а  </a:t>
            </a:r>
            <a:r>
              <a:rPr b="0" i="1" lang="en-US" sz="2400" spc="-1" strike="noStrike">
                <a:solidFill>
                  <a:srgbClr val="336666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 числа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400" spc="-1" strike="noStrike" baseline="-25000">
                <a:solidFill>
                  <a:srgbClr val="a50021"/>
                </a:solidFill>
                <a:latin typeface="Times New Roman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второстепенную)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3059280" y="2565360"/>
          <a:ext cx="25923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25923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7138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Квадратной матрицей третьего поряд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 таблица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щая три строки и три столбца.  Числа </a:t>
            </a:r>
            <a:r>
              <a:rPr b="0" i="1" lang="en-US" sz="2900" spc="-1" strike="noStrike">
                <a:solidFill>
                  <a:srgbClr val="3399ff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3399ff"/>
                </a:solidFill>
                <a:latin typeface="Arial"/>
              </a:rPr>
              <a:t>ij </a:t>
            </a:r>
            <a:r>
              <a:rPr b="0" i="1" lang="en-US" sz="2400" spc="-1" strike="noStrike">
                <a:solidFill>
                  <a:srgbClr val="3399ff"/>
                </a:solidFill>
                <a:latin typeface="Arial"/>
              </a:rPr>
              <a:t>(i=j=1,2,3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ю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элемент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, где 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роки,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97791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омер столбца, в которых расположен данный элемент.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1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бразуют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главную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трицы; числа 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13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22</a:t>
            </a:r>
            <a:r>
              <a:rPr b="0" i="1" lang="en-US" sz="2900" spc="-1" strike="noStrike">
                <a:solidFill>
                  <a:srgbClr val="a50021"/>
                </a:solidFill>
                <a:latin typeface="Times New Roman"/>
              </a:rPr>
              <a:t>,a</a:t>
            </a:r>
            <a:r>
              <a:rPr b="0" i="1" lang="en-US" sz="2900" spc="-1" strike="noStrike" baseline="-25000">
                <a:solidFill>
                  <a:srgbClr val="a50021"/>
                </a:solidFill>
                <a:latin typeface="Times New Roman"/>
              </a:rPr>
              <a:t>3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побочную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 (второстепенную)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 диагона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2916360" y="2349360"/>
          <a:ext cx="3024000" cy="163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3024000" cy="16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6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диагон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элементы, стоящи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в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главной диагонали, 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верхнетреуго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(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нижнетреуголь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если все ее элементы, расположенные ниже  (выше)  главной диагонали, равны ну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36666"/>
                </a:solidFill>
                <a:latin typeface="Arial Black"/>
              </a:rPr>
              <a:t>М А Т Р И Ц Ы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ff9900"/>
                </a:solidFill>
                <a:latin typeface="Arial Black"/>
              </a:rPr>
              <a:t>1.</a:t>
            </a:r>
            <a:r>
              <a:rPr b="1" lang="ru-RU" sz="3300" spc="-1" strike="noStrike">
                <a:solidFill>
                  <a:srgbClr val="ff9900"/>
                </a:solidFill>
                <a:latin typeface="Arial Black"/>
              </a:rPr>
              <a:t>ОПРЕДЕЛЕНИЯ</a:t>
            </a:r>
            <a:r>
              <a:rPr b="0" lang="ru-RU" sz="3300" spc="-1" strike="noStrike">
                <a:solidFill>
                  <a:srgbClr val="ff9900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8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вадратная матрица называется 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единичной</a:t>
            </a:r>
            <a:r>
              <a:rPr b="0" lang="ru-RU" sz="2400" spc="-1" strike="noStrike">
                <a:solidFill>
                  <a:srgbClr val="09779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(обозначают:  </a:t>
            </a:r>
            <a:r>
              <a:rPr b="0" i="1" lang="ru-RU" sz="2400" spc="-1" strike="noStrike">
                <a:solidFill>
                  <a:srgbClr val="a50021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если она диагональная и все элементы главной диагонали равны еди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О п р е д е л е н и е  9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ица, полученная из квадратной матрицы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заменой всех строк соответствующими (по номеру) столбцами, называется </a:t>
            </a:r>
            <a:r>
              <a:rPr b="0" i="1" lang="ru-RU" sz="2400" spc="-1" strike="noStrike" u="sng">
                <a:solidFill>
                  <a:srgbClr val="097791"/>
                </a:solidFill>
                <a:uFillTx/>
                <a:latin typeface="Arial"/>
              </a:rPr>
              <a:t>транспонирован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 матрице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и обозначается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97791"/>
                </a:solidFill>
                <a:latin typeface="Arial"/>
              </a:rPr>
              <a:t>А</a:t>
            </a:r>
            <a:r>
              <a:rPr b="0" i="1" lang="en-US" sz="2400" spc="-1" strike="noStrike" baseline="30000">
                <a:solidFill>
                  <a:srgbClr val="097791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6:16:47Z</dcterms:created>
  <dc:creator>к.502</dc:creator>
  <dc:description/>
  <dc:language>en-US</dc:language>
  <cp:lastModifiedBy>квм</cp:lastModifiedBy>
  <dcterms:modified xsi:type="dcterms:W3CDTF">2014-09-30T10:05:38Z</dcterms:modified>
  <cp:revision>17</cp:revision>
  <dc:subject/>
  <dc:title>М А Т Р И Ц Ы</dc:title>
</cp:coreProperties>
</file>