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A0E7-5EF8-47FD-BDCE-F5DBEC333E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D448-00E9-433C-B830-B698AE7AF7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E61-90FF-4E07-888A-F927EE9E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E96-681C-463C-A610-ACA3504C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587-7BAB-4EE2-A0A8-7B57DE83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6730-2E01-45EF-9E27-A00A9741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013-B755-4D6D-94D0-4CA14346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A534-24BC-413F-8897-6A1FC2EF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1FBE-D7EF-432D-891D-CCBA974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05B9-B320-406B-ACDE-12A9C59A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A190-F5BC-41FA-9F60-A92CBE92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1BBC-40D2-4CBA-B1BF-F3E39B43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7077-56EE-4DBE-ADDD-3E7C1FD5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167-B3B6-467C-A7E1-1ADECA3F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D3E9-2D74-44CF-B171-AE4F6386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E04A-5355-463C-921C-18283E22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461F-D42B-4394-B3EC-FAA18D8A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AF13-1E90-41CD-924A-C1FC0146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F2F8-F29F-4040-8DBF-DEAD69A3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7831-1AF5-4555-AEAD-AF524B64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224-9F25-4CD8-BC78-ABE427FD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DBE-FF5D-467E-A5E4-397003E9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8067-9289-46E4-8A1E-02E967B4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030-A273-4DE0-99D1-D1DB39C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93B-7F5C-4AA0-B9F2-E3D7B1C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003-1C26-45D0-9947-57595615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421B-4CAD-4DCA-99E7-5578C01805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BE0-E3D1-4A8F-BD0D-AE6FB451EC7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920" y="1387440"/>
            <a:ext cx="807696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БСТВЕННЫЕ  ЗНАЧЕ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ЗНАЧЕ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ОБСТВЕННЫЕ  ВЕК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ТР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428760" y="1357200"/>
          <a:ext cx="6006960" cy="11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357200"/>
                    <a:ext cx="60069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2"/>
          <p:cNvGraphicFramePr/>
          <p:nvPr/>
        </p:nvGraphicFramePr>
        <p:xfrm>
          <a:off x="318960" y="2577960"/>
          <a:ext cx="803916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960" y="2577960"/>
                    <a:ext cx="803916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3"/>
          <p:cNvGraphicFramePr/>
          <p:nvPr/>
        </p:nvGraphicFramePr>
        <p:xfrm>
          <a:off x="357120" y="3786120"/>
          <a:ext cx="4154400" cy="113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120" y="3786120"/>
                    <a:ext cx="41544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Box 9"/>
          <p:cNvSpPr/>
          <p:nvPr/>
        </p:nvSpPr>
        <p:spPr>
          <a:xfrm>
            <a:off x="4932720" y="3714840"/>
            <a:ext cx="15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9"/>
          <p:cNvGraphicFramePr/>
          <p:nvPr/>
        </p:nvGraphicFramePr>
        <p:xfrm>
          <a:off x="6772320" y="3857760"/>
          <a:ext cx="1060560" cy="5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72320" y="3857760"/>
                    <a:ext cx="1060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5"/>
          <p:cNvGraphicFramePr/>
          <p:nvPr/>
        </p:nvGraphicFramePr>
        <p:xfrm>
          <a:off x="4572000" y="4929120"/>
          <a:ext cx="3651120" cy="113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29120"/>
                    <a:ext cx="365112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1"/>
          <p:cNvGraphicFramePr/>
          <p:nvPr/>
        </p:nvGraphicFramePr>
        <p:xfrm>
          <a:off x="558720" y="1428840"/>
          <a:ext cx="28861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428840"/>
                    <a:ext cx="28861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6"/>
          <p:cNvSpPr/>
          <p:nvPr/>
        </p:nvSpPr>
        <p:spPr>
          <a:xfrm>
            <a:off x="3848400" y="1214280"/>
            <a:ext cx="485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является собственным век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с    собстве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м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Объект 18"/>
              <p:cNvSpPr txBox="1"/>
              <p:nvPr/>
            </p:nvSpPr>
            <p:spPr>
              <a:xfrm>
                <a:off x="5286240" y="18572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Object 3"/>
          <p:cNvGraphicFramePr/>
          <p:nvPr/>
        </p:nvGraphicFramePr>
        <p:xfrm>
          <a:off x="5737320" y="2357280"/>
          <a:ext cx="126180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37320" y="2357280"/>
                    <a:ext cx="12618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Box 9"/>
          <p:cNvSpPr/>
          <p:nvPr/>
        </p:nvSpPr>
        <p:spPr>
          <a:xfrm>
            <a:off x="428760" y="3214800"/>
            <a:ext cx="588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Аналогично для собственного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лучим след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6572160" y="3214800"/>
          <a:ext cx="1133640" cy="56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3214800"/>
                    <a:ext cx="11336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5"/>
          <p:cNvGraphicFramePr/>
          <p:nvPr/>
        </p:nvGraphicFramePr>
        <p:xfrm>
          <a:off x="3929040" y="3857760"/>
          <a:ext cx="2616120" cy="14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9040" y="3857760"/>
                    <a:ext cx="261612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448200" y="1357200"/>
            <a:ext cx="815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оизведение собственных значений матрицы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но ее определител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отличных от нуля собственных знач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равно ее ран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 собственные значения матрицы отличны от ну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лько и только тогда, когда  матрица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вырожде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1"/>
          <p:cNvGraphicFramePr/>
          <p:nvPr/>
        </p:nvGraphicFramePr>
        <p:xfrm>
          <a:off x="4429080" y="2000160"/>
          <a:ext cx="402264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9080" y="2000160"/>
                    <a:ext cx="402264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Объект 18"/>
              <p:cNvSpPr txBox="1"/>
              <p:nvPr/>
            </p:nvSpPr>
            <p:spPr>
              <a:xfrm>
                <a:off x="7643880" y="142884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3"/>
              <p:cNvSpPr txBox="1"/>
              <p:nvPr/>
            </p:nvSpPr>
            <p:spPr>
              <a:xfrm>
                <a:off x="2143080" y="3643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6143760" y="478620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ойства собственных значений матр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42440" y="1428840"/>
            <a:ext cx="8186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невырожд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, то                      собственное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  собственное значение матрицы        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е значение  матрицы      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1f1f99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туральное числ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f1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Объект 18"/>
              <p:cNvSpPr txBox="1"/>
              <p:nvPr/>
            </p:nvSpPr>
            <p:spPr>
              <a:xfrm>
                <a:off x="2286000" y="2077920"/>
                <a:ext cx="371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6" name="Object 4"/>
          <p:cNvGraphicFramePr/>
          <p:nvPr/>
        </p:nvGraphicFramePr>
        <p:xfrm>
          <a:off x="1503360" y="1500120"/>
          <a:ext cx="117792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3360" y="1500120"/>
                    <a:ext cx="117792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3483000" y="1785960"/>
          <a:ext cx="151776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83000" y="1785960"/>
                    <a:ext cx="1517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2643120" y="2571840"/>
          <a:ext cx="588960" cy="48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3120" y="2571840"/>
                    <a:ext cx="58896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1571760" y="3187800"/>
          <a:ext cx="1177920" cy="45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71760" y="3187800"/>
                    <a:ext cx="11779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7429680" y="3214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35" name="Object 10"/>
          <p:cNvGraphicFramePr/>
          <p:nvPr/>
        </p:nvGraphicFramePr>
        <p:xfrm>
          <a:off x="836640" y="3714840"/>
          <a:ext cx="806400" cy="519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6640" y="3714840"/>
                    <a:ext cx="8064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11"/>
          <p:cNvGraphicFramePr/>
          <p:nvPr/>
        </p:nvGraphicFramePr>
        <p:xfrm>
          <a:off x="6429240" y="3714840"/>
          <a:ext cx="527040" cy="487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8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29240" y="3714840"/>
                    <a:ext cx="52704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6"/>
              <p:cNvSpPr txBox="1"/>
              <p:nvPr/>
            </p:nvSpPr>
            <p:spPr>
              <a:xfrm>
                <a:off x="571680" y="1785960"/>
                <a:ext cx="409572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3" name="Object 22"/>
          <p:cNvGraphicFramePr/>
          <p:nvPr/>
        </p:nvGraphicFramePr>
        <p:xfrm>
          <a:off x="6643800" y="2357280"/>
          <a:ext cx="36504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2357280"/>
                    <a:ext cx="3650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21"/>
          <p:cNvGraphicFramePr/>
          <p:nvPr/>
        </p:nvGraphicFramePr>
        <p:xfrm>
          <a:off x="6572160" y="2857680"/>
          <a:ext cx="347760" cy="5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6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72160" y="2857680"/>
                    <a:ext cx="3477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20"/>
          <p:cNvGraphicFramePr/>
          <p:nvPr/>
        </p:nvGraphicFramePr>
        <p:xfrm>
          <a:off x="7143840" y="2928960"/>
          <a:ext cx="124308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3840" y="2928960"/>
                    <a:ext cx="12430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9"/>
          <p:cNvGraphicFramePr/>
          <p:nvPr/>
        </p:nvGraphicFramePr>
        <p:xfrm>
          <a:off x="5429160" y="3429000"/>
          <a:ext cx="365040" cy="493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0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29160" y="3429000"/>
                    <a:ext cx="3650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8"/>
          <p:cNvGraphicFramePr/>
          <p:nvPr/>
        </p:nvGraphicFramePr>
        <p:xfrm>
          <a:off x="1857240" y="3929040"/>
          <a:ext cx="85896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2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929040"/>
                    <a:ext cx="8589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25"/>
          <p:cNvSpPr/>
          <p:nvPr/>
        </p:nvSpPr>
        <p:spPr>
          <a:xfrm>
            <a:off x="4429080" y="772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357120" y="1143000"/>
            <a:ext cx="821556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из характеристического   уравнен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но собственное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поиск соответствующих   числу        собственных векторов              матрицы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водится к  решению линейной системы                                   с постоянной квадратной матрицей                       поряд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29"/>
          <p:cNvGraphicFramePr/>
          <p:nvPr/>
        </p:nvGraphicFramePr>
        <p:xfrm>
          <a:off x="3571920" y="4500720"/>
          <a:ext cx="2211480" cy="510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7" name="Object 2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71920" y="4500720"/>
                    <a:ext cx="2211480" cy="51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32"/>
          <p:cNvGraphicFramePr/>
          <p:nvPr/>
        </p:nvGraphicFramePr>
        <p:xfrm>
          <a:off x="3929040" y="5072040"/>
          <a:ext cx="120636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9" name="Object 3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9040" y="5072040"/>
                    <a:ext cx="120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1"/>
          <p:cNvGraphicFramePr/>
          <p:nvPr/>
        </p:nvGraphicFramePr>
        <p:xfrm>
          <a:off x="6786720" y="5072040"/>
          <a:ext cx="529920" cy="530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1" name="Object 3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786720" y="5072040"/>
                    <a:ext cx="5299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35"/>
          <p:cNvSpPr/>
          <p:nvPr/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нейная зависимость векто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56760" y="1599840"/>
            <a:ext cx="8177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.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                      линейного векторного пространства          называются </a:t>
            </a:r>
            <a:r>
              <a:rPr b="0" i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линейно зависимыми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если существуют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,  не все равные нулю, такие, что справедливо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                      (1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ы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                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линейного векторного пространства  называются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но независимыми,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если выполнение равенства (1) возможно только при услов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1"/>
          <p:cNvGraphicFramePr/>
          <p:nvPr/>
        </p:nvGraphicFramePr>
        <p:xfrm>
          <a:off x="4857840" y="1571760"/>
          <a:ext cx="1306440" cy="41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7840" y="1571760"/>
                    <a:ext cx="13064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3"/>
          <p:cNvSpPr/>
          <p:nvPr/>
        </p:nvSpPr>
        <p:spPr>
          <a:xfrm>
            <a:off x="4449600" y="10584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4643280" y="1928880"/>
          <a:ext cx="384480" cy="45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28880"/>
                    <a:ext cx="38448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6"/>
          <p:cNvGraphicFramePr/>
          <p:nvPr/>
        </p:nvGraphicFramePr>
        <p:xfrm>
          <a:off x="1143000" y="2714760"/>
          <a:ext cx="14907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2714760"/>
                    <a:ext cx="14907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8"/>
          <p:cNvGraphicFramePr/>
          <p:nvPr/>
        </p:nvGraphicFramePr>
        <p:xfrm>
          <a:off x="1214280" y="3571920"/>
          <a:ext cx="366552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4280" y="3571920"/>
                    <a:ext cx="36655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0"/>
          <p:cNvGraphicFramePr/>
          <p:nvPr/>
        </p:nvGraphicFramePr>
        <p:xfrm>
          <a:off x="5357880" y="5286240"/>
          <a:ext cx="2952720" cy="503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57880" y="5286240"/>
                    <a:ext cx="29527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3"/>
          <p:cNvGraphicFramePr/>
          <p:nvPr/>
        </p:nvGraphicFramePr>
        <p:xfrm>
          <a:off x="4643280" y="4000680"/>
          <a:ext cx="1306800" cy="412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2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4000680"/>
                    <a:ext cx="130680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5"/>
          <p:cNvSpPr/>
          <p:nvPr/>
        </p:nvSpPr>
        <p:spPr>
          <a:xfrm>
            <a:off x="388800" y="1450800"/>
            <a:ext cx="828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сегда имеет бесконечное множество решен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 котором число базисных  (то есть максимальное 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инейно независимых)  решений равно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    ранг матрицы  ,  то есть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отрицательное число,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1"/>
          <p:cNvGraphicFramePr/>
          <p:nvPr/>
        </p:nvGraphicFramePr>
        <p:xfrm>
          <a:off x="2071800" y="1428840"/>
          <a:ext cx="2614680" cy="6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428840"/>
                    <a:ext cx="26146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2"/>
          <p:cNvGraphicFramePr/>
          <p:nvPr/>
        </p:nvGraphicFramePr>
        <p:xfrm>
          <a:off x="6357960" y="3071880"/>
          <a:ext cx="109692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7960" y="3071880"/>
                    <a:ext cx="1096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214280" y="3643200"/>
          <a:ext cx="712800" cy="5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4280" y="3643200"/>
                    <a:ext cx="71280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Object 6"/>
          <p:cNvGraphicFramePr/>
          <p:nvPr/>
        </p:nvGraphicFramePr>
        <p:xfrm>
          <a:off x="4286160" y="4214880"/>
          <a:ext cx="2138400" cy="585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86160" y="4214880"/>
                    <a:ext cx="2138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Object 17"/>
          <p:cNvGraphicFramePr/>
          <p:nvPr/>
        </p:nvGraphicFramePr>
        <p:xfrm>
          <a:off x="7572240" y="3643200"/>
          <a:ext cx="365400" cy="4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3643200"/>
                    <a:ext cx="3654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16"/>
          <p:cNvGraphicFramePr/>
          <p:nvPr/>
        </p:nvGraphicFramePr>
        <p:xfrm>
          <a:off x="2357280" y="4143240"/>
          <a:ext cx="586080" cy="58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4143240"/>
                    <a:ext cx="586080" cy="5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15"/>
          <p:cNvGraphicFramePr/>
          <p:nvPr/>
        </p:nvGraphicFramePr>
        <p:xfrm>
          <a:off x="6572160" y="4143240"/>
          <a:ext cx="530280" cy="58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72160" y="4143240"/>
                    <a:ext cx="53028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Rectangle 21"/>
          <p:cNvSpPr/>
          <p:nvPr/>
        </p:nvSpPr>
        <p:spPr>
          <a:xfrm>
            <a:off x="0" y="1114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Box 27"/>
          <p:cNvSpPr/>
          <p:nvPr/>
        </p:nvSpPr>
        <p:spPr>
          <a:xfrm>
            <a:off x="428760" y="128592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этому  любому собственному значению квадра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соответствует хотя бы один линей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зависимый собственный в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олее того, число линейно независимых собственных векторов,   отвечающих собственному значению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и              не превосходит числ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428760" y="1357200"/>
            <a:ext cx="81439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простое собственное значение матрицы   </a:t>
            </a:r>
            <a:r>
              <a:rPr b="0" lang="en-US" sz="2400" spc="-1" strike="noStrike">
                <a:solidFill>
                  <a:srgbClr val="1f1f99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, тогда  этому   числу  отвечает  ровно  один линейно независимый собственный векто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оторый находим из системы                         , например, с помощью метода Гау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1"/>
          <p:cNvGraphicFramePr/>
          <p:nvPr/>
        </p:nvGraphicFramePr>
        <p:xfrm>
          <a:off x="1928880" y="1428840"/>
          <a:ext cx="7365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428840"/>
                    <a:ext cx="736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857160" y="3000240"/>
          <a:ext cx="117972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000240"/>
                    <a:ext cx="117972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4"/>
          <p:cNvGraphicFramePr/>
          <p:nvPr/>
        </p:nvGraphicFramePr>
        <p:xfrm>
          <a:off x="6286680" y="3071880"/>
          <a:ext cx="2211120" cy="51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86680" y="3071880"/>
                    <a:ext cx="221112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-34200" y="1571760"/>
            <a:ext cx="920124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1f1f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лучай, когда характеристическое урав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мплексный корень               кратност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ак как данное алгебраическое уравнение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ействительными коэффициентами, то оно обяза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меет корень           комплексно–сопряженный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шению  к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1357200" y="2500200"/>
                <a:ext cx="5929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25" name="Object 2"/>
          <p:cNvGraphicFramePr/>
          <p:nvPr/>
        </p:nvGraphicFramePr>
        <p:xfrm>
          <a:off x="4714920" y="3214800"/>
          <a:ext cx="4017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4920" y="3214800"/>
                    <a:ext cx="4017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3"/>
          <p:cNvGraphicFramePr/>
          <p:nvPr/>
        </p:nvGraphicFramePr>
        <p:xfrm>
          <a:off x="7273800" y="3294000"/>
          <a:ext cx="94140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3800" y="3294000"/>
                    <a:ext cx="94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5"/>
          <p:cNvGraphicFramePr/>
          <p:nvPr/>
        </p:nvGraphicFramePr>
        <p:xfrm>
          <a:off x="2786040" y="4929120"/>
          <a:ext cx="46836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86040" y="49291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1"/>
          <p:cNvGraphicFramePr/>
          <p:nvPr/>
        </p:nvGraphicFramePr>
        <p:xfrm>
          <a:off x="2571840" y="5429160"/>
          <a:ext cx="40140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71840" y="542916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ссмотрим  квадратную матрицу  порядка         с постоянными действительными элем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Число         называется собственным значением, а ненулевой вектор      называется соответствующим собственным вектором матрицы         если выполняется равен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Объект 5"/>
              <p:cNvSpPr txBox="1"/>
              <p:nvPr/>
            </p:nvSpPr>
            <p:spPr>
              <a:xfrm>
                <a:off x="3181320" y="2492280"/>
                <a:ext cx="21207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Объект 7"/>
              <p:cNvSpPr txBox="1"/>
              <p:nvPr/>
            </p:nvSpPr>
            <p:spPr>
              <a:xfrm>
                <a:off x="7740720" y="1557360"/>
                <a:ext cx="280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Объект 8"/>
              <p:cNvSpPr txBox="1"/>
              <p:nvPr/>
            </p:nvSpPr>
            <p:spPr>
              <a:xfrm>
                <a:off x="6804000" y="1989000"/>
                <a:ext cx="393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Объект 16"/>
              <p:cNvSpPr txBox="1"/>
              <p:nvPr/>
            </p:nvSpPr>
            <p:spPr>
              <a:xfrm>
                <a:off x="3708360" y="38606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Объект 17"/>
              <p:cNvSpPr txBox="1"/>
              <p:nvPr/>
            </p:nvSpPr>
            <p:spPr>
              <a:xfrm>
                <a:off x="4932360" y="436572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8"/>
              <p:cNvSpPr txBox="1"/>
              <p:nvPr/>
            </p:nvSpPr>
            <p:spPr>
              <a:xfrm>
                <a:off x="8028000" y="4941720"/>
                <a:ext cx="3380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Объект 20"/>
              <p:cNvSpPr txBox="1"/>
              <p:nvPr/>
            </p:nvSpPr>
            <p:spPr>
              <a:xfrm>
                <a:off x="4954680" y="5516640"/>
                <a:ext cx="2570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428760" y="1428840"/>
            <a:ext cx="824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Кратность корня          равна  числу                  Поэтому следует найти собственные векторы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е собственному значению 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алее нужно  построить к ним комплексно-сопряж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, которые являются собств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ми, соответствующими собственн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1"/>
          <p:cNvGraphicFramePr/>
          <p:nvPr/>
        </p:nvGraphicFramePr>
        <p:xfrm>
          <a:off x="3059280" y="1428840"/>
          <a:ext cx="46800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1428840"/>
                    <a:ext cx="4680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5796000" y="1463760"/>
          <a:ext cx="4269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1463760"/>
                    <a:ext cx="4269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786720" y="2500200"/>
          <a:ext cx="401400" cy="6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86720" y="250020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2143080" y="4714920"/>
          <a:ext cx="468360" cy="60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4714920"/>
                    <a:ext cx="4683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395280" y="1628640"/>
            <a:ext cx="8209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у матрицы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есть кратное собстве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е        кратности         Тогда, решая сист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будет найдено         линейно независимых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ов,  отвечающих числу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ичем число           удовлетворяет двойному неравенств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Объект 2"/>
          <p:cNvGraphicFramePr/>
          <p:nvPr/>
        </p:nvGraphicFramePr>
        <p:xfrm>
          <a:off x="2050920" y="2205000"/>
          <a:ext cx="333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05000"/>
                    <a:ext cx="333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Объект 5"/>
              <p:cNvSpPr txBox="1"/>
              <p:nvPr/>
            </p:nvSpPr>
            <p:spPr>
              <a:xfrm>
                <a:off x="4140360" y="2276640"/>
                <a:ext cx="704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Объект 7"/>
              <p:cNvSpPr txBox="1"/>
              <p:nvPr/>
            </p:nvSpPr>
            <p:spPr>
              <a:xfrm>
                <a:off x="2627280" y="2852640"/>
                <a:ext cx="5796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Объект 9"/>
              <p:cNvSpPr txBox="1"/>
              <p:nvPr/>
            </p:nvSpPr>
            <p:spPr>
              <a:xfrm>
                <a:off x="5003640" y="3357720"/>
                <a:ext cx="3970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Объект 11"/>
              <p:cNvSpPr txBox="1"/>
              <p:nvPr/>
            </p:nvSpPr>
            <p:spPr>
              <a:xfrm>
                <a:off x="2556000" y="4581360"/>
                <a:ext cx="1455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Объект 13"/>
              <p:cNvSpPr txBox="1"/>
              <p:nvPr/>
            </p:nvSpPr>
            <p:spPr>
              <a:xfrm>
                <a:off x="1258920" y="5084640"/>
                <a:ext cx="1644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Объект 14"/>
              <p:cNvSpPr txBox="1"/>
              <p:nvPr/>
            </p:nvSpPr>
            <p:spPr>
              <a:xfrm>
                <a:off x="2700360" y="4005360"/>
                <a:ext cx="579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17680" y="228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ВЕКТОРЫ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24"/>
          <p:cNvSpPr/>
          <p:nvPr/>
        </p:nvSpPr>
        <p:spPr>
          <a:xfrm>
            <a:off x="90000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3552"/>
          <p:cNvSpPr/>
          <p:nvPr/>
        </p:nvSpPr>
        <p:spPr>
          <a:xfrm>
            <a:off x="468360" y="1413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.  Если оказывается, что                то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ого значения         будет найдено столько линейно независимых собственных векторов, какова кратность рассматриваемого собственного значения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Объект 23571"/>
              <p:cNvSpPr txBox="1"/>
              <p:nvPr/>
            </p:nvSpPr>
            <p:spPr>
              <a:xfrm>
                <a:off x="5691240" y="1592280"/>
                <a:ext cx="12571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70" name="Объект 23572"/>
          <p:cNvGraphicFramePr/>
          <p:nvPr/>
        </p:nvGraphicFramePr>
        <p:xfrm>
          <a:off x="3924360" y="1978200"/>
          <a:ext cx="40140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Объект 235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978200"/>
                    <a:ext cx="40140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Объект 23573"/>
          <p:cNvGraphicFramePr/>
          <p:nvPr/>
        </p:nvGraphicFramePr>
        <p:xfrm>
          <a:off x="8101080" y="3068640"/>
          <a:ext cx="4014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Объект 2357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3068640"/>
                    <a:ext cx="40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1"/>
          <p:cNvSpPr/>
          <p:nvPr/>
        </p:nvSpPr>
        <p:spPr>
          <a:xfrm>
            <a:off x="395280" y="1413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ти собственные значения и собственные векторы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Объект 3"/>
              <p:cNvSpPr txBox="1"/>
              <p:nvPr/>
            </p:nvSpPr>
            <p:spPr>
              <a:xfrm>
                <a:off x="3132000" y="2492280"/>
                <a:ext cx="15861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TextBox 4"/>
          <p:cNvSpPr/>
          <p:nvPr/>
        </p:nvSpPr>
        <p:spPr>
          <a:xfrm>
            <a:off x="58428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584280" y="3645000"/>
            <a:ext cx="7875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Найдем собственные значения матр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11"/>
              <p:cNvSpPr txBox="1"/>
              <p:nvPr/>
            </p:nvSpPr>
            <p:spPr>
              <a:xfrm>
                <a:off x="785880" y="4292640"/>
                <a:ext cx="7170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Объект 5"/>
              <p:cNvSpPr txBox="1"/>
              <p:nvPr/>
            </p:nvSpPr>
            <p:spPr>
              <a:xfrm>
                <a:off x="3513240" y="5229360"/>
                <a:ext cx="18288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Объект 2"/>
              <p:cNvSpPr txBox="1"/>
              <p:nvPr/>
            </p:nvSpPr>
            <p:spPr>
              <a:xfrm>
                <a:off x="1096920" y="1457280"/>
                <a:ext cx="75744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TextBox 6"/>
          <p:cNvSpPr/>
          <p:nvPr/>
        </p:nvSpPr>
        <p:spPr>
          <a:xfrm>
            <a:off x="698760" y="1413000"/>
            <a:ext cx="49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ственное значение кра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Объект 10"/>
              <p:cNvSpPr txBox="1"/>
              <p:nvPr/>
            </p:nvSpPr>
            <p:spPr>
              <a:xfrm>
                <a:off x="5718240" y="1413000"/>
                <a:ext cx="6620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2" name="TextBox 11"/>
          <p:cNvSpPr/>
          <p:nvPr/>
        </p:nvSpPr>
        <p:spPr>
          <a:xfrm>
            <a:off x="1476360" y="1844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Объект 14"/>
          <p:cNvGraphicFramePr/>
          <p:nvPr/>
        </p:nvGraphicFramePr>
        <p:xfrm>
          <a:off x="684360" y="1916280"/>
          <a:ext cx="6087960" cy="115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Объект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60879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5" name="Объект 16"/>
              <p:cNvSpPr txBox="1"/>
              <p:nvPr/>
            </p:nvSpPr>
            <p:spPr>
              <a:xfrm>
                <a:off x="684360" y="3284640"/>
                <a:ext cx="311940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Объект 18"/>
              <p:cNvSpPr txBox="1"/>
              <p:nvPr/>
            </p:nvSpPr>
            <p:spPr>
              <a:xfrm>
                <a:off x="4518000" y="3429000"/>
                <a:ext cx="3565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1</m:t>
                                    </m:r>
                                  </m:e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  <m:r>
                                <m:t xml:space="preserve"> </m:t>
                              </m:r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  <m:mr>
                                  <m:e>
                                    <m:r>
                                      <m:t xml:space="preserve">0</m:t>
                                    </m:r>
                                  </m:e>
                                </m:mr>
                              </m:m>
                            </m:e>
                          </m:d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98" name="Прямая соединительная линия 20"/>
          <p:cNvSpPr/>
          <p:nvPr/>
        </p:nvSpPr>
        <p:spPr>
          <a:xfrm>
            <a:off x="537048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Соединительная линия уступом 22"/>
          <p:cNvCxnSpPr/>
          <p:nvPr/>
        </p:nvCxnSpPr>
        <p:spPr>
          <a:xfrm flipV="1" rot="10800000">
            <a:off x="5764320" y="3790440"/>
            <a:ext cx="536760" cy="215280"/>
          </a:xfrm>
          <a:prstGeom prst="bentConnector3">
            <a:avLst>
              <a:gd name="adj1" fmla="val 50000"/>
            </a:avLst>
          </a:prstGeom>
          <a:ln w="3492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400" name="Прямая соединительная линия 37"/>
          <p:cNvSpPr/>
          <p:nvPr/>
        </p:nvSpPr>
        <p:spPr>
          <a:xfrm>
            <a:off x="7667640" y="3429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38"/>
          <p:cNvSpPr/>
          <p:nvPr/>
        </p:nvSpPr>
        <p:spPr>
          <a:xfrm flipH="1">
            <a:off x="6804000" y="3789360"/>
            <a:ext cx="1152720" cy="144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16"/>
          <p:cNvSpPr/>
          <p:nvPr/>
        </p:nvSpPr>
        <p:spPr>
          <a:xfrm>
            <a:off x="9936000" y="6858000"/>
            <a:ext cx="0" cy="792000"/>
          </a:xfrm>
          <a:prstGeom prst="line">
            <a:avLst/>
          </a:prstGeom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Объект 1"/>
              <p:cNvSpPr txBox="1"/>
              <p:nvPr/>
            </p:nvSpPr>
            <p:spPr>
              <a:xfrm>
                <a:off x="860400" y="4653000"/>
                <a:ext cx="1427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19"/>
              <p:cNvSpPr txBox="1"/>
              <p:nvPr/>
            </p:nvSpPr>
            <p:spPr>
              <a:xfrm>
                <a:off x="2700360" y="4797360"/>
                <a:ext cx="330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Объект 3"/>
              <p:cNvSpPr txBox="1"/>
              <p:nvPr/>
            </p:nvSpPr>
            <p:spPr>
              <a:xfrm>
                <a:off x="3529080" y="4444920"/>
                <a:ext cx="1012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Объект 5"/>
              <p:cNvSpPr txBox="1"/>
              <p:nvPr/>
            </p:nvSpPr>
            <p:spPr>
              <a:xfrm>
                <a:off x="2465280" y="5413320"/>
                <a:ext cx="8496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Rectangle 25"/>
          <p:cNvSpPr/>
          <p:nvPr/>
        </p:nvSpPr>
        <p:spPr>
          <a:xfrm>
            <a:off x="4951080" y="5155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4968720" y="97272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1407600" y="5516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66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3516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жество всех собственных значений матрицы  называется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спектром матр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редставим равенство (1) в сл. ви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диничная матрица порядка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авенство (2) является системой линейных алгебраических уравнений относительно вектора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4405320" y="3141720"/>
                <a:ext cx="3092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λE</m:t>
                    </m:r>
                    <m:r>
                      <m:t xml:space="preserve">)</m:t>
                    </m:r>
                    <m:r>
                      <m:t xml:space="preserve">⋅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71640" y="3141720"/>
                <a:ext cx="2268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h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7"/>
              <p:cNvSpPr txBox="1"/>
              <p:nvPr/>
            </p:nvSpPr>
            <p:spPr>
              <a:xfrm>
                <a:off x="971640" y="3860640"/>
                <a:ext cx="55404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Объект 7"/>
              <p:cNvSpPr txBox="1"/>
              <p:nvPr/>
            </p:nvSpPr>
            <p:spPr>
              <a:xfrm>
                <a:off x="5796000" y="3897360"/>
                <a:ext cx="2808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17"/>
              <p:cNvSpPr txBox="1"/>
              <p:nvPr/>
            </p:nvSpPr>
            <p:spPr>
              <a:xfrm>
                <a:off x="5580000" y="4869000"/>
                <a:ext cx="3096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h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вида (2) всегда совместна, так как всегда имеет нулевое 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имеет тривиальное (нулевое             ) решение, если определитель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истема (2)  имеет ненулевые решения               ,  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7"/>
              <p:cNvSpPr txBox="1"/>
              <p:nvPr/>
            </p:nvSpPr>
            <p:spPr>
              <a:xfrm>
                <a:off x="6653160" y="270828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6300720" y="3213000"/>
                <a:ext cx="1795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6588000" y="3860640"/>
                <a:ext cx="727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h</m:t>
                        </m:r>
                      </m:e>
                    </m:bar>
                    <m:r>
                      <m:t xml:space="preserve">≠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0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916360" y="4581360"/>
                <a:ext cx="29145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λE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2556000" y="4437000"/>
                <a:ext cx="4329000" cy="16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r>
                                <m:t xml:space="preserve">λ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 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TextBox 9"/>
          <p:cNvSpPr/>
          <p:nvPr/>
        </p:nvSpPr>
        <p:spPr>
          <a:xfrm>
            <a:off x="447840" y="1557360"/>
            <a:ext cx="81565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называется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уравнением матрицы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Решения уравнения (3) называются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собственными значениями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равнение (3) можно представить в сл. ви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Объект 18"/>
              <p:cNvSpPr txBox="1"/>
              <p:nvPr/>
            </p:nvSpPr>
            <p:spPr>
              <a:xfrm>
                <a:off x="4140360" y="22050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9"/>
              <p:cNvSpPr txBox="1"/>
              <p:nvPr/>
            </p:nvSpPr>
            <p:spPr>
              <a:xfrm>
                <a:off x="3780000" y="3357720"/>
                <a:ext cx="338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ычислив определитель,   разложив его по элементам первой строки, и сгруппировав подобные члены,  получим алгебраическое уравнение степе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тносительно     , а               где постоянные действительные 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ногочлен       ой степени  относительно        назы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характеристическим многочлено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значения 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1665360" y="3141720"/>
                <a:ext cx="5929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Объект 7"/>
              <p:cNvSpPr txBox="1"/>
              <p:nvPr/>
            </p:nvSpPr>
            <p:spPr>
              <a:xfrm>
                <a:off x="6948360" y="2708280"/>
                <a:ext cx="281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Объект 16"/>
              <p:cNvSpPr txBox="1"/>
              <p:nvPr/>
            </p:nvSpPr>
            <p:spPr>
              <a:xfrm>
                <a:off x="2556000" y="393372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3995640" y="3933720"/>
                <a:ext cx="168444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4071960" y="4429080"/>
                <a:ext cx="18208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" name="Object 12"/>
          <p:cNvGraphicFramePr/>
          <p:nvPr/>
        </p:nvGraphicFramePr>
        <p:xfrm>
          <a:off x="2000160" y="5143680"/>
          <a:ext cx="533520" cy="32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514368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6" name="Object 13"/>
              <p:cNvSpPr txBox="1"/>
              <p:nvPr/>
            </p:nvSpPr>
            <p:spPr>
              <a:xfrm>
                <a:off x="6357960" y="5072040"/>
                <a:ext cx="3096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" name="Объект 18"/>
          <p:cNvGraphicFramePr/>
          <p:nvPr/>
        </p:nvGraphicFramePr>
        <p:xfrm>
          <a:off x="7424640" y="5643720"/>
          <a:ext cx="4334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4640" y="5643720"/>
                    <a:ext cx="4334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28760" y="1600200"/>
            <a:ext cx="82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гласно основной теореме алгебры характеристическое уравнение всегда имеет ровно корней       (с учетом их кратности),  которые в общем случае являются комплексными числ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Любая постоянная квадратная матр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           имеет с учетом кратности ро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бственных значений, совпадающих с корн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Объект 7"/>
              <p:cNvSpPr txBox="1"/>
              <p:nvPr/>
            </p:nvSpPr>
            <p:spPr>
              <a:xfrm>
                <a:off x="1857240" y="285768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5"/>
              <p:cNvSpPr txBox="1"/>
              <p:nvPr/>
            </p:nvSpPr>
            <p:spPr>
              <a:xfrm>
                <a:off x="735804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6"/>
              <p:cNvSpPr txBox="1"/>
              <p:nvPr/>
            </p:nvSpPr>
            <p:spPr>
              <a:xfrm>
                <a:off x="2000160" y="4714920"/>
                <a:ext cx="281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Объект 18"/>
              <p:cNvSpPr txBox="1"/>
              <p:nvPr/>
            </p:nvSpPr>
            <p:spPr>
              <a:xfrm>
                <a:off x="7858080" y="4000680"/>
                <a:ext cx="371520" cy="42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428760" y="1357200"/>
            <a:ext cx="814392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адача нахождения собств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й матрицы           сводится к ре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характеристического уравнения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Пример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ти собственные значения  и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Объект 18"/>
              <p:cNvSpPr txBox="1"/>
              <p:nvPr/>
            </p:nvSpPr>
            <p:spPr>
              <a:xfrm>
                <a:off x="3357720" y="2071800"/>
                <a:ext cx="371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1" name="Object 14"/>
          <p:cNvGraphicFramePr/>
          <p:nvPr/>
        </p:nvGraphicFramePr>
        <p:xfrm>
          <a:off x="5286240" y="2643120"/>
          <a:ext cx="5572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2643120"/>
                    <a:ext cx="557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5"/>
          <p:cNvGraphicFramePr/>
          <p:nvPr/>
        </p:nvGraphicFramePr>
        <p:xfrm>
          <a:off x="2071800" y="3714840"/>
          <a:ext cx="1919160" cy="117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3714840"/>
                    <a:ext cx="1919160" cy="11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18"/>
          <p:cNvSpPr/>
          <p:nvPr/>
        </p:nvSpPr>
        <p:spPr>
          <a:xfrm>
            <a:off x="459360" y="5072040"/>
            <a:ext cx="79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Решение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ставляем характеристическ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8"/>
          <p:cNvGraphicFramePr/>
          <p:nvPr/>
        </p:nvGraphicFramePr>
        <p:xfrm>
          <a:off x="500040" y="1428840"/>
          <a:ext cx="472608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428840"/>
                    <a:ext cx="47260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БСТВЕННЫЕ  ЗНАЧЕНИЯ  МАТР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714240" y="3000240"/>
          <a:ext cx="3838680" cy="74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000240"/>
                    <a:ext cx="3838680" cy="7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0"/>
          <p:cNvGraphicFramePr/>
          <p:nvPr/>
        </p:nvGraphicFramePr>
        <p:xfrm>
          <a:off x="5715000" y="2357280"/>
          <a:ext cx="1917720" cy="8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235728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1"/>
          <p:cNvGraphicFramePr/>
          <p:nvPr/>
        </p:nvGraphicFramePr>
        <p:xfrm>
          <a:off x="5786280" y="3500280"/>
          <a:ext cx="1684440" cy="84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6280" y="3500280"/>
                    <a:ext cx="168444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77" name="Прямая со стрелкой 15"/>
          <p:cNvCxnSpPr/>
          <p:nvPr/>
        </p:nvCxnSpPr>
        <p:spPr>
          <a:xfrm flipV="1">
            <a:off x="4571640" y="2928240"/>
            <a:ext cx="1143720" cy="57204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cxnSp>
        <p:nvCxnSpPr>
          <p:cNvPr id="178" name="Прямая со стрелкой 17"/>
          <p:cNvCxnSpPr/>
          <p:nvPr/>
        </p:nvCxnSpPr>
        <p:spPr>
          <a:xfrm>
            <a:off x="4571640" y="3499920"/>
            <a:ext cx="1143720" cy="715320"/>
          </a:xfrm>
          <a:prstGeom prst="straightConnector1">
            <a:avLst/>
          </a:prstGeom>
          <a:ln w="57240">
            <a:solidFill>
              <a:srgbClr val="cc0066"/>
            </a:solidFill>
            <a:miter/>
            <a:tailEnd len="med" type="arrow" w="med"/>
          </a:ln>
        </p:spPr>
      </p:cxnSp>
      <p:sp>
        <p:nvSpPr>
          <p:cNvPr id="179" name="TextBox 21"/>
          <p:cNvSpPr/>
          <p:nvPr/>
        </p:nvSpPr>
        <p:spPr>
          <a:xfrm>
            <a:off x="571680" y="4143240"/>
            <a:ext cx="48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собствен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соответствующий собственн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зна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2"/>
          <p:cNvGraphicFramePr/>
          <p:nvPr/>
        </p:nvGraphicFramePr>
        <p:xfrm>
          <a:off x="5572080" y="4500720"/>
          <a:ext cx="2949480" cy="93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1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72080" y="4500720"/>
                    <a:ext cx="29494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3"/>
          <p:cNvGraphicFramePr/>
          <p:nvPr/>
        </p:nvGraphicFramePr>
        <p:xfrm>
          <a:off x="2428920" y="5286240"/>
          <a:ext cx="1917720" cy="843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28920" y="5286240"/>
                    <a:ext cx="1917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MANYA</cp:lastModifiedBy>
  <dcterms:modified xsi:type="dcterms:W3CDTF">2014-10-16T19:15:06Z</dcterms:modified>
  <cp:revision>66</cp:revision>
  <dc:subject/>
  <dc:title>Определители второго и третьего порядка.</dc:title>
</cp:coreProperties>
</file>