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32.wmf" ContentType="image/x-wmf"/>
  <Override PartName="/ppt/media/image14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42.jpeg" ContentType="image/jpeg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45.png" ContentType="image/png"/>
  <Override PartName="/ppt/media/image34.png" ContentType="image/png"/>
  <Override PartName="/ppt/media/image43.wmf" ContentType="image/x-wmf"/>
  <Override PartName="/ppt/media/image44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.wmf" ContentType="image/x-wmf"/>
  <Override PartName="/ppt/media/image28.png" ContentType="image/png"/>
  <Override PartName="/ppt/media/image31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2A04-A5EE-49E7-80AF-AFCE056B2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359B-0AA5-4820-828A-FD4710BD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E533-5B32-4FF3-9390-E1A9D959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278D-E68A-404C-A458-FC4AED33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36EF-6857-4316-AEED-A8BE440A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33C8-63FD-4ADE-902A-CF8B1DBC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7699-D71C-4812-9CAE-AF119DBA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E8BE-D6C5-4013-929A-702FF67A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0505-2E12-4620-BDE0-6B3C11C1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DDCF-4342-4E0F-A287-EAC16ED2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3ECC-D71E-42B7-BF9E-1264BCE1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6CAA-436F-4A21-8E84-3C5B36A3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5FB5-4DF2-48F3-A50C-32A993F9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9E13-3785-418B-A134-D4D35B6C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7F53-92DA-40D8-9C5A-27E0A20D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BBFB-1DE3-4283-8185-0DBF102A4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89D5-181D-4556-B07B-34408AEE4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1627-7CF1-46F5-8A04-B1108F13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DF5B-9D20-48A6-B1F5-FF3CF325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E3A2-82F7-4730-A3EA-5A78CB15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977D-7F77-466D-9131-38373364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0201-925E-4B83-A4CA-1463A9A4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3ABA-5CBC-4003-8E5A-0A04BA26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4610-8162-4B85-BE61-180EBE12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4D6E-C1BF-4D1B-8F28-66BEF284EDF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6724-F480-4E1B-9ACF-C1D9DC03E32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26.wmf"/><Relationship Id="rId3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.wm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Лекция  2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Определители второго и третьего порядк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214440"/>
            <a:ext cx="66294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1f99"/>
                </a:solidFill>
                <a:latin typeface="Arial"/>
              </a:rPr>
              <a:t>Векторное произведение двух  вект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1f99"/>
                </a:solidFill>
                <a:latin typeface="Arial"/>
              </a:rPr>
              <a:t>Смешанное произведение трех векто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Свойства  определителя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: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делитель не меняется при замене в нем всех строк соответствующим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 номер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столбц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делитель равен нул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если содержит нулевую строку или нулевой столбе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делитель  равен  нул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содержит две  одинаковые строки  или  два  одинаковых  столб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Свойства  определителя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8351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пределитель изменит знак на противоположный, если в  нем поменять местами любые две строки или столбца (то есть применено элементарное преобразование первого тип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пределитель не изменится, если в нем заменить строку суммой этой строки и некоторой другой, вспомогательной, предварительно умноженной на какое-либо число (то есть применено элементарное преобразование второго тип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Если строку (столбец) определителя умножить на некоторое число (то есть применено элементарное преобразование третьего типа), то определитель умножится на это чи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Пример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числить определитель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1334520" y="2750760"/>
            <a:ext cx="647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 е ш е н и 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пособ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(разложение по элементам первой строки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4"/>
          <p:cNvGraphicFramePr/>
          <p:nvPr/>
        </p:nvGraphicFramePr>
        <p:xfrm>
          <a:off x="5148360" y="1484280"/>
          <a:ext cx="143964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484280"/>
                    <a:ext cx="143964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Rectangle 7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Object 6"/>
          <p:cNvGraphicFramePr/>
          <p:nvPr/>
        </p:nvGraphicFramePr>
        <p:xfrm>
          <a:off x="611280" y="3357720"/>
          <a:ext cx="7488000" cy="16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3357720"/>
                    <a:ext cx="748800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Rectangle 9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8"/>
          <p:cNvGraphicFramePr/>
          <p:nvPr/>
        </p:nvGraphicFramePr>
        <p:xfrm>
          <a:off x="684360" y="5013360"/>
          <a:ext cx="7559640" cy="461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5013360"/>
                    <a:ext cx="755964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Rectangle 1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10"/>
          <p:cNvGraphicFramePr/>
          <p:nvPr/>
        </p:nvGraphicFramePr>
        <p:xfrm>
          <a:off x="684360" y="5516640"/>
          <a:ext cx="7559640" cy="46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9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5516640"/>
                    <a:ext cx="75596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Пример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пособ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(присоединение двух дополнительных строк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Object 4"/>
          <p:cNvGraphicFramePr/>
          <p:nvPr/>
        </p:nvGraphicFramePr>
        <p:xfrm>
          <a:off x="684360" y="2492280"/>
          <a:ext cx="799308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492280"/>
                    <a:ext cx="799308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Rectangle 6"/>
          <p:cNvSpPr/>
          <p:nvPr/>
        </p:nvSpPr>
        <p:spPr>
          <a:xfrm>
            <a:off x="0" y="412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611280" y="3860640"/>
            <a:ext cx="0" cy="1008360"/>
          </a:xfrm>
          <a:prstGeom prst="line">
            <a:avLst/>
          </a:prstGeom>
          <a:ln w="12600">
            <a:solidFill>
              <a:srgbClr val="66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8"/>
          <p:cNvSpPr/>
          <p:nvPr/>
        </p:nvSpPr>
        <p:spPr>
          <a:xfrm>
            <a:off x="2411280" y="3860640"/>
            <a:ext cx="0" cy="1008360"/>
          </a:xfrm>
          <a:prstGeom prst="line">
            <a:avLst/>
          </a:prstGeom>
          <a:ln w="12600">
            <a:solidFill>
              <a:srgbClr val="66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Пример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 р и м е р  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Вычислить определ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4"/>
          <p:cNvGraphicFramePr/>
          <p:nvPr/>
        </p:nvGraphicFramePr>
        <p:xfrm>
          <a:off x="3348000" y="2009880"/>
          <a:ext cx="1693800" cy="14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009880"/>
                    <a:ext cx="1693800" cy="14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6"/>
          <p:cNvSpPr/>
          <p:nvPr/>
        </p:nvSpPr>
        <p:spPr>
          <a:xfrm>
            <a:off x="755640" y="356472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 е ш е н и е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пособ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(правило треугольников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7"/>
          <p:cNvGraphicFramePr/>
          <p:nvPr/>
        </p:nvGraphicFramePr>
        <p:xfrm>
          <a:off x="826920" y="3860640"/>
          <a:ext cx="7272360" cy="148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3860640"/>
                    <a:ext cx="727236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Rectangle 10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9"/>
          <p:cNvGraphicFramePr/>
          <p:nvPr/>
        </p:nvGraphicFramePr>
        <p:xfrm>
          <a:off x="1187280" y="5373720"/>
          <a:ext cx="720108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87280" y="5373720"/>
                    <a:ext cx="72010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142560"/>
            <a:ext cx="801540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мпланарные векто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99680" y="142884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пределение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 вектора                    называютс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мпланарным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они лежат на одной плоскости или на параллельных  плоскост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отивном случае   в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ю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компланарными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хотя бы один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векторов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левой, то эти  векто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анар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3"/>
              <p:cNvSpPr txBox="1"/>
              <p:nvPr/>
            </p:nvSpPr>
            <p:spPr>
              <a:xfrm>
                <a:off x="5072040" y="1355760"/>
                <a:ext cx="1000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 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139760" y="3571920"/>
            <a:ext cx="3219480" cy="2255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4" name="Object 7"/>
              <p:cNvSpPr txBox="1"/>
              <p:nvPr/>
            </p:nvSpPr>
            <p:spPr>
              <a:xfrm>
                <a:off x="5429160" y="2571840"/>
                <a:ext cx="1000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 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9"/>
              <p:cNvSpPr txBox="1"/>
              <p:nvPr/>
            </p:nvSpPr>
            <p:spPr>
              <a:xfrm>
                <a:off x="6929280" y="3857760"/>
                <a:ext cx="10004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 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иентация тройки векто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99680" y="164304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152e"/>
                </a:solidFill>
                <a:latin typeface="Arial"/>
              </a:rPr>
              <a:t>Определение. </a:t>
            </a:r>
            <a:r>
              <a:rPr b="0" lang="ru-RU" sz="2300" spc="-1" strike="noStrike">
                <a:solidFill>
                  <a:srgbClr val="00152e"/>
                </a:solidFill>
                <a:latin typeface="Arial"/>
              </a:rPr>
              <a:t> Три некомпланарных вектор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152e"/>
                </a:solidFill>
                <a:latin typeface="Arial"/>
              </a:rPr>
              <a:t>             </a:t>
            </a:r>
            <a:r>
              <a:rPr b="0" lang="ru-RU" sz="2300" spc="-1" strike="noStrike">
                <a:solidFill>
                  <a:srgbClr val="00152e"/>
                </a:solidFill>
                <a:latin typeface="Arial"/>
              </a:rPr>
              <a:t>образуют правую тройку (левую тройку) или положительно ориентированным (отрицательно ориентированным), если с конца третьего вектор 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152e"/>
                </a:solidFill>
                <a:latin typeface="Arial"/>
              </a:rPr>
              <a:t>     </a:t>
            </a:r>
            <a:r>
              <a:rPr b="0" lang="ru-RU" sz="2300" spc="-1" strike="noStrike">
                <a:solidFill>
                  <a:srgbClr val="00152e"/>
                </a:solidFill>
                <a:latin typeface="Arial"/>
              </a:rPr>
              <a:t>кратчайший поворот от первого вектора          ко  второму вектору        виден против часовой стрелки   ( по часовой стрелке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152e"/>
                </a:solidFill>
                <a:latin typeface="Arial"/>
              </a:rPr>
              <a:t>Ориентация тройки векторо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152e"/>
                </a:solidFill>
                <a:latin typeface="Arial"/>
              </a:rPr>
              <a:t>не меняется при циклическо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152e"/>
                </a:solidFill>
                <a:latin typeface="Arial"/>
              </a:rPr>
              <a:t>перестановке этих векторов.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152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3"/>
              <p:cNvSpPr txBox="1"/>
              <p:nvPr/>
            </p:nvSpPr>
            <p:spPr>
              <a:xfrm>
                <a:off x="785880" y="2000160"/>
                <a:ext cx="8096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 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9" name="Object 7"/>
          <p:cNvGraphicFramePr/>
          <p:nvPr/>
        </p:nvGraphicFramePr>
        <p:xfrm>
          <a:off x="714240" y="3214800"/>
          <a:ext cx="300240" cy="43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3214800"/>
                    <a:ext cx="30024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9"/>
          <p:cNvGraphicFramePr/>
          <p:nvPr/>
        </p:nvGraphicFramePr>
        <p:xfrm>
          <a:off x="6786720" y="3143160"/>
          <a:ext cx="23148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3143160"/>
                    <a:ext cx="2314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11"/>
          <p:cNvGraphicFramePr/>
          <p:nvPr/>
        </p:nvGraphicFramePr>
        <p:xfrm>
          <a:off x="3429000" y="3571920"/>
          <a:ext cx="299880" cy="44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3571920"/>
                    <a:ext cx="2998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5" name="Picture 2" descr="C:\Users\MANYA\Desktop\фото.JPG"/>
          <p:cNvPicPr/>
          <p:nvPr/>
        </p:nvPicPr>
        <p:blipFill>
          <a:blip r:embed="rId7"/>
          <a:stretch/>
        </p:blipFill>
        <p:spPr>
          <a:xfrm>
            <a:off x="4687920" y="4121280"/>
            <a:ext cx="1908000" cy="1761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C:\Users\MANYA\Desktop\фото (1).JPG"/>
          <p:cNvPicPr/>
          <p:nvPr/>
        </p:nvPicPr>
        <p:blipFill>
          <a:blip r:embed="rId8"/>
          <a:stretch/>
        </p:blipFill>
        <p:spPr>
          <a:xfrm>
            <a:off x="6626160" y="4127400"/>
            <a:ext cx="184788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4488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екторное произведение двух вектор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1f99"/>
                </a:solidFill>
                <a:latin typeface="Arial"/>
              </a:rPr>
              <a:t>Определение. </a:t>
            </a:r>
            <a:r>
              <a:rPr b="0" i="1" lang="ru-RU" sz="2400" spc="-1" strike="noStrike">
                <a:solidFill>
                  <a:srgbClr val="1f1f99"/>
                </a:solidFill>
                <a:latin typeface="Arial"/>
              </a:rPr>
              <a:t>Векторным произведением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ек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на вектор      называется вектор      удовлетворяющ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условия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длина вектора       ра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где          угол между векторов        и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ектор       ортогонален векторам      и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екторы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        образуют правую трой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екторное произведение  вектора       на вектор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обозначается               или             .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2"/>
          <p:cNvGraphicFramePr/>
          <p:nvPr/>
        </p:nvGraphicFramePr>
        <p:xfrm>
          <a:off x="8197920" y="1571760"/>
          <a:ext cx="252360" cy="42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7920" y="1571760"/>
                    <a:ext cx="25236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4"/>
          <p:cNvGraphicFramePr/>
          <p:nvPr/>
        </p:nvGraphicFramePr>
        <p:xfrm>
          <a:off x="2214720" y="2071800"/>
          <a:ext cx="32364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14720" y="2071800"/>
                    <a:ext cx="3236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6"/>
          <p:cNvGraphicFramePr/>
          <p:nvPr/>
        </p:nvGraphicFramePr>
        <p:xfrm>
          <a:off x="5357880" y="2000160"/>
          <a:ext cx="323640" cy="47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57880" y="2000160"/>
                    <a:ext cx="3236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8"/>
          <p:cNvGraphicFramePr/>
          <p:nvPr/>
        </p:nvGraphicFramePr>
        <p:xfrm>
          <a:off x="3340080" y="2857680"/>
          <a:ext cx="374760" cy="549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6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40080" y="2857680"/>
                    <a:ext cx="37476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9"/>
          <p:cNvGraphicFramePr/>
          <p:nvPr/>
        </p:nvGraphicFramePr>
        <p:xfrm>
          <a:off x="4857840" y="2786040"/>
          <a:ext cx="2190600" cy="598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8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57840" y="2786040"/>
                    <a:ext cx="219060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10"/>
          <p:cNvGraphicFramePr/>
          <p:nvPr/>
        </p:nvGraphicFramePr>
        <p:xfrm>
          <a:off x="1785960" y="3429000"/>
          <a:ext cx="587520" cy="382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0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85960" y="3429000"/>
                    <a:ext cx="58752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11"/>
          <p:cNvGraphicFramePr/>
          <p:nvPr/>
        </p:nvGraphicFramePr>
        <p:xfrm>
          <a:off x="5572080" y="3357720"/>
          <a:ext cx="252360" cy="428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2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72080" y="3357720"/>
                    <a:ext cx="25236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12"/>
          <p:cNvGraphicFramePr/>
          <p:nvPr/>
        </p:nvGraphicFramePr>
        <p:xfrm>
          <a:off x="6572160" y="3357720"/>
          <a:ext cx="324000" cy="477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4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572160" y="3357720"/>
                    <a:ext cx="32400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5" name="Object 7"/>
              <p:cNvSpPr txBox="1"/>
              <p:nvPr/>
            </p:nvSpPr>
            <p:spPr>
              <a:xfrm>
                <a:off x="2643120" y="4143240"/>
                <a:ext cx="1000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 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6" name="Object 16"/>
          <p:cNvGraphicFramePr/>
          <p:nvPr/>
        </p:nvGraphicFramePr>
        <p:xfrm>
          <a:off x="2286000" y="3714840"/>
          <a:ext cx="374760" cy="549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47" name="Object 1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86000" y="3714840"/>
                    <a:ext cx="37476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18"/>
          <p:cNvGraphicFramePr/>
          <p:nvPr/>
        </p:nvGraphicFramePr>
        <p:xfrm>
          <a:off x="6000840" y="3786120"/>
          <a:ext cx="252360" cy="428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49" name="Object 1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00840" y="3786120"/>
                    <a:ext cx="2523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19"/>
          <p:cNvGraphicFramePr/>
          <p:nvPr/>
        </p:nvGraphicFramePr>
        <p:xfrm>
          <a:off x="6715080" y="3786120"/>
          <a:ext cx="324000" cy="478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51" name="Object 1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715080" y="3786120"/>
                    <a:ext cx="32400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20"/>
          <p:cNvGraphicFramePr/>
          <p:nvPr/>
        </p:nvGraphicFramePr>
        <p:xfrm>
          <a:off x="5715000" y="4643280"/>
          <a:ext cx="252360" cy="428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53" name="Object 2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15000" y="4643280"/>
                    <a:ext cx="2523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21"/>
          <p:cNvGraphicFramePr/>
          <p:nvPr/>
        </p:nvGraphicFramePr>
        <p:xfrm>
          <a:off x="7643880" y="4643280"/>
          <a:ext cx="323640" cy="4780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55" name="Object 21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643880" y="4643280"/>
                    <a:ext cx="32364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22"/>
          <p:cNvGraphicFramePr/>
          <p:nvPr/>
        </p:nvGraphicFramePr>
        <p:xfrm>
          <a:off x="2944800" y="5072040"/>
          <a:ext cx="722160" cy="4777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57" name="Object 22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944800" y="5072040"/>
                    <a:ext cx="72216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24"/>
          <p:cNvGraphicFramePr/>
          <p:nvPr/>
        </p:nvGraphicFramePr>
        <p:xfrm>
          <a:off x="4653000" y="5081760"/>
          <a:ext cx="847800" cy="603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59" name="Object 24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653000" y="5081760"/>
                    <a:ext cx="84780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11"/>
          <p:cNvGraphicFramePr/>
          <p:nvPr/>
        </p:nvGraphicFramePr>
        <p:xfrm>
          <a:off x="5724360" y="3510000"/>
          <a:ext cx="252720" cy="4287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61" name="Object 11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5724360" y="3510000"/>
                    <a:ext cx="25272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кторное произведение двух векто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428760" y="1214280"/>
            <a:ext cx="8215200" cy="400068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graphicFrame>
        <p:nvGraphicFramePr>
          <p:cNvPr id="264" name="Object 4"/>
          <p:cNvGraphicFramePr/>
          <p:nvPr/>
        </p:nvGraphicFramePr>
        <p:xfrm>
          <a:off x="4214880" y="5214960"/>
          <a:ext cx="3800520" cy="94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14880" y="5214960"/>
                    <a:ext cx="380052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5"/>
          <p:cNvGraphicFramePr/>
          <p:nvPr/>
        </p:nvGraphicFramePr>
        <p:xfrm>
          <a:off x="1785960" y="5214960"/>
          <a:ext cx="1428840" cy="946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85960" y="5214960"/>
                    <a:ext cx="142884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6"/>
          <p:cNvGraphicFramePr/>
          <p:nvPr/>
        </p:nvGraphicFramePr>
        <p:xfrm>
          <a:off x="2643120" y="1785960"/>
          <a:ext cx="831960" cy="550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9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43120" y="1785960"/>
                    <a:ext cx="83196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свойства векторного произве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Теорема 1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екторное произведение           равно нулю только и только тогда, когда векторы      коллинеарны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Теорема 2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Длина вектора           числено равна  площади параллелограмма, сторонами которого служат векторы             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Теорема3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Векторное произведение антикоммутативно,  т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3"/>
          <p:cNvGraphicFramePr/>
          <p:nvPr/>
        </p:nvGraphicFramePr>
        <p:xfrm>
          <a:off x="6143760" y="1571760"/>
          <a:ext cx="722160" cy="47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3760" y="1571760"/>
                    <a:ext cx="72216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Object 4"/>
          <p:cNvGraphicFramePr/>
          <p:nvPr/>
        </p:nvGraphicFramePr>
        <p:xfrm>
          <a:off x="7286760" y="1928880"/>
          <a:ext cx="1069920" cy="47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86760" y="1928880"/>
                    <a:ext cx="10699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6"/>
          <p:cNvGraphicFramePr/>
          <p:nvPr/>
        </p:nvGraphicFramePr>
        <p:xfrm>
          <a:off x="4643280" y="2714760"/>
          <a:ext cx="722520" cy="47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2714760"/>
                    <a:ext cx="7225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7"/>
          <p:cNvGraphicFramePr/>
          <p:nvPr/>
        </p:nvGraphicFramePr>
        <p:xfrm>
          <a:off x="3429000" y="3500280"/>
          <a:ext cx="1069920" cy="47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9000" y="3500280"/>
                    <a:ext cx="106992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8"/>
          <p:cNvGraphicFramePr/>
          <p:nvPr/>
        </p:nvGraphicFramePr>
        <p:xfrm>
          <a:off x="3429000" y="4005360"/>
          <a:ext cx="1195560" cy="477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1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9000" y="4005360"/>
                    <a:ext cx="119556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9"/>
          <p:cNvGraphicFramePr/>
          <p:nvPr/>
        </p:nvGraphicFramePr>
        <p:xfrm>
          <a:off x="3179880" y="5357880"/>
          <a:ext cx="1693800" cy="477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3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79880" y="5357880"/>
                    <a:ext cx="169380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ОПРЕДЕЛИТЕЛИ  2-го  И   3-го  ПОРЯДКОВ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п р е д е л е н и е  1. 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пределител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вадратной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атрицы А второго порядк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пределителем второго поряд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называется число, обозначаемо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или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|A|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ычисляемое по форму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0" lang="en-US" sz="2800" spc="-1" strike="noStrike">
                <a:solidFill>
                  <a:srgbClr val="cc0066"/>
                </a:solidFill>
                <a:latin typeface="Arial"/>
              </a:rPr>
              <a:t>(1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4"/>
          <p:cNvGraphicFramePr/>
          <p:nvPr/>
        </p:nvGraphicFramePr>
        <p:xfrm>
          <a:off x="2268360" y="2565360"/>
          <a:ext cx="1727280" cy="12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565360"/>
                    <a:ext cx="172728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6"/>
          <p:cNvGraphicFramePr/>
          <p:nvPr/>
        </p:nvGraphicFramePr>
        <p:xfrm>
          <a:off x="2268360" y="4437000"/>
          <a:ext cx="4464360" cy="14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4437000"/>
                    <a:ext cx="446436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свойства векторного произвед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Теорема 4. 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Для произвольных векторов                  и произвольного       выполняется неравенство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Object 3"/>
          <p:cNvGraphicFramePr/>
          <p:nvPr/>
        </p:nvGraphicFramePr>
        <p:xfrm>
          <a:off x="6643800" y="1557360"/>
          <a:ext cx="1069920" cy="47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43800" y="1557360"/>
                    <a:ext cx="106992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Object 4"/>
          <p:cNvGraphicFramePr/>
          <p:nvPr/>
        </p:nvGraphicFramePr>
        <p:xfrm>
          <a:off x="3286080" y="2000160"/>
          <a:ext cx="274680" cy="3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86080" y="2000160"/>
                    <a:ext cx="2746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5"/>
          <p:cNvGraphicFramePr/>
          <p:nvPr/>
        </p:nvGraphicFramePr>
        <p:xfrm>
          <a:off x="2333520" y="2446200"/>
          <a:ext cx="2322720" cy="60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33520" y="2446200"/>
                    <a:ext cx="232272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ыражение векторного произведение через прямоугольные координа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Picture 2" descr="C:\Users\HP\Desktop\фото (1).JPG"/>
          <p:cNvPicPr/>
          <p:nvPr/>
        </p:nvPicPr>
        <p:blipFill>
          <a:blip r:embed="rId1"/>
          <a:stretch/>
        </p:blipFill>
        <p:spPr>
          <a:xfrm>
            <a:off x="5286240" y="1285920"/>
            <a:ext cx="3429000" cy="2428920"/>
          </a:xfrm>
          <a:prstGeom prst="rect">
            <a:avLst/>
          </a:prstGeom>
          <a:ln w="0">
            <a:noFill/>
          </a:ln>
        </p:spPr>
      </p:pic>
      <p:sp>
        <p:nvSpPr>
          <p:cNvPr id="294" name="TextBox 5"/>
          <p:cNvSpPr/>
          <p:nvPr/>
        </p:nvSpPr>
        <p:spPr>
          <a:xfrm>
            <a:off x="428760" y="1428840"/>
            <a:ext cx="4929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1f99"/>
                </a:solidFill>
                <a:latin typeface="Arial"/>
              </a:rPr>
              <a:t>Пусть </a:t>
            </a:r>
            <a:r>
              <a:rPr b="0" lang="en-US" sz="1800" spc="-1" strike="noStrike">
                <a:solidFill>
                  <a:srgbClr val="1f1f99"/>
                </a:solidFill>
                <a:latin typeface="Arial"/>
              </a:rPr>
              <a:t>Oxyz</a:t>
            </a:r>
            <a:r>
              <a:rPr b="0" lang="ru-RU" sz="1800" spc="-1" strike="noStrike">
                <a:solidFill>
                  <a:srgbClr val="1f1f99"/>
                </a:solidFill>
                <a:latin typeface="Arial"/>
              </a:rPr>
              <a:t> - прямоугольная 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1f99"/>
                </a:solidFill>
                <a:latin typeface="Arial"/>
              </a:rPr>
              <a:t>координат,                       орты координатных осей этой сист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2"/>
          <p:cNvGraphicFramePr/>
          <p:nvPr/>
        </p:nvGraphicFramePr>
        <p:xfrm>
          <a:off x="2000160" y="1857240"/>
          <a:ext cx="1020960" cy="47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00160" y="1857240"/>
                    <a:ext cx="10209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3"/>
          <p:cNvGraphicFramePr/>
          <p:nvPr/>
        </p:nvGraphicFramePr>
        <p:xfrm>
          <a:off x="428760" y="2637000"/>
          <a:ext cx="4730760" cy="2968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8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8760" y="2637000"/>
                    <a:ext cx="473076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мешанное произведение трех векто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Объект 3"/>
              <p:cNvSpPr txBox="1"/>
              <p:nvPr/>
            </p:nvSpPr>
            <p:spPr>
              <a:xfrm>
                <a:off x="1619280" y="1484280"/>
                <a:ext cx="1000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 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 txBox="1"/>
          <p:nvPr/>
        </p:nvSpPr>
        <p:spPr>
          <a:xfrm>
            <a:off x="610920" y="1557000"/>
            <a:ext cx="79246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Пусть              -произвольные векторы пространства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Определение:</a:t>
            </a: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Число              называется смешанным произведением векторов              и обозначается чер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1f99"/>
                </a:solidFill>
                <a:latin typeface="Arial"/>
              </a:rPr>
              <a:t>Теорема 1. </a:t>
            </a: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Смешанное произведение вектор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равно нулю тогда и только тогда, когда эти векторы компланарн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1f99"/>
                </a:solidFill>
                <a:latin typeface="Arial"/>
              </a:rPr>
              <a:t>Теорема 2. </a:t>
            </a: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Смешанное произведение трех некомпланарных  векторов равно объему параллелепипеда, построенного на этих векторах, взятому со знаком «+», если эти векторы образуют правую тройку, и со знаком «-», если они образуют левую трой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99"/>
                </a:solidFill>
                <a:latin typeface="Arial"/>
              </a:rPr>
              <a:t>                  </a:t>
            </a:r>
            <a:r>
              <a:rPr b="1" lang="ru-RU" sz="2400" spc="-1" strike="noStrike">
                <a:solidFill>
                  <a:srgbClr val="1f1f99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Объект 13"/>
              <p:cNvSpPr txBox="1"/>
              <p:nvPr/>
            </p:nvSpPr>
            <p:spPr>
              <a:xfrm>
                <a:off x="3949560" y="1920960"/>
                <a:ext cx="971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303" name="Picture 12" descr=""/>
          <p:cNvPicPr/>
          <p:nvPr/>
        </p:nvPicPr>
        <p:blipFill>
          <a:blip r:embed="rId1"/>
          <a:stretch/>
        </p:blipFill>
        <p:spPr>
          <a:xfrm>
            <a:off x="4435560" y="2352600"/>
            <a:ext cx="757080" cy="433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4" name="Объект 14"/>
              <p:cNvSpPr txBox="1"/>
              <p:nvPr/>
            </p:nvSpPr>
            <p:spPr>
              <a:xfrm>
                <a:off x="1679400" y="2708280"/>
                <a:ext cx="50533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×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Объект 15"/>
              <p:cNvSpPr txBox="1"/>
              <p:nvPr/>
            </p:nvSpPr>
            <p:spPr>
              <a:xfrm>
                <a:off x="7101000" y="2997360"/>
                <a:ext cx="1000080" cy="57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 </m:t>
                    </m:r>
                    <m:r>
                      <m:t xml:space="preserve">,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ражение смешанного произведения через прямоугольные координа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Пусть  </a:t>
            </a:r>
            <a:r>
              <a:rPr b="0" lang="en-US" sz="2200" spc="-1" strike="noStrike">
                <a:solidFill>
                  <a:srgbClr val="1f1f99"/>
                </a:solidFill>
                <a:latin typeface="Arial"/>
              </a:rPr>
              <a:t>Oxyz</a:t>
            </a: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 –прямоугольная система координат в пространстве, а                 орты координатных осей этой систем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1f99"/>
                </a:solidFill>
                <a:latin typeface="Arial"/>
              </a:rPr>
              <a:t>Теорема. </a:t>
            </a: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Пус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Тогда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1f99"/>
                </a:solidFill>
                <a:latin typeface="Arial"/>
              </a:rPr>
              <a:t>Следствие. </a:t>
            </a: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Векто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компланарны только и только тогда, когд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Объект 3"/>
          <p:cNvGraphicFramePr/>
          <p:nvPr/>
        </p:nvGraphicFramePr>
        <p:xfrm>
          <a:off x="2987640" y="1916280"/>
          <a:ext cx="1020960" cy="47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1916280"/>
                    <a:ext cx="102096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0" name="Объект 5"/>
              <p:cNvSpPr txBox="1"/>
              <p:nvPr/>
            </p:nvSpPr>
            <p:spPr>
              <a:xfrm>
                <a:off x="3132000" y="2637000"/>
                <a:ext cx="45990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Объект 8"/>
              <p:cNvSpPr txBox="1"/>
              <p:nvPr/>
            </p:nvSpPr>
            <p:spPr>
              <a:xfrm>
                <a:off x="1763640" y="3141720"/>
                <a:ext cx="226692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Объект 9"/>
              <p:cNvSpPr txBox="1"/>
              <p:nvPr/>
            </p:nvSpPr>
            <p:spPr>
              <a:xfrm>
                <a:off x="3708360" y="4221000"/>
                <a:ext cx="459900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Объект 10"/>
              <p:cNvSpPr txBox="1"/>
              <p:nvPr/>
            </p:nvSpPr>
            <p:spPr>
              <a:xfrm>
                <a:off x="2124000" y="5084640"/>
                <a:ext cx="26766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5528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1f99"/>
                </a:solidFill>
                <a:latin typeface="Arial"/>
              </a:rPr>
              <a:t>Пример. </a:t>
            </a: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Найти объем пирамиды с вершин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1f99"/>
                </a:solidFill>
                <a:latin typeface="Arial"/>
              </a:rPr>
              <a:t>Решение. </a:t>
            </a: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Данная пирамида построена на вектора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Вычислим смешанное произведение этих векторов по формул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                                            </a:t>
            </a:r>
            <a:r>
              <a:rPr b="1" lang="ru-RU" sz="2200" spc="-1" strike="noStrike">
                <a:solidFill>
                  <a:srgbClr val="1f1f99"/>
                </a:solidFill>
                <a:latin typeface="Arial"/>
              </a:rPr>
              <a:t>Ответ :  </a:t>
            </a:r>
            <a:r>
              <a:rPr b="0" lang="ru-RU" sz="2200" spc="-1" strike="noStrike">
                <a:solidFill>
                  <a:srgbClr val="1f1f99"/>
                </a:solidFill>
                <a:latin typeface="Arial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мешанное произведение трех векто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Объект 4"/>
              <p:cNvSpPr txBox="1"/>
              <p:nvPr/>
            </p:nvSpPr>
            <p:spPr>
              <a:xfrm>
                <a:off x="1644480" y="2076480"/>
                <a:ext cx="483732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3,0,0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,3,0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1,0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,1,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Объект 5"/>
              <p:cNvSpPr txBox="1"/>
              <p:nvPr/>
            </p:nvSpPr>
            <p:spPr>
              <a:xfrm>
                <a:off x="1403280" y="3068640"/>
                <a:ext cx="6091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3,0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1,0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,1,6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Объект 6"/>
              <p:cNvSpPr txBox="1"/>
              <p:nvPr/>
            </p:nvSpPr>
            <p:spPr>
              <a:xfrm>
                <a:off x="2322360" y="4005360"/>
                <a:ext cx="5634360" cy="12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⋅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Объект 8"/>
              <p:cNvSpPr txBox="1"/>
              <p:nvPr/>
            </p:nvSpPr>
            <p:spPr>
              <a:xfrm>
                <a:off x="1116000" y="5229360"/>
                <a:ext cx="26114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 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c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ОПРЕДЕЛИТЕЛИ  2-го  И   3-го  ПОРЯД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283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п р е д е л е н и е  2. 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пределител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вадратной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матрицы А третьего поряд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(или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пределителем третьего поряд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называется число, обозначаем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или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|A|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ычисляемое по форму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3059280" y="2492280"/>
          <a:ext cx="1944360" cy="15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2492280"/>
                    <a:ext cx="1944360" cy="15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6"/>
          <p:cNvGraphicFramePr/>
          <p:nvPr/>
        </p:nvGraphicFramePr>
        <p:xfrm>
          <a:off x="468360" y="4221000"/>
          <a:ext cx="7775640" cy="157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4221000"/>
                    <a:ext cx="7775640" cy="15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Rectangle 8"/>
          <p:cNvSpPr/>
          <p:nvPr/>
        </p:nvSpPr>
        <p:spPr>
          <a:xfrm>
            <a:off x="8172720" y="484344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ОПРЕДЕЛИТЕЛИ  2-го  И   3-го  ПОРЯД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424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c0066"/>
                </a:solidFill>
                <a:uFillTx/>
                <a:latin typeface="Arial"/>
              </a:rPr>
              <a:t>З а м е ч а н и е  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итель третьего порядка может быть вычислен не только по формуле 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(2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называемой  </a:t>
            </a:r>
            <a:r>
              <a:rPr b="1" i="1" lang="ru-RU" sz="1800" spc="-1" strike="noStrike" u="sng">
                <a:solidFill>
                  <a:srgbClr val="003399"/>
                </a:solidFill>
                <a:uFillTx/>
                <a:latin typeface="Arial"/>
              </a:rPr>
              <a:t>разложением  определителя  по  элементам  первой  строки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 Для вычисления определителя третьего порядка можно воспользоваться правилом  </a:t>
            </a:r>
            <a:r>
              <a:rPr b="1" i="1" lang="ru-RU" sz="1800" spc="-1" strike="noStrike" u="sng">
                <a:solidFill>
                  <a:srgbClr val="003399"/>
                </a:solidFill>
                <a:uFillTx/>
                <a:latin typeface="Arial"/>
              </a:rPr>
              <a:t>разложения  определителя  по   элементам    л ю б о й    строки   (столбца)   матрицы   А</a:t>
            </a:r>
            <a:r>
              <a:rPr b="1" lang="ru-RU" sz="1800" spc="-1" strike="noStrike" u="sng">
                <a:solidFill>
                  <a:srgbClr val="003399"/>
                </a:solidFill>
                <a:uFillTx/>
                <a:latin typeface="Arial"/>
              </a:rPr>
              <a:t>.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этом элементы выбранной строки (столбца) берут со знаками, указанными в следующей схе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есть знак «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 ставят у тех элементов </a:t>
            </a:r>
            <a:r>
              <a:rPr b="1" i="1" lang="ru-RU" sz="2400" spc="-1" strike="noStrike">
                <a:solidFill>
                  <a:srgbClr val="009900"/>
                </a:solidFill>
                <a:latin typeface="Arial"/>
              </a:rPr>
              <a:t>а</a:t>
            </a:r>
            <a:r>
              <a:rPr b="1" i="1" lang="en-US" sz="2400" spc="-1" strike="noStrike" baseline="-25000">
                <a:solidFill>
                  <a:srgbClr val="009900"/>
                </a:solidFill>
                <a:latin typeface="Arial"/>
              </a:rPr>
              <a:t>ij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, для которых сумма индексов 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i+j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есть число четное,  «</a:t>
            </a: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» – сумма индексов </a:t>
            </a: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i+j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есть число нечет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5796000" y="3357720"/>
          <a:ext cx="1487520" cy="151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3357720"/>
                    <a:ext cx="1487520" cy="15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ОПРЕДЕЛИТЕЛИ  2-го  И   3-го  ПОРЯД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Arial"/>
              </a:rPr>
              <a:t>Например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ыбрав для разложени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торую стро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ределителя, получим формулу </a:t>
            </a:r>
            <a:r>
              <a:rPr b="0" i="1" lang="ru-RU" sz="2400" spc="-1" strike="noStrike" u="sng">
                <a:solidFill>
                  <a:srgbClr val="003399"/>
                </a:solidFill>
                <a:uFillTx/>
                <a:latin typeface="Arial"/>
              </a:rPr>
              <a:t>разложения определителя третьего порядка по элементам второй стро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5"/>
          <p:cNvGraphicFramePr/>
          <p:nvPr/>
        </p:nvGraphicFramePr>
        <p:xfrm>
          <a:off x="755640" y="3716280"/>
          <a:ext cx="7921800" cy="14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716280"/>
                    <a:ext cx="792180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ОПРЕДЕЛИТЕЛИ  2-го  И   3-го  ПОРЯД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вычисления определителя третьего порядка можно воспользоваться   </a:t>
            </a:r>
            <a:r>
              <a:rPr b="0" i="1" lang="ru-RU" sz="2000" spc="-1" strike="noStrike" u="sng">
                <a:solidFill>
                  <a:srgbClr val="003399"/>
                </a:solidFill>
                <a:uFillTx/>
                <a:latin typeface="Arial"/>
              </a:rPr>
              <a:t>правилом  треугольник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7"/>
          <p:cNvGraphicFramePr/>
          <p:nvPr/>
        </p:nvGraphicFramePr>
        <p:xfrm>
          <a:off x="826920" y="2276640"/>
          <a:ext cx="6409080" cy="18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76640"/>
                    <a:ext cx="6409080" cy="18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9"/>
          <p:cNvGraphicFramePr/>
          <p:nvPr/>
        </p:nvGraphicFramePr>
        <p:xfrm>
          <a:off x="2411280" y="4076640"/>
          <a:ext cx="4824720" cy="17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4076640"/>
                    <a:ext cx="4824720" cy="17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Line 11"/>
          <p:cNvSpPr/>
          <p:nvPr/>
        </p:nvSpPr>
        <p:spPr>
          <a:xfrm>
            <a:off x="2771640" y="2565360"/>
            <a:ext cx="1152720" cy="1225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4932360" y="2565360"/>
            <a:ext cx="576360" cy="5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3"/>
          <p:cNvSpPr/>
          <p:nvPr/>
        </p:nvSpPr>
        <p:spPr>
          <a:xfrm flipH="1">
            <a:off x="4427640" y="2565360"/>
            <a:ext cx="50472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4"/>
          <p:cNvSpPr/>
          <p:nvPr/>
        </p:nvSpPr>
        <p:spPr>
          <a:xfrm flipH="1">
            <a:off x="4427280" y="314172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5"/>
          <p:cNvSpPr/>
          <p:nvPr/>
        </p:nvSpPr>
        <p:spPr>
          <a:xfrm>
            <a:off x="6012000" y="3213000"/>
            <a:ext cx="504720" cy="57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 flipH="1">
            <a:off x="6516360" y="2565360"/>
            <a:ext cx="57636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7"/>
          <p:cNvSpPr/>
          <p:nvPr/>
        </p:nvSpPr>
        <p:spPr>
          <a:xfrm flipH="1">
            <a:off x="6011640" y="2565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 flipV="1">
            <a:off x="2843280" y="4365720"/>
            <a:ext cx="100800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 flipH="1">
            <a:off x="4427640" y="4365720"/>
            <a:ext cx="504720" cy="577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4932360" y="4365720"/>
            <a:ext cx="57636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 flipH="1" flipV="1">
            <a:off x="4356000" y="4941720"/>
            <a:ext cx="1152720" cy="648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2"/>
          <p:cNvSpPr/>
          <p:nvPr/>
        </p:nvSpPr>
        <p:spPr>
          <a:xfrm flipV="1">
            <a:off x="6516720" y="4941720"/>
            <a:ext cx="576360" cy="648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3"/>
          <p:cNvSpPr/>
          <p:nvPr/>
        </p:nvSpPr>
        <p:spPr>
          <a:xfrm flipH="1" flipV="1">
            <a:off x="6011640" y="4365360"/>
            <a:ext cx="108108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4"/>
          <p:cNvSpPr/>
          <p:nvPr/>
        </p:nvSpPr>
        <p:spPr>
          <a:xfrm flipH="1" flipV="1">
            <a:off x="6012000" y="4365720"/>
            <a:ext cx="504720" cy="1224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5"/>
          <p:cNvSpPr/>
          <p:nvPr/>
        </p:nvSpPr>
        <p:spPr>
          <a:xfrm>
            <a:off x="1252440" y="5790240"/>
            <a:ext cx="595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выделенные элементы нужно перемножи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ОПРЕДЕЛИТЕЛИ  2-го  И   3-го  ПОРЯД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39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ель третьего порядка равен сумме шести слагаемых, получаемых перемножением элементов, попавших на параллельные линии матрицы, полученной из исходной матрицы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приписыванием к ней справа дополнительно первых двух столбцов матрицы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187280" y="2997360"/>
          <a:ext cx="6769440" cy="26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997360"/>
                    <a:ext cx="676944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Line 6"/>
          <p:cNvSpPr/>
          <p:nvPr/>
        </p:nvSpPr>
        <p:spPr>
          <a:xfrm>
            <a:off x="2987640" y="3789360"/>
            <a:ext cx="1079640" cy="1079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3492360" y="3789360"/>
            <a:ext cx="1079640" cy="1079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4067280" y="3789360"/>
            <a:ext cx="1079280" cy="1079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 flipV="1">
            <a:off x="5651640" y="3789000"/>
            <a:ext cx="1079280" cy="1079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 flipV="1">
            <a:off x="6227640" y="3789000"/>
            <a:ext cx="1079640" cy="1079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6732720" y="3789000"/>
            <a:ext cx="1079280" cy="1079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ОПРЕДЕЛИТЕЛИ  2-го  И   3-го  ПОРЯД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066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ель третьего порядка равен сумме шести слагаемых,  получаемых перемножением элементов, попавших на  параллельные линии матрицы, полученной из исходной матрицы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писыванием к ней снизу дополнительно первых  двух строк матрицы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971640" y="3429000"/>
          <a:ext cx="1658880" cy="163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3429000"/>
                    <a:ext cx="1658880" cy="16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6"/>
          <p:cNvGraphicFramePr/>
          <p:nvPr/>
        </p:nvGraphicFramePr>
        <p:xfrm>
          <a:off x="2700360" y="3141720"/>
          <a:ext cx="1874880" cy="219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3141720"/>
                    <a:ext cx="187488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8"/>
          <p:cNvGraphicFramePr/>
          <p:nvPr/>
        </p:nvGraphicFramePr>
        <p:xfrm>
          <a:off x="5065560" y="3141720"/>
          <a:ext cx="1898640" cy="223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5560" y="3141720"/>
                    <a:ext cx="1898640" cy="22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Line 9"/>
          <p:cNvSpPr/>
          <p:nvPr/>
        </p:nvSpPr>
        <p:spPr>
          <a:xfrm>
            <a:off x="3203640" y="3284640"/>
            <a:ext cx="863640" cy="93636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3203640" y="3789360"/>
            <a:ext cx="863640" cy="9367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"/>
          <p:cNvSpPr/>
          <p:nvPr/>
        </p:nvSpPr>
        <p:spPr>
          <a:xfrm>
            <a:off x="3203640" y="4221000"/>
            <a:ext cx="863640" cy="9367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"/>
          <p:cNvSpPr/>
          <p:nvPr/>
        </p:nvSpPr>
        <p:spPr>
          <a:xfrm flipV="1">
            <a:off x="5651640" y="4292280"/>
            <a:ext cx="792000" cy="8650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3"/>
          <p:cNvSpPr/>
          <p:nvPr/>
        </p:nvSpPr>
        <p:spPr>
          <a:xfrm flipV="1">
            <a:off x="5651640" y="3789000"/>
            <a:ext cx="792000" cy="8650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4"/>
          <p:cNvSpPr/>
          <p:nvPr/>
        </p:nvSpPr>
        <p:spPr>
          <a:xfrm flipV="1">
            <a:off x="5651640" y="3357360"/>
            <a:ext cx="792000" cy="8650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РЕДЕЛИТЕЛЬ  МАТРИЦЫ </a:t>
            </a:r>
            <a:br>
              <a:rPr sz="2800"/>
            </a:b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ОПРЕДЕЛИТЕЛЬ  КВАДРАТНОЙ  МАТРИЦЫ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9250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п р е д е л е н и е  3.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ой квадратной матрице  </a:t>
            </a:r>
            <a:r>
              <a:rPr b="0" i="1" lang="ru-RU" sz="2000" spc="-1" strike="noStrike">
                <a:solidFill>
                  <a:srgbClr val="003399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порядка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(где 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3399"/>
                </a:solidFill>
                <a:latin typeface="Symbol"/>
                <a:ea typeface="Symbol"/>
              </a:rPr>
              <a:t>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 ставится в соответствие число, называемое   </a:t>
            </a:r>
            <a:r>
              <a:rPr b="0" i="1" lang="ru-RU" sz="2000" spc="-1" strike="noStrike" u="sng">
                <a:solidFill>
                  <a:srgbClr val="003399"/>
                </a:solidFill>
                <a:uFillTx/>
                <a:latin typeface="Arial"/>
              </a:rPr>
              <a:t>определителем матрицы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003399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обозначаемое  </a:t>
            </a:r>
            <a:r>
              <a:rPr b="0" lang="ru-RU" sz="2000" spc="-1" strike="noStrike">
                <a:solidFill>
                  <a:srgbClr val="003399"/>
                </a:solidFill>
                <a:latin typeface="Symbol"/>
                <a:ea typeface="Symbol"/>
              </a:rPr>
              <a:t></a:t>
            </a:r>
            <a:r>
              <a:rPr b="0" i="1" lang="ru-RU" sz="2000" spc="-1" strike="noStrike">
                <a:solidFill>
                  <a:srgbClr val="003399"/>
                </a:solidFill>
                <a:latin typeface="Arial"/>
              </a:rPr>
              <a:t>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Symbol"/>
                <a:ea typeface="Symbol"/>
              </a:rPr>
              <a:t>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вычисляемое по правил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4"/>
          <p:cNvGraphicFramePr/>
          <p:nvPr/>
        </p:nvGraphicFramePr>
        <p:xfrm>
          <a:off x="971640" y="2924280"/>
          <a:ext cx="1368360" cy="55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924280"/>
                    <a:ext cx="136836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6"/>
          <p:cNvSpPr/>
          <p:nvPr/>
        </p:nvSpPr>
        <p:spPr>
          <a:xfrm>
            <a:off x="0" y="35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7"/>
          <p:cNvGraphicFramePr/>
          <p:nvPr/>
        </p:nvGraphicFramePr>
        <p:xfrm>
          <a:off x="971640" y="3500280"/>
          <a:ext cx="3887640" cy="102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3500280"/>
                    <a:ext cx="388764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Rectangle 10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9"/>
          <p:cNvGraphicFramePr/>
          <p:nvPr/>
        </p:nvGraphicFramePr>
        <p:xfrm>
          <a:off x="971640" y="4581360"/>
          <a:ext cx="7704000" cy="138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4581360"/>
                    <a:ext cx="7704000" cy="13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12"/>
          <p:cNvSpPr/>
          <p:nvPr/>
        </p:nvSpPr>
        <p:spPr>
          <a:xfrm>
            <a:off x="971640" y="587592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ак дале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1:40:02Z</dcterms:created>
  <dc:creator>к.502</dc:creator>
  <dc:description/>
  <dc:language>en-US</dc:language>
  <cp:lastModifiedBy>квм</cp:lastModifiedBy>
  <dcterms:modified xsi:type="dcterms:W3CDTF">2014-09-11T09:09:04Z</dcterms:modified>
  <cp:revision>75</cp:revision>
  <dc:subject/>
  <dc:title>Определители второго и третьего порядка.</dc:title>
</cp:coreProperties>
</file>