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wmf" ContentType="image/x-wmf"/>
  <Override PartName="/ppt/media/image34.wmf" ContentType="image/x-wmf"/>
  <Override PartName="/ppt/media/image77.png" ContentType="image/png"/>
  <Override PartName="/ppt/media/image32.png" ContentType="image/png"/>
  <Override PartName="/ppt/media/image31.wmf" ContentType="image/x-wmf"/>
  <Override PartName="/ppt/media/image74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30.wmf" ContentType="image/x-wmf"/>
  <Override PartName="/ppt/media/image73.png" ContentType="image/png"/>
  <Override PartName="/ppt/media/image27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48.wmf" ContentType="image/x-wmf"/>
  <Override PartName="/ppt/media/image11.wmf" ContentType="image/x-wmf"/>
  <Override PartName="/ppt/media/image33.png" ContentType="image/png"/>
  <Override PartName="/ppt/media/image3.png" ContentType="image/png"/>
  <Override PartName="/ppt/media/image40.wmf" ContentType="image/x-wmf"/>
  <Override PartName="/ppt/media/image6.png" ContentType="image/png"/>
  <Override PartName="/ppt/media/image15.wmf" ContentType="image/x-wmf"/>
  <Override PartName="/ppt/media/image80.wmf" ContentType="image/x-wmf"/>
  <Override PartName="/ppt/media/image14.wmf" ContentType="image/x-wmf"/>
  <Override PartName="/ppt/media/image101.wmf" ContentType="image/x-wmf"/>
  <Override PartName="/ppt/media/image64.wmf" ContentType="image/x-wmf"/>
  <Override PartName="/ppt/media/image65.wmf" ContentType="image/x-wmf"/>
  <Override PartName="/ppt/media/image94.wmf" ContentType="image/x-wmf"/>
  <Override PartName="/ppt/media/image29.wmf" ContentType="image/x-wmf"/>
  <Override PartName="/ppt/media/image71.wmf" ContentType="image/x-wmf"/>
  <Override PartName="/ppt/media/image1.png" ContentType="image/png"/>
  <Override PartName="/ppt/media/image66.wmf" ContentType="image/x-wmf"/>
  <Override PartName="/ppt/media/image67.wmf" ContentType="image/x-wmf"/>
  <Override PartName="/ppt/media/image70.wmf" ContentType="image/x-wmf"/>
  <Override PartName="/ppt/media/image69.wmf" ContentType="image/x-wmf"/>
  <Override PartName="/ppt/media/image72.wmf" ContentType="image/x-wmf"/>
  <Override PartName="/ppt/media/image88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62.wmf" ContentType="image/x-wmf"/>
  <Override PartName="/ppt/media/image97.wmf" ContentType="image/x-wmf"/>
  <Override PartName="/ppt/media/image60.wmf" ContentType="image/x-wmf"/>
  <Override PartName="/ppt/media/image99.wmf" ContentType="image/x-wmf"/>
  <Override PartName="/ppt/media/image2.jpeg" ContentType="image/jpeg"/>
  <Override PartName="/ppt/media/image76.png" ContentType="image/png"/>
  <Override PartName="/ppt/media/image96.wmf" ContentType="image/x-wmf"/>
  <Override PartName="/ppt/media/image75.png" ContentType="image/png"/>
  <Override PartName="/ppt/media/image95.wmf" ContentType="image/x-wmf"/>
  <Override PartName="/ppt/media/image102.wmf" ContentType="image/x-wmf"/>
  <Override PartName="/ppt/media/image92.wmf" ContentType="image/x-wmf"/>
  <Override PartName="/ppt/media/image89.wmf" ContentType="image/x-wmf"/>
  <Override PartName="/ppt/media/image82.wmf" ContentType="image/x-wmf"/>
  <Override PartName="/ppt/media/image79.wmf" ContentType="image/x-wmf"/>
  <Override PartName="/ppt/media/image91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84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16.wmf" ContentType="image/x-wmf"/>
  <Override PartName="/ppt/media/image81.wmf" ContentType="image/x-wmf"/>
  <Override PartName="/ppt/media/image68.png" ContentType="image/png"/>
  <Override PartName="/ppt/media/image90.wmf" ContentType="image/x-wmf"/>
  <Override PartName="/ppt/media/image25.wmf" ContentType="image/x-wmf"/>
  <Override PartName="/ppt/media/image4.jpeg" ContentType="image/jpeg"/>
  <Override PartName="/ppt/media/image38.wmf" ContentType="image/x-wmf"/>
  <Override PartName="/ppt/media/image8.wmf" ContentType="image/x-wmf"/>
  <Override PartName="/ppt/media/image85.wmf" ContentType="image/x-wmf"/>
  <Override PartName="/ppt/media/image28.wmf" ContentType="image/x-wmf"/>
  <Override PartName="/ppt/media/image93.wmf" ContentType="image/x-wmf"/>
  <Override PartName="/ppt/media/image10.png" ContentType="image/png"/>
  <Override PartName="/ppt/media/image78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</p:sldIdLst>
  <p:sldSz cx="97234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998640" y="685440"/>
            <a:ext cx="486072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AAB7-F8EC-4E29-89E9-44902D6A90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716D-8D17-417D-869E-812CDBC87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98640" y="685800"/>
            <a:ext cx="486072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3861-46E7-49FE-85F8-BBEAB415B6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13D1-B8AF-4223-A488-DF80EC6A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9C0-59B7-492B-A675-6FE08FFF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B6E-CCDF-4BC9-A122-956B799E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05F-5BC2-43B1-9331-04C4FDBC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7E7D-6950-4D62-AA80-2A8228F5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C533-D131-47A9-9D56-62921A20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C90C-222A-420D-B0E2-FDD522DE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2883-A8BB-41E1-AD11-7ADDA183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2E1C-1BC9-4CAC-8E05-348B3BA8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E096-6217-4AB0-94AE-8D82F845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8448-BB18-4EAB-A11F-7330B766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104-DA56-4E62-94FF-35857C9E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41BA-8C87-4C71-AC24-87DE283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AF5B-4011-4503-9E3D-23EA4FD6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C52D-FD56-4990-8E37-4E7E321B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AE0C-68A5-4F6C-BF2D-FC0D8B1C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32E5-624A-4C4A-90BE-DB9940BB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C6242-9F37-4F65-9230-6A21B413C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EB9F8-7CEE-41CC-BBA0-FCD1B9AD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549E-924E-4FF9-B611-3B9619A7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1B1F0-D1D4-4253-8059-528B2902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DE21E-D1C5-4588-A974-FA37DE20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C18-BF84-4F97-B3C4-FB766FFA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140A-28A7-44BC-9291-71751EE3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CB665-8B9D-408B-A093-27360F5A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44AB-CFB8-4681-ABBD-25250482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7037-AD9E-48DA-B084-8B6D210B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254C-A28B-4C24-ADF2-A530AE55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C20C-728B-4D70-8280-6B56EB9A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A8C9-44DE-445E-9B21-919EBFE5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41975-A9D2-455A-9B79-8AF90A1D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9D15E-B7E2-460A-9A2D-07E4091C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0754-6F46-426D-AC65-F905F79C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284-5AD0-4490-B269-E0F5BEB0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983F-6584-4AB1-9D30-01AC9639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37414-C219-4DA9-B152-BC8A91D4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97CF1-E770-4099-AEB0-E83B7DE1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81167-C426-4C7B-BA6D-01BC5D50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8B448-D280-4A70-BE35-96683909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A507-6081-4347-88EB-2454EEB5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7646-A5FA-4F91-BA04-8BDCC716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0AF0-6D64-4765-A6BD-4E966048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E9EE3-C6CD-459D-92A3-1ECAD0ED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8F945-409C-4E6B-8342-D457EEA8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05E-8222-4638-8C30-1112A722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396F3-2EFB-4C6F-8DE6-8DF64736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C6D45-44C4-4DD8-BA6A-91CEC476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DA873-9609-4B18-9248-DB4B5424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4D871-2B7A-4A8A-BFE7-8C37117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80977-FF3A-4D51-9411-E2C87368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F7FB4-FF7F-4CC8-AE38-DCCEAE78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1B48D-144E-4EC3-A754-AF9A975B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0B603-4609-4AD2-9364-AB18CBC9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A5960-B86B-44FC-9E41-B247EBEA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24B6E-C5A0-4214-AA93-3227E6BE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5280" y="320400"/>
            <a:ext cx="769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3838-7626-441F-B490-0C29607F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8736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689440" y="160920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8528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08736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689440" y="4140720"/>
            <a:ext cx="247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F316B-4D36-43E7-81FF-0CC38822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B6D-2FA7-470E-8262-664C9E2B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29080" y="414072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1FF-A1CD-4BE6-81E7-F07A74FC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52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29080" y="1609200"/>
            <a:ext cx="37555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280" y="4140720"/>
            <a:ext cx="76964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7DC8-9343-4690-89A5-6C3D0D21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B644-F171-4FDD-907E-CF56F557A56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828880" y="-6480"/>
            <a:ext cx="6900840" cy="6870960"/>
            <a:chOff x="2828880" y="-6480"/>
            <a:chExt cx="690084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828880" y="-6480"/>
              <a:ext cx="69008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835360" y="0"/>
              <a:ext cx="6886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83536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41680" y="6558120"/>
            <a:ext cx="212868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97000" y="6557760"/>
            <a:ext cx="3112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7864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397C-1214-4FE0-95D7-6A0C1BA53F8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022720" y="6555960"/>
            <a:ext cx="212904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844280" y="6555960"/>
            <a:ext cx="3078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159320" y="655452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2436-0EFB-4595-899F-408B0F7B15BC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635040" y="1004400"/>
            <a:ext cx="459252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634680" y="998280"/>
            <a:ext cx="459252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1476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85640" y="65577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646680" y="6555960"/>
            <a:ext cx="6253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2ED2-7FA8-4D4A-A84B-31ECA3E30379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663040" y="-6480"/>
            <a:ext cx="1066680" cy="6870960"/>
            <a:chOff x="8663040" y="-6480"/>
            <a:chExt cx="10666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663040" y="-6480"/>
              <a:ext cx="1066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669160" y="0"/>
              <a:ext cx="10526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85280" y="3204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85280" y="1609200"/>
            <a:ext cx="76964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11520" y="6558120"/>
            <a:ext cx="212904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85640" y="6555960"/>
            <a:ext cx="3889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49920" y="6552720"/>
            <a:ext cx="6256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44FA-B838-40EA-A22E-61B7F61852A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wmf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8.wmf"/><Relationship Id="rId2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5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image" Target="../media/image6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2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7.wmf"/><Relationship Id="rId1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wmf"/><Relationship Id="rId3" Type="http://schemas.openxmlformats.org/officeDocument/2006/relationships/image" Target="../media/image99.wmf"/><Relationship Id="rId4" Type="http://schemas.openxmlformats.org/officeDocument/2006/relationships/image" Target="../media/image100.wmf"/><Relationship Id="rId5" Type="http://schemas.openxmlformats.org/officeDocument/2006/relationships/image" Target="../media/image101.wmf"/><Relationship Id="rId6" Type="http://schemas.openxmlformats.org/officeDocument/2006/relationships/image" Target="../media/image10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908440" y="500040"/>
            <a:ext cx="6815160" cy="29084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566880" y="4776840"/>
            <a:ext cx="5437080" cy="11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Лекция 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96720" y="1557000"/>
            <a:ext cx="8839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Чтобы вычислить новый интеграл, сделаем замену .                     В этом случа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4"/>
              <p:cNvSpPr txBox="1"/>
              <p:nvPr/>
            </p:nvSpPr>
            <p:spPr>
              <a:xfrm>
                <a:off x="2238480" y="1125360"/>
                <a:ext cx="47829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TextBox 7"/>
          <p:cNvSpPr/>
          <p:nvPr/>
        </p:nvSpPr>
        <p:spPr>
          <a:xfrm>
            <a:off x="848520" y="61372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"/>
              <p:cNvSpPr txBox="1"/>
              <p:nvPr/>
            </p:nvSpPr>
            <p:spPr>
              <a:xfrm>
                <a:off x="3492360" y="2781360"/>
                <a:ext cx="11448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18" name="Object 5"/>
          <p:cNvGraphicFramePr/>
          <p:nvPr/>
        </p:nvGraphicFramePr>
        <p:xfrm>
          <a:off x="922320" y="3114720"/>
          <a:ext cx="7074000" cy="182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2320" y="3114720"/>
                    <a:ext cx="7074000" cy="18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TextBox 9"/>
          <p:cNvSpPr/>
          <p:nvPr/>
        </p:nvSpPr>
        <p:spPr>
          <a:xfrm>
            <a:off x="495720" y="4911840"/>
            <a:ext cx="618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сюда находим искомый интегр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6"/>
              <p:cNvSpPr txBox="1"/>
              <p:nvPr/>
            </p:nvSpPr>
            <p:spPr>
              <a:xfrm>
                <a:off x="2786040" y="5284800"/>
                <a:ext cx="47563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7"/>
              <p:cNvSpPr txBox="1"/>
              <p:nvPr/>
            </p:nvSpPr>
            <p:spPr>
              <a:xfrm>
                <a:off x="2484360" y="5969160"/>
                <a:ext cx="298944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774720" y="109440"/>
            <a:ext cx="6973920" cy="5065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271440" y="765000"/>
            <a:ext cx="8353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Пример 4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Решение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61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Для нахождения интеграла                   обозначим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25" name="Объект 5"/>
          <p:cNvGraphicFramePr/>
          <p:nvPr/>
        </p:nvGraphicFramePr>
        <p:xfrm>
          <a:off x="4502160" y="692280"/>
          <a:ext cx="138888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6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2160" y="692280"/>
                    <a:ext cx="138888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Объект 6"/>
          <p:cNvGraphicFramePr/>
          <p:nvPr/>
        </p:nvGraphicFramePr>
        <p:xfrm>
          <a:off x="252360" y="1700280"/>
          <a:ext cx="2978280" cy="151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2360" y="1700280"/>
                    <a:ext cx="2978280" cy="15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Объект 7"/>
          <p:cNvGraphicFramePr/>
          <p:nvPr/>
        </p:nvGraphicFramePr>
        <p:xfrm>
          <a:off x="4479840" y="1773360"/>
          <a:ext cx="4003920" cy="118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0" name="Объект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79840" y="1773360"/>
                    <a:ext cx="4003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Объект 8"/>
          <p:cNvGraphicFramePr/>
          <p:nvPr/>
        </p:nvGraphicFramePr>
        <p:xfrm>
          <a:off x="228600" y="3789360"/>
          <a:ext cx="2544840" cy="1619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2" name="Объект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8600" y="3789360"/>
                    <a:ext cx="254484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Объект 9"/>
          <p:cNvGraphicFramePr/>
          <p:nvPr/>
        </p:nvGraphicFramePr>
        <p:xfrm>
          <a:off x="4508640" y="3068640"/>
          <a:ext cx="1238040" cy="878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4" name="Объект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508640" y="3068640"/>
                    <a:ext cx="123804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Объект 11"/>
          <p:cNvGraphicFramePr/>
          <p:nvPr/>
        </p:nvGraphicFramePr>
        <p:xfrm>
          <a:off x="4448160" y="4076640"/>
          <a:ext cx="4014720" cy="973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6" name="Объект 1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448160" y="4076640"/>
                    <a:ext cx="4014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Стрелка вправо 12"/>
          <p:cNvSpPr/>
          <p:nvPr/>
        </p:nvSpPr>
        <p:spPr>
          <a:xfrm rot="20245200">
            <a:off x="3330360" y="2506680"/>
            <a:ext cx="1223640" cy="15228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трелка вправо 13"/>
          <p:cNvSpPr/>
          <p:nvPr/>
        </p:nvSpPr>
        <p:spPr>
          <a:xfrm rot="1041600">
            <a:off x="2835360" y="4309920"/>
            <a:ext cx="1584360" cy="179640"/>
          </a:xfrm>
          <a:prstGeom prst="rightArrow">
            <a:avLst>
              <a:gd name="adj1" fmla="val 50000"/>
              <a:gd name="adj2" fmla="val 4993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4"/>
          <p:cNvSpPr/>
          <p:nvPr/>
        </p:nvSpPr>
        <p:spPr>
          <a:xfrm>
            <a:off x="2602080" y="5013360"/>
            <a:ext cx="60325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Для  нахождения исходного интегр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9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олучи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Объект 15"/>
          <p:cNvGraphicFramePr/>
          <p:nvPr/>
        </p:nvGraphicFramePr>
        <p:xfrm>
          <a:off x="2846520" y="5859360"/>
          <a:ext cx="4998960" cy="9003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1" name="Объект 15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846520" y="5859360"/>
                    <a:ext cx="4998960" cy="9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Объект 5"/>
          <p:cNvGraphicFramePr/>
          <p:nvPr/>
        </p:nvGraphicFramePr>
        <p:xfrm>
          <a:off x="1692360" y="549360"/>
          <a:ext cx="559908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549360"/>
                    <a:ext cx="5599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Объект 6"/>
          <p:cNvGraphicFramePr/>
          <p:nvPr/>
        </p:nvGraphicFramePr>
        <p:xfrm>
          <a:off x="1758960" y="1844640"/>
          <a:ext cx="553572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8960" y="1844640"/>
                    <a:ext cx="55357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85640" y="3614400"/>
            <a:ext cx="12780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47" name="Объект 8"/>
          <p:cNvGraphicFramePr/>
          <p:nvPr/>
        </p:nvGraphicFramePr>
        <p:xfrm>
          <a:off x="2421000" y="3357720"/>
          <a:ext cx="4249800" cy="100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8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1000" y="3357720"/>
                    <a:ext cx="4249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80960" y="268200"/>
            <a:ext cx="7480440" cy="865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85280" y="1600200"/>
            <a:ext cx="747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rebuchet MS"/>
              </a:rPr>
              <a:t>Пример 4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2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14"/>
              <p:cNvSpPr txBox="1"/>
              <p:nvPr/>
            </p:nvSpPr>
            <p:spPr>
              <a:xfrm>
                <a:off x="2417760" y="306864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52" name="Object 13"/>
          <p:cNvGraphicFramePr/>
          <p:nvPr/>
        </p:nvGraphicFramePr>
        <p:xfrm>
          <a:off x="2106720" y="3836880"/>
          <a:ext cx="2898720" cy="52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3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06720" y="3836880"/>
                    <a:ext cx="289872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4" name="Object 4"/>
              <p:cNvSpPr txBox="1"/>
              <p:nvPr/>
            </p:nvSpPr>
            <p:spPr>
              <a:xfrm>
                <a:off x="1774800" y="4592520"/>
                <a:ext cx="397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55" name="Объект 3"/>
          <p:cNvGraphicFramePr/>
          <p:nvPr/>
        </p:nvGraphicFramePr>
        <p:xfrm>
          <a:off x="5398920" y="1484280"/>
          <a:ext cx="1940040" cy="792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6" name="Объект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8920" y="1484280"/>
                    <a:ext cx="19400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360" y="1268280"/>
            <a:ext cx="883944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Для нахождения                          применим формулу интегрирования по частям еще раз, пусть теперь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58" name="Object 3"/>
          <p:cNvGraphicFramePr/>
          <p:nvPr/>
        </p:nvGraphicFramePr>
        <p:xfrm>
          <a:off x="465120" y="2879640"/>
          <a:ext cx="4211640" cy="11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2879640"/>
                    <a:ext cx="4211640" cy="11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Box 9"/>
          <p:cNvSpPr/>
          <p:nvPr/>
        </p:nvSpPr>
        <p:spPr>
          <a:xfrm>
            <a:off x="181080" y="4076640"/>
            <a:ext cx="77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Для первоначального интеграла получаем следующее   уравнение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Object 4"/>
              <p:cNvSpPr txBox="1"/>
              <p:nvPr/>
            </p:nvSpPr>
            <p:spPr>
              <a:xfrm>
                <a:off x="1260360" y="404640"/>
                <a:ext cx="53294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6"/>
              <p:cNvSpPr txBox="1"/>
              <p:nvPr/>
            </p:nvSpPr>
            <p:spPr>
              <a:xfrm>
                <a:off x="396720" y="5099040"/>
                <a:ext cx="483552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</m:e>
                        </m:nary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Объект 1"/>
              <p:cNvSpPr txBox="1"/>
              <p:nvPr/>
            </p:nvSpPr>
            <p:spPr>
              <a:xfrm>
                <a:off x="3348000" y="1557360"/>
                <a:ext cx="17859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612360" y="2420640"/>
            <a:ext cx="73278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Object 6"/>
              <p:cNvSpPr txBox="1"/>
              <p:nvPr/>
            </p:nvSpPr>
            <p:spPr>
              <a:xfrm>
                <a:off x="1893960" y="1700280"/>
                <a:ext cx="4289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1832040" y="2835360"/>
                <a:ext cx="47322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Box 12"/>
          <p:cNvSpPr/>
          <p:nvPr/>
        </p:nvSpPr>
        <p:spPr>
          <a:xfrm>
            <a:off x="1424520" y="4191120"/>
            <a:ext cx="12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4"/>
          <p:cNvGraphicFramePr/>
          <p:nvPr/>
        </p:nvGraphicFramePr>
        <p:xfrm>
          <a:off x="2989440" y="3843360"/>
          <a:ext cx="3016080" cy="10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9440" y="3843360"/>
                    <a:ext cx="30160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0" name="Заголовок 3" descr=""/>
          <p:cNvPicPr/>
          <p:nvPr/>
        </p:nvPicPr>
        <p:blipFill>
          <a:blip r:embed="rId3"/>
          <a:stretch/>
        </p:blipFill>
        <p:spPr>
          <a:xfrm>
            <a:off x="341280" y="225360"/>
            <a:ext cx="889956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30240" y="311040"/>
            <a:ext cx="8759880" cy="96372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52000" y="1484280"/>
            <a:ext cx="828036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новной прием нахождения таких интегралов состоит в сведения их к интегралам от рациональных функций (так называемая рационализация интеграла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смотрим интегралы вида                       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кие интегралы  рационализируются заменой переменной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3" name="Объект 5"/>
          <p:cNvGraphicFramePr/>
          <p:nvPr/>
        </p:nvGraphicFramePr>
        <p:xfrm>
          <a:off x="3348000" y="3860640"/>
          <a:ext cx="1668600" cy="61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4" name="Объект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3860640"/>
                    <a:ext cx="1668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Объект 6"/>
          <p:cNvGraphicFramePr/>
          <p:nvPr/>
        </p:nvGraphicFramePr>
        <p:xfrm>
          <a:off x="7164360" y="4508640"/>
          <a:ext cx="89532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6" name="Объект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4360" y="4508640"/>
                    <a:ext cx="895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85280" y="188640"/>
            <a:ext cx="80470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8000" y="1483920"/>
            <a:ext cx="8064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ынтегральная функция искомого интеграл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ана как функция от радикала степеней 2 и 3. Наименьшее общее кратное чисел  2 и 3 равно 6. Данный интеграл является интегралом тип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                    Тогда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79" name="Объект 5"/>
          <p:cNvGraphicFramePr/>
          <p:nvPr/>
        </p:nvGraphicFramePr>
        <p:xfrm>
          <a:off x="3492360" y="189000"/>
          <a:ext cx="1419480" cy="9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189000"/>
                    <a:ext cx="141948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Объект 7"/>
          <p:cNvGraphicFramePr/>
          <p:nvPr/>
        </p:nvGraphicFramePr>
        <p:xfrm>
          <a:off x="3565440" y="3933720"/>
          <a:ext cx="1668600" cy="6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2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5440" y="3933720"/>
                    <a:ext cx="16686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8"/>
          <p:cNvGraphicFramePr/>
          <p:nvPr/>
        </p:nvGraphicFramePr>
        <p:xfrm>
          <a:off x="2268360" y="4653000"/>
          <a:ext cx="92088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4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68360" y="4653000"/>
                    <a:ext cx="92088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9"/>
          <p:cNvGraphicFramePr/>
          <p:nvPr/>
        </p:nvGraphicFramePr>
        <p:xfrm>
          <a:off x="396720" y="5229360"/>
          <a:ext cx="4827600" cy="52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6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5229360"/>
                    <a:ext cx="482760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81080" y="333000"/>
            <a:ext cx="842472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388" name="Объект 6"/>
          <p:cNvGraphicFramePr/>
          <p:nvPr/>
        </p:nvGraphicFramePr>
        <p:xfrm>
          <a:off x="1165320" y="333360"/>
          <a:ext cx="417348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333360"/>
                    <a:ext cx="41734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Объект 8"/>
          <p:cNvGraphicFramePr/>
          <p:nvPr/>
        </p:nvGraphicFramePr>
        <p:xfrm>
          <a:off x="282600" y="1579680"/>
          <a:ext cx="5616720" cy="101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Объект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2600" y="1579680"/>
                    <a:ext cx="5616720" cy="10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2" name="Объект 9"/>
          <p:cNvGraphicFramePr/>
          <p:nvPr/>
        </p:nvGraphicFramePr>
        <p:xfrm>
          <a:off x="252360" y="3284640"/>
          <a:ext cx="3764160" cy="203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Объект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2360" y="3284640"/>
                    <a:ext cx="3764160" cy="20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Стрелка вниз 10"/>
          <p:cNvSpPr/>
          <p:nvPr/>
        </p:nvSpPr>
        <p:spPr>
          <a:xfrm rot="3063000">
            <a:off x="3180600" y="2413800"/>
            <a:ext cx="142560" cy="1116000"/>
          </a:xfrm>
          <a:prstGeom prst="downArrow">
            <a:avLst>
              <a:gd name="adj1" fmla="val 50000"/>
              <a:gd name="adj2" fmla="val 50123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трелка вниз 14"/>
          <p:cNvSpPr/>
          <p:nvPr/>
        </p:nvSpPr>
        <p:spPr>
          <a:xfrm rot="19248600">
            <a:off x="5232240" y="2606400"/>
            <a:ext cx="144720" cy="1224000"/>
          </a:xfrm>
          <a:prstGeom prst="downArrow">
            <a:avLst>
              <a:gd name="adj1" fmla="val 50000"/>
              <a:gd name="adj2" fmla="val 49924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Овал 17"/>
          <p:cNvSpPr/>
          <p:nvPr/>
        </p:nvSpPr>
        <p:spPr>
          <a:xfrm>
            <a:off x="4405320" y="3738600"/>
            <a:ext cx="4032360" cy="1403280"/>
          </a:xfrm>
          <a:prstGeom prst="ellipse">
            <a:avLst/>
          </a:prstGeom>
          <a:solidFill>
            <a:srgbClr val="fef0d7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Объект 18"/>
          <p:cNvGraphicFramePr/>
          <p:nvPr/>
        </p:nvGraphicFramePr>
        <p:xfrm>
          <a:off x="4533840" y="4022640"/>
          <a:ext cx="37767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Объект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3840" y="4022640"/>
                    <a:ext cx="37767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Стрелка вниз 19"/>
          <p:cNvSpPr/>
          <p:nvPr/>
        </p:nvSpPr>
        <p:spPr>
          <a:xfrm flipH="1" rot="14172000">
            <a:off x="6225120" y="1553760"/>
            <a:ext cx="144360" cy="934920"/>
          </a:xfrm>
          <a:prstGeom prst="downArrow">
            <a:avLst>
              <a:gd name="adj1" fmla="val 50000"/>
              <a:gd name="adj2" fmla="val 50041"/>
            </a:avLst>
          </a:prstGeom>
          <a:solidFill>
            <a:srgbClr val="cf96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Овал 21"/>
          <p:cNvSpPr/>
          <p:nvPr/>
        </p:nvSpPr>
        <p:spPr>
          <a:xfrm>
            <a:off x="6568920" y="1041480"/>
            <a:ext cx="2087640" cy="914400"/>
          </a:xfrm>
          <a:prstGeom prst="ellipse">
            <a:avLst/>
          </a:prstGeom>
          <a:solidFill>
            <a:srgbClr val="fef0d7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Объект 22"/>
          <p:cNvGraphicFramePr/>
          <p:nvPr/>
        </p:nvGraphicFramePr>
        <p:xfrm>
          <a:off x="6902280" y="1101600"/>
          <a:ext cx="1420920" cy="792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Объект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02280" y="1101600"/>
                    <a:ext cx="142092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181080" y="189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404" name="Объект 6"/>
          <p:cNvGraphicFramePr/>
          <p:nvPr/>
        </p:nvGraphicFramePr>
        <p:xfrm>
          <a:off x="1547640" y="333360"/>
          <a:ext cx="453420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33360"/>
                    <a:ext cx="45342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Объект 7"/>
          <p:cNvGraphicFramePr/>
          <p:nvPr/>
        </p:nvGraphicFramePr>
        <p:xfrm>
          <a:off x="1765440" y="1484280"/>
          <a:ext cx="375732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7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5440" y="1484280"/>
                    <a:ext cx="37573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8"/>
          <p:cNvGraphicFramePr/>
          <p:nvPr/>
        </p:nvGraphicFramePr>
        <p:xfrm>
          <a:off x="611280" y="2708280"/>
          <a:ext cx="628632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708280"/>
                    <a:ext cx="62863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Box 9"/>
          <p:cNvSpPr/>
          <p:nvPr/>
        </p:nvSpPr>
        <p:spPr>
          <a:xfrm>
            <a:off x="548280" y="40766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под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Объект 10"/>
          <p:cNvGraphicFramePr/>
          <p:nvPr/>
        </p:nvGraphicFramePr>
        <p:xfrm>
          <a:off x="684360" y="4646520"/>
          <a:ext cx="6067440" cy="93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2" name="Объект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4646520"/>
                    <a:ext cx="606744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TextBox 11"/>
          <p:cNvSpPr/>
          <p:nvPr/>
        </p:nvSpPr>
        <p:spPr>
          <a:xfrm>
            <a:off x="762480" y="595008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Объект 12"/>
          <p:cNvGraphicFramePr/>
          <p:nvPr/>
        </p:nvGraphicFramePr>
        <p:xfrm>
          <a:off x="2836800" y="5808600"/>
          <a:ext cx="451476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5" name="Объект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36800" y="5808600"/>
                    <a:ext cx="451476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79200" y="469800"/>
            <a:ext cx="8931600" cy="951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1557360"/>
            <a:ext cx="8532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4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rebuchet MS"/>
              </a:rPr>
              <a:t>Теорема.  </a:t>
            </a:r>
            <a:r>
              <a:rPr b="0" i="1" lang="ru-RU" sz="2400" spc="-1" strike="noStrike">
                <a:solidFill>
                  <a:srgbClr val="a50021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Пусть функции                и                   дифференцируемы на некотором промежутке               и пусть на                     функция                          имеет первообразную. Тогда на интервале                                           также   имеет   первообразную,   т.е. существует                                                                                      , 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при этом имеет место следующее равенство: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2060"/>
                </a:solidFill>
                <a:latin typeface="Trebuchet MS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-250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4284720" y="1628640"/>
                <a:ext cx="9428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6"/>
              <p:cNvSpPr txBox="1"/>
              <p:nvPr/>
            </p:nvSpPr>
            <p:spPr>
              <a:xfrm>
                <a:off x="5869080" y="3141720"/>
                <a:ext cx="698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8"/>
              <p:cNvSpPr txBox="1"/>
              <p:nvPr/>
            </p:nvSpPr>
            <p:spPr>
              <a:xfrm>
                <a:off x="7524720" y="2276640"/>
                <a:ext cx="793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5940360" y="2708280"/>
                <a:ext cx="1166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11"/>
              <p:cNvSpPr txBox="1"/>
              <p:nvPr/>
            </p:nvSpPr>
            <p:spPr>
              <a:xfrm>
                <a:off x="2340000" y="2708280"/>
                <a:ext cx="8780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12"/>
              <p:cNvSpPr txBox="1"/>
              <p:nvPr/>
            </p:nvSpPr>
            <p:spPr>
              <a:xfrm>
                <a:off x="6805440" y="3141720"/>
                <a:ext cx="13971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13"/>
              <p:cNvSpPr txBox="1"/>
              <p:nvPr/>
            </p:nvSpPr>
            <p:spPr>
              <a:xfrm>
                <a:off x="2557440" y="4149720"/>
                <a:ext cx="180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14"/>
              <p:cNvSpPr txBox="1"/>
              <p:nvPr/>
            </p:nvSpPr>
            <p:spPr>
              <a:xfrm>
                <a:off x="1405080" y="5373720"/>
                <a:ext cx="619272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16"/>
              <p:cNvSpPr txBox="1"/>
              <p:nvPr/>
            </p:nvSpPr>
            <p:spPr>
              <a:xfrm>
                <a:off x="6156360" y="1557360"/>
                <a:ext cx="8776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81080" y="189000"/>
          <a:ext cx="8424720" cy="4032000"/>
        </p:xfrm>
        <a:graphic>
          <a:graphicData uri="http://schemas.openxmlformats.org/drawingml/2006/table">
            <a:tbl>
              <a:tblPr/>
              <a:tblGrid>
                <a:gridCol w="4211640"/>
                <a:gridCol w="4213080"/>
              </a:tblGrid>
              <a:tr h="171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Интеграл содержит вы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rebuchet MS"/>
                        </a:rPr>
                        <a:t>Тригонометрическая зам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77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17" name="Объект 6"/>
          <p:cNvGraphicFramePr/>
          <p:nvPr/>
        </p:nvGraphicFramePr>
        <p:xfrm>
          <a:off x="1620720" y="1989000"/>
          <a:ext cx="1403640" cy="6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98900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7"/>
          <p:cNvGraphicFramePr/>
          <p:nvPr/>
        </p:nvGraphicFramePr>
        <p:xfrm>
          <a:off x="1620720" y="2781360"/>
          <a:ext cx="1403640" cy="6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0" name="Объект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720" y="2781360"/>
                    <a:ext cx="140364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8"/>
          <p:cNvGraphicFramePr/>
          <p:nvPr/>
        </p:nvGraphicFramePr>
        <p:xfrm>
          <a:off x="1620720" y="3500280"/>
          <a:ext cx="1433520" cy="67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2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20720" y="3500280"/>
                    <a:ext cx="143352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Объект 9"/>
          <p:cNvGraphicFramePr/>
          <p:nvPr/>
        </p:nvGraphicFramePr>
        <p:xfrm>
          <a:off x="5076720" y="1989000"/>
          <a:ext cx="191160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4" name="Объект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1989000"/>
                    <a:ext cx="1911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Объект 10"/>
          <p:cNvGraphicFramePr/>
          <p:nvPr/>
        </p:nvGraphicFramePr>
        <p:xfrm>
          <a:off x="5221440" y="2852640"/>
          <a:ext cx="16938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6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21440" y="2852640"/>
                    <a:ext cx="16938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Объект 11"/>
          <p:cNvGraphicFramePr/>
          <p:nvPr/>
        </p:nvGraphicFramePr>
        <p:xfrm>
          <a:off x="5148360" y="3573360"/>
          <a:ext cx="2163600" cy="576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8" name="Объект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8360" y="3573360"/>
                    <a:ext cx="21636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TextBox 12"/>
          <p:cNvSpPr/>
          <p:nvPr/>
        </p:nvSpPr>
        <p:spPr>
          <a:xfrm>
            <a:off x="482760" y="443700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Объект 13"/>
          <p:cNvGraphicFramePr/>
          <p:nvPr/>
        </p:nvGraphicFramePr>
        <p:xfrm>
          <a:off x="2889360" y="4149720"/>
          <a:ext cx="2030400" cy="1042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31" name="Объект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89360" y="4149720"/>
                    <a:ext cx="20304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TextBox 14"/>
          <p:cNvSpPr/>
          <p:nvPr/>
        </p:nvSpPr>
        <p:spPr>
          <a:xfrm>
            <a:off x="620640" y="51577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заме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Объект 15"/>
          <p:cNvGraphicFramePr/>
          <p:nvPr/>
        </p:nvGraphicFramePr>
        <p:xfrm>
          <a:off x="4356000" y="5156280"/>
          <a:ext cx="1540080" cy="504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34" name="Объект 1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56000" y="5156280"/>
                    <a:ext cx="154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16"/>
          <p:cNvGraphicFramePr/>
          <p:nvPr/>
        </p:nvGraphicFramePr>
        <p:xfrm>
          <a:off x="5918040" y="4908600"/>
          <a:ext cx="2359080" cy="1041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36" name="Объект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918040" y="4908600"/>
                    <a:ext cx="23590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Объект 17"/>
          <p:cNvGraphicFramePr/>
          <p:nvPr/>
        </p:nvGraphicFramePr>
        <p:xfrm>
          <a:off x="514440" y="5732640"/>
          <a:ext cx="5297400" cy="973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38" name="Объект 17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4440" y="5732640"/>
                    <a:ext cx="529740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Объект 6"/>
          <p:cNvGraphicFramePr/>
          <p:nvPr/>
        </p:nvGraphicFramePr>
        <p:xfrm>
          <a:off x="539640" y="404640"/>
          <a:ext cx="5856480" cy="22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04640"/>
                    <a:ext cx="5856480" cy="22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1" name="Группа 22"/>
          <p:cNvGrpSpPr/>
          <p:nvPr/>
        </p:nvGrpSpPr>
        <p:grpSpPr>
          <a:xfrm>
            <a:off x="647640" y="2906640"/>
            <a:ext cx="4149720" cy="1692360"/>
            <a:chOff x="647640" y="2906640"/>
            <a:chExt cx="4149720" cy="1692360"/>
          </a:xfrm>
        </p:grpSpPr>
        <p:grpSp>
          <p:nvGrpSpPr>
            <p:cNvPr id="442" name="Группа 7"/>
            <p:cNvGrpSpPr/>
            <p:nvPr/>
          </p:nvGrpSpPr>
          <p:grpSpPr>
            <a:xfrm>
              <a:off x="971280" y="2906640"/>
              <a:ext cx="3826080" cy="1692360"/>
              <a:chOff x="971280" y="2906640"/>
              <a:chExt cx="3826080" cy="1692360"/>
            </a:xfrm>
          </p:grpSpPr>
          <p:sp>
            <p:nvSpPr>
              <p:cNvPr id="443" name="Прямая соединительная линия 8"/>
              <p:cNvSpPr/>
              <p:nvPr/>
            </p:nvSpPr>
            <p:spPr>
              <a:xfrm>
                <a:off x="1042560" y="2906640"/>
                <a:ext cx="0" cy="169236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Прямая соединительная линия 9"/>
              <p:cNvSpPr/>
              <p:nvPr/>
            </p:nvSpPr>
            <p:spPr>
              <a:xfrm>
                <a:off x="971280" y="4599000"/>
                <a:ext cx="3745440" cy="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Прямая соединительная линия 10"/>
              <p:cNvSpPr/>
              <p:nvPr/>
            </p:nvSpPr>
            <p:spPr>
              <a:xfrm>
                <a:off x="1053720" y="2906640"/>
                <a:ext cx="3743640" cy="1692360"/>
              </a:xfrm>
              <a:prstGeom prst="line">
                <a:avLst/>
              </a:prstGeom>
              <a:ln w="93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46" name="Объект 11"/>
              <p:cNvGraphicFramePr/>
              <p:nvPr/>
            </p:nvGraphicFramePr>
            <p:xfrm>
              <a:off x="2700360" y="3199680"/>
              <a:ext cx="1045800" cy="5529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47" name="Объект 11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700360" y="3199680"/>
                        <a:ext cx="1045800" cy="552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448" name="Объект 12"/>
            <p:cNvGraphicFramePr/>
            <p:nvPr/>
          </p:nvGraphicFramePr>
          <p:xfrm>
            <a:off x="3492720" y="4130640"/>
            <a:ext cx="396720" cy="468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49" name="Объект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720" y="4130640"/>
                      <a:ext cx="396720" cy="46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0" name="TextBox 13"/>
            <p:cNvSpPr/>
            <p:nvPr/>
          </p:nvSpPr>
          <p:spPr>
            <a:xfrm>
              <a:off x="2203200" y="4077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1" name="Объект 14"/>
            <p:cNvGraphicFramePr/>
            <p:nvPr/>
          </p:nvGraphicFramePr>
          <p:xfrm>
            <a:off x="647640" y="3673800"/>
            <a:ext cx="255600" cy="338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52" name="Объект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47640" y="3673800"/>
                      <a:ext cx="2556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3" name="Объект 15"/>
          <p:cNvGraphicFramePr/>
          <p:nvPr/>
        </p:nvGraphicFramePr>
        <p:xfrm>
          <a:off x="5797440" y="2401920"/>
          <a:ext cx="154008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4" name="Объект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97440" y="2401920"/>
                    <a:ext cx="1540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Объект 16"/>
          <p:cNvGraphicFramePr/>
          <p:nvPr/>
        </p:nvGraphicFramePr>
        <p:xfrm>
          <a:off x="5437080" y="3068640"/>
          <a:ext cx="2451240" cy="1073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6" name="Объект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7080" y="3068640"/>
                    <a:ext cx="245124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Прямоугольник 17"/>
          <p:cNvSpPr/>
          <p:nvPr/>
        </p:nvSpPr>
        <p:spPr>
          <a:xfrm>
            <a:off x="2531880" y="522936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Обратная подстанов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Объект 19"/>
          <p:cNvGraphicFramePr/>
          <p:nvPr/>
        </p:nvGraphicFramePr>
        <p:xfrm>
          <a:off x="5797440" y="4908600"/>
          <a:ext cx="2487600" cy="1054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9" name="Объект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97440" y="4908600"/>
                    <a:ext cx="24876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Прямоугольник 20"/>
          <p:cNvSpPr/>
          <p:nvPr/>
        </p:nvSpPr>
        <p:spPr>
          <a:xfrm>
            <a:off x="618120" y="609300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0f17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Объект 21"/>
          <p:cNvGraphicFramePr/>
          <p:nvPr/>
        </p:nvGraphicFramePr>
        <p:xfrm>
          <a:off x="2200320" y="5619600"/>
          <a:ext cx="1812960" cy="1054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2" name="Объект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00320" y="5619600"/>
                    <a:ext cx="181296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5"/>
          <p:cNvSpPr/>
          <p:nvPr/>
        </p:nvSpPr>
        <p:spPr>
          <a:xfrm>
            <a:off x="338400" y="23184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4" name="Объект 6"/>
          <p:cNvGraphicFramePr/>
          <p:nvPr/>
        </p:nvGraphicFramePr>
        <p:xfrm>
          <a:off x="2746440" y="171360"/>
          <a:ext cx="1806480" cy="10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440" y="171360"/>
                    <a:ext cx="180648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Прямоугольник 8"/>
          <p:cNvSpPr/>
          <p:nvPr/>
        </p:nvSpPr>
        <p:spPr>
          <a:xfrm>
            <a:off x="661320" y="16714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c1f34"/>
                </a:solidFill>
                <a:latin typeface="Times New Roman"/>
                <a:ea typeface="Times New Roman"/>
              </a:rPr>
              <a:t>Решение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елаем заме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Объект 9"/>
          <p:cNvGraphicFramePr/>
          <p:nvPr/>
        </p:nvGraphicFramePr>
        <p:xfrm>
          <a:off x="5005440" y="498600"/>
          <a:ext cx="3567240" cy="20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8" name="Объект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5440" y="498600"/>
                    <a:ext cx="35672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9" name="Группа 10" descr=""/>
          <p:cNvPicPr/>
          <p:nvPr/>
        </p:nvPicPr>
        <p:blipFill>
          <a:blip r:embed="rId5"/>
          <a:stretch/>
        </p:blipFill>
        <p:spPr>
          <a:xfrm>
            <a:off x="182520" y="2341440"/>
            <a:ext cx="4621320" cy="177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0" name="Объект 19"/>
          <p:cNvGraphicFramePr/>
          <p:nvPr/>
        </p:nvGraphicFramePr>
        <p:xfrm>
          <a:off x="4032360" y="2822400"/>
          <a:ext cx="4703760" cy="1008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Объект 1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2360" y="2822400"/>
                    <a:ext cx="47037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2" name="TextBox 20"/>
          <p:cNvSpPr/>
          <p:nvPr/>
        </p:nvSpPr>
        <p:spPr>
          <a:xfrm>
            <a:off x="388080" y="469584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Объект 21"/>
          <p:cNvGraphicFramePr/>
          <p:nvPr/>
        </p:nvGraphicFramePr>
        <p:xfrm>
          <a:off x="2482920" y="4437000"/>
          <a:ext cx="5745240" cy="1440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4" name="Объект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82920" y="4437000"/>
                    <a:ext cx="574524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Объект 22"/>
          <p:cNvGraphicFramePr/>
          <p:nvPr/>
        </p:nvGraphicFramePr>
        <p:xfrm>
          <a:off x="396720" y="5661000"/>
          <a:ext cx="2730600" cy="9223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76" name="Объект 2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96720" y="5661000"/>
                    <a:ext cx="273060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Стрелка вниз 23"/>
          <p:cNvSpPr/>
          <p:nvPr/>
        </p:nvSpPr>
        <p:spPr>
          <a:xfrm rot="13978200">
            <a:off x="4536000" y="1161000"/>
            <a:ext cx="180720" cy="90000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Стрелка вниз 24"/>
          <p:cNvSpPr/>
          <p:nvPr/>
        </p:nvSpPr>
        <p:spPr>
          <a:xfrm>
            <a:off x="7273800" y="2421000"/>
            <a:ext cx="142920" cy="36036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5"/>
          <p:cNvSpPr/>
          <p:nvPr/>
        </p:nvSpPr>
        <p:spPr>
          <a:xfrm>
            <a:off x="6059880" y="606420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Объект 26"/>
          <p:cNvGraphicFramePr/>
          <p:nvPr/>
        </p:nvGraphicFramePr>
        <p:xfrm>
          <a:off x="7164360" y="5834160"/>
          <a:ext cx="1333440" cy="92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1" name="Объект 2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164360" y="5834160"/>
                    <a:ext cx="133344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Заголовок 1" descr=""/>
          <p:cNvPicPr/>
          <p:nvPr/>
        </p:nvPicPr>
        <p:blipFill>
          <a:blip r:embed="rId1"/>
          <a:stretch/>
        </p:blipFill>
        <p:spPr>
          <a:xfrm>
            <a:off x="480960" y="1395360"/>
            <a:ext cx="8759880" cy="11764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068720" y="3938760"/>
            <a:ext cx="42991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488c5"/>
                </a:solidFill>
                <a:latin typeface="Trebuchet MS"/>
              </a:rPr>
              <a:t>Лекция 11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Rectangle 8" descr=""/>
          <p:cNvPicPr/>
          <p:nvPr/>
        </p:nvPicPr>
        <p:blipFill>
          <a:blip r:embed="rId1"/>
          <a:stretch/>
        </p:blipFill>
        <p:spPr>
          <a:xfrm>
            <a:off x="324000" y="255600"/>
            <a:ext cx="8899200" cy="738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252000" y="1143000"/>
            <a:ext cx="8209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1.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ой дробью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дробь вида </a:t>
            </a:r>
            <a:r>
              <a:rPr b="0" lang="en-US" sz="2600" spc="-1" strike="noStrike">
                <a:solidFill>
                  <a:srgbClr val="002060"/>
                </a:solidFill>
                <a:latin typeface="Trebuchet MS"/>
              </a:rPr>
              <a:t>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                                         </a:t>
            </a: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где                           - многочлены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i="1" lang="ru-RU" sz="2600" spc="-1" strike="noStrike">
                <a:solidFill>
                  <a:srgbClr val="a50021"/>
                </a:solidFill>
                <a:latin typeface="Trebuchet MS"/>
              </a:rPr>
              <a:t>Определение 2. </a:t>
            </a:r>
            <a:r>
              <a:rPr b="0" i="1" lang="ru-RU" sz="2600" spc="-1" strike="noStrike">
                <a:solidFill>
                  <a:srgbClr val="002060"/>
                </a:solidFill>
                <a:latin typeface="Trebuchet MS"/>
              </a:rPr>
              <a:t>Рациональная дробь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называется правильной, если степень многочлена        ниже степени многочлена           , в противном случае дробь называется неправильн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Object 10"/>
              <p:cNvSpPr txBox="1"/>
              <p:nvPr/>
            </p:nvSpPr>
            <p:spPr>
              <a:xfrm>
                <a:off x="2700360" y="1989000"/>
                <a:ext cx="13748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Object 7"/>
              <p:cNvSpPr txBox="1"/>
              <p:nvPr/>
            </p:nvSpPr>
            <p:spPr>
              <a:xfrm>
                <a:off x="1260360" y="2997360"/>
                <a:ext cx="21430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Object 8"/>
              <p:cNvSpPr txBox="1"/>
              <p:nvPr/>
            </p:nvSpPr>
            <p:spPr>
              <a:xfrm>
                <a:off x="6661080" y="4365720"/>
                <a:ext cx="928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Object 9"/>
              <p:cNvSpPr txBox="1"/>
              <p:nvPr/>
            </p:nvSpPr>
            <p:spPr>
              <a:xfrm>
                <a:off x="4068720" y="4797360"/>
                <a:ext cx="10098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Rectangle 2" descr=""/>
          <p:cNvPicPr/>
          <p:nvPr/>
        </p:nvPicPr>
        <p:blipFill>
          <a:blip r:embed="rId1"/>
          <a:stretch/>
        </p:blipFill>
        <p:spPr>
          <a:xfrm>
            <a:off x="665280" y="480960"/>
            <a:ext cx="7729560" cy="433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-360" y="714240"/>
            <a:ext cx="838980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Во всех четырех случаях   </a:t>
            </a:r>
            <a:r>
              <a:rPr b="0" i="1" lang="ru-RU" sz="2800" spc="-1" strike="noStrike">
                <a:solidFill>
                  <a:srgbClr val="3b142a"/>
                </a:solidFill>
                <a:latin typeface="Trebuchet MS"/>
              </a:rPr>
              <a:t>А,</a:t>
            </a:r>
            <a:r>
              <a:rPr b="0" i="1" lang="en-US" sz="2800" spc="-1" strike="noStrike">
                <a:solidFill>
                  <a:srgbClr val="3b142a"/>
                </a:solidFill>
                <a:latin typeface="Trebuchet MS"/>
              </a:rPr>
              <a:t> B, p, q, a  </a:t>
            </a:r>
            <a:r>
              <a:rPr b="0" lang="en-US" sz="2800" spc="-1" strike="noStrike">
                <a:solidFill>
                  <a:srgbClr val="3b142a"/>
                </a:solidFill>
                <a:latin typeface="Trebuchet MS"/>
              </a:rPr>
              <a:t>-</a:t>
            </a:r>
            <a:r>
              <a:rPr b="0" lang="ru-RU" sz="2800" spc="-1" strike="noStrike">
                <a:solidFill>
                  <a:srgbClr val="3b142a"/>
                </a:solidFill>
                <a:latin typeface="Trebuchet MS"/>
              </a:rPr>
              <a:t>действительные числа.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Object 10"/>
              <p:cNvSpPr txBox="1"/>
              <p:nvPr/>
            </p:nvSpPr>
            <p:spPr>
              <a:xfrm>
                <a:off x="612720" y="981000"/>
                <a:ext cx="147816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Object 6"/>
              <p:cNvSpPr txBox="1"/>
              <p:nvPr/>
            </p:nvSpPr>
            <p:spPr>
              <a:xfrm>
                <a:off x="612720" y="1766880"/>
                <a:ext cx="7791480" cy="28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цело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большее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единицы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x</m:t>
                            </m:r>
                            <m:r>
                              <m:t xml:space="preserve">+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q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r>
                          <m:t xml:space="preserve"> </m:t>
                        </m:r>
                        <m:f>
                          <m:num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Rectangle 2" descr=""/>
          <p:cNvPicPr/>
          <p:nvPr/>
        </p:nvPicPr>
        <p:blipFill>
          <a:blip r:embed="rId1"/>
          <a:stretch/>
        </p:blipFill>
        <p:spPr>
          <a:xfrm>
            <a:off x="665280" y="219240"/>
            <a:ext cx="7729560" cy="7682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23640" y="1052640"/>
            <a:ext cx="80658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497" name="Прямоугольник 5"/>
          <p:cNvSpPr/>
          <p:nvPr/>
        </p:nvSpPr>
        <p:spPr>
          <a:xfrm>
            <a:off x="252360" y="126828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ед интегрированием рациона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роби    надо сделать следующие алгебраические преобразования  и  вычис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Если дана неправильная рациональная дробь, то выделить из нее целую часть, т.е представить в виде                                                                        многочлен, а                правильная рациональная дроб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Object 10"/>
              <p:cNvSpPr txBox="1"/>
              <p:nvPr/>
            </p:nvSpPr>
            <p:spPr>
              <a:xfrm>
                <a:off x="2124000" y="1844640"/>
                <a:ext cx="12240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Object 7"/>
              <p:cNvSpPr txBox="1"/>
              <p:nvPr/>
            </p:nvSpPr>
            <p:spPr>
              <a:xfrm>
                <a:off x="1836720" y="3933720"/>
                <a:ext cx="504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Object 6"/>
              <p:cNvSpPr txBox="1"/>
              <p:nvPr/>
            </p:nvSpPr>
            <p:spPr>
              <a:xfrm>
                <a:off x="3060720" y="4581360"/>
                <a:ext cx="1008000" cy="8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0658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  <a:p>
            <a:pPr lvl="3" marL="1257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c6c6c"/>
                </a:solidFill>
                <a:latin typeface="Trebuchet MS"/>
              </a:rPr>
              <a:t>                                              </a:t>
            </a:r>
            <a:endParaRPr b="0" lang="en-US" sz="28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502" name="Прямоугольник 8"/>
          <p:cNvSpPr/>
          <p:nvPr/>
        </p:nvSpPr>
        <p:spPr>
          <a:xfrm>
            <a:off x="324000" y="527040"/>
            <a:ext cx="8208720" cy="67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азложить знаменатель дроби на линейные и квадратичные множит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авильную рациональную дробь разложить на простейшие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8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50000"/>
              </a:lnSpc>
              <a:buClr>
                <a:srgbClr val="00206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 результате интегрирование рациональной дроби сведется к нахождению интегралов от многочлена и от простейших рациональных д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4"/>
          <p:cNvSpPr/>
          <p:nvPr/>
        </p:nvSpPr>
        <p:spPr>
          <a:xfrm>
            <a:off x="56520" y="189000"/>
            <a:ext cx="83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 вычислении интеграла от  правильной дроб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азложение будет включать следующие выраже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Объект 5"/>
          <p:cNvGraphicFramePr/>
          <p:nvPr/>
        </p:nvGraphicFramePr>
        <p:xfrm>
          <a:off x="757080" y="1454040"/>
          <a:ext cx="5229360" cy="9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1454040"/>
                    <a:ext cx="52293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Объект 6"/>
          <p:cNvGraphicFramePr/>
          <p:nvPr/>
        </p:nvGraphicFramePr>
        <p:xfrm>
          <a:off x="757080" y="2637000"/>
          <a:ext cx="7307280" cy="97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7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080" y="2637000"/>
                    <a:ext cx="730728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8" name="Объект 8"/>
          <p:cNvGraphicFramePr/>
          <p:nvPr/>
        </p:nvGraphicFramePr>
        <p:xfrm>
          <a:off x="444600" y="3903840"/>
          <a:ext cx="8445240" cy="241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9" name="Объект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600" y="3903840"/>
                    <a:ext cx="8445240" cy="24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311040" y="542880"/>
            <a:ext cx="8929800" cy="590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85640" y="1341000"/>
            <a:ext cx="8120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Даны  дифференцируемые функции       и        на некотором промежутке, тогда функция          также дифференцируема на этом промежутк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Интегрируя обе части выражения (*), получи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6589800" y="1413000"/>
                <a:ext cx="5331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7524720" y="1413000"/>
                <a:ext cx="4683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8"/>
              <p:cNvSpPr txBox="1"/>
              <p:nvPr/>
            </p:nvSpPr>
            <p:spPr>
              <a:xfrm>
                <a:off x="7021440" y="1871640"/>
                <a:ext cx="819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10"/>
              <p:cNvSpPr txBox="1"/>
              <p:nvPr/>
            </p:nvSpPr>
            <p:spPr>
              <a:xfrm>
                <a:off x="2629080" y="2492280"/>
                <a:ext cx="3041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e>
                        </m:d>
                      </m:e>
                      <m:sup>
                        <m:r>
                          <m:t xml:space="preserve">′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v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11"/>
              <p:cNvSpPr txBox="1"/>
              <p:nvPr/>
            </p:nvSpPr>
            <p:spPr>
              <a:xfrm>
                <a:off x="2340000" y="3882960"/>
                <a:ext cx="5030640" cy="27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u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v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′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⇒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u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0" name="Объект 4"/>
          <p:cNvGraphicFramePr/>
          <p:nvPr/>
        </p:nvGraphicFramePr>
        <p:xfrm>
          <a:off x="324000" y="44280"/>
          <a:ext cx="808992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4280"/>
                    <a:ext cx="8089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Стрелка вниз 5"/>
          <p:cNvSpPr/>
          <p:nvPr/>
        </p:nvSpPr>
        <p:spPr>
          <a:xfrm flipH="1" rot="3710400">
            <a:off x="2983320" y="830880"/>
            <a:ext cx="109440" cy="1180080"/>
          </a:xfrm>
          <a:prstGeom prst="downArrow">
            <a:avLst>
              <a:gd name="adj1" fmla="val 50000"/>
              <a:gd name="adj2" fmla="val 50071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6"/>
          <p:cNvGraphicFramePr/>
          <p:nvPr/>
        </p:nvGraphicFramePr>
        <p:xfrm>
          <a:off x="181080" y="1773360"/>
          <a:ext cx="257796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1080" y="1773360"/>
                    <a:ext cx="257796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25"/>
          <p:cNvGraphicFramePr/>
          <p:nvPr/>
        </p:nvGraphicFramePr>
        <p:xfrm>
          <a:off x="3159000" y="1747800"/>
          <a:ext cx="5453280" cy="104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6" name="Объект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9000" y="1747800"/>
                    <a:ext cx="545328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Стрелка вниз 26"/>
          <p:cNvSpPr/>
          <p:nvPr/>
        </p:nvSpPr>
        <p:spPr>
          <a:xfrm flipV="1" rot="8395800">
            <a:off x="6725160" y="874800"/>
            <a:ext cx="87120" cy="112392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28"/>
          <p:cNvSpPr/>
          <p:nvPr/>
        </p:nvSpPr>
        <p:spPr>
          <a:xfrm>
            <a:off x="2886120" y="1844640"/>
            <a:ext cx="0" cy="2232000"/>
          </a:xfrm>
          <a:prstGeom prst="line">
            <a:avLst/>
          </a:prstGeom>
          <a:ln w="3168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вал 30"/>
          <p:cNvSpPr/>
          <p:nvPr/>
        </p:nvSpPr>
        <p:spPr>
          <a:xfrm>
            <a:off x="4176720" y="2997360"/>
            <a:ext cx="3924360" cy="104292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Объект 31"/>
          <p:cNvGraphicFramePr/>
          <p:nvPr/>
        </p:nvGraphicFramePr>
        <p:xfrm>
          <a:off x="4632480" y="3213000"/>
          <a:ext cx="310824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1" name="Объект 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2480" y="3213000"/>
                    <a:ext cx="31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Объект 32"/>
          <p:cNvGraphicFramePr/>
          <p:nvPr/>
        </p:nvGraphicFramePr>
        <p:xfrm>
          <a:off x="108000" y="4292640"/>
          <a:ext cx="8448480" cy="1154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3" name="Объект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000" y="4292640"/>
                    <a:ext cx="844848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Объект 33"/>
          <p:cNvGraphicFramePr/>
          <p:nvPr/>
        </p:nvGraphicFramePr>
        <p:xfrm>
          <a:off x="36360" y="5516640"/>
          <a:ext cx="5073840" cy="119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25" name="Объект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60" y="5516640"/>
                    <a:ext cx="50738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Овал 34"/>
          <p:cNvSpPr/>
          <p:nvPr/>
        </p:nvSpPr>
        <p:spPr>
          <a:xfrm>
            <a:off x="5221440" y="5516640"/>
            <a:ext cx="2700360" cy="90000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Объект 35"/>
          <p:cNvGraphicFramePr/>
          <p:nvPr/>
        </p:nvGraphicFramePr>
        <p:xfrm>
          <a:off x="5724360" y="5661000"/>
          <a:ext cx="169092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28" name="Объект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24360" y="5661000"/>
                    <a:ext cx="1690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Стрелка вниз 36"/>
          <p:cNvSpPr/>
          <p:nvPr/>
        </p:nvSpPr>
        <p:spPr>
          <a:xfrm flipH="1" flipV="1" rot="4368000">
            <a:off x="3214440" y="3089520"/>
            <a:ext cx="127080" cy="17636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Объект 1"/>
          <p:cNvGraphicFramePr/>
          <p:nvPr/>
        </p:nvGraphicFramePr>
        <p:xfrm>
          <a:off x="324000" y="482760"/>
          <a:ext cx="8089920" cy="114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82760"/>
                    <a:ext cx="808992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2" name="Объект 2"/>
          <p:cNvGraphicFramePr/>
          <p:nvPr/>
        </p:nvGraphicFramePr>
        <p:xfrm>
          <a:off x="382680" y="2517840"/>
          <a:ext cx="77184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3" name="Объект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680" y="2517840"/>
                    <a:ext cx="77184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Прямоугольник 1"/>
          <p:cNvSpPr/>
          <p:nvPr/>
        </p:nvSpPr>
        <p:spPr>
          <a:xfrm>
            <a:off x="332280" y="10800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р 1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2"/>
          <p:cNvSpPr/>
          <p:nvPr/>
        </p:nvSpPr>
        <p:spPr>
          <a:xfrm>
            <a:off x="1852200" y="11592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09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Объект 3"/>
          <p:cNvGraphicFramePr/>
          <p:nvPr/>
        </p:nvGraphicFramePr>
        <p:xfrm>
          <a:off x="368280" y="606600"/>
          <a:ext cx="8001000" cy="14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606600"/>
                    <a:ext cx="8001000" cy="14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Овал 5"/>
          <p:cNvSpPr/>
          <p:nvPr/>
        </p:nvSpPr>
        <p:spPr>
          <a:xfrm>
            <a:off x="3852720" y="1844640"/>
            <a:ext cx="3961080" cy="914400"/>
          </a:xfrm>
          <a:prstGeom prst="ellipse">
            <a:avLst/>
          </a:prstGeom>
          <a:solidFill>
            <a:srgbClr val="fde2b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Объект 6"/>
          <p:cNvGraphicFramePr/>
          <p:nvPr/>
        </p:nvGraphicFramePr>
        <p:xfrm>
          <a:off x="4108320" y="2060640"/>
          <a:ext cx="348948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0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8320" y="2060640"/>
                    <a:ext cx="348948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Стрелка вниз 7"/>
          <p:cNvSpPr/>
          <p:nvPr/>
        </p:nvSpPr>
        <p:spPr>
          <a:xfrm flipV="1" rot="8395800">
            <a:off x="5221080" y="1189800"/>
            <a:ext cx="74520" cy="876240"/>
          </a:xfrm>
          <a:prstGeom prst="downArrow">
            <a:avLst>
              <a:gd name="adj1" fmla="val 50000"/>
              <a:gd name="adj2" fmla="val 50082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496800" y="2606760"/>
            <a:ext cx="43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ример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2.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йти интеграл: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Объект 10"/>
          <p:cNvGraphicFramePr/>
          <p:nvPr/>
        </p:nvGraphicFramePr>
        <p:xfrm>
          <a:off x="328680" y="3213000"/>
          <a:ext cx="7792920" cy="124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4" name="Объект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680" y="3213000"/>
                    <a:ext cx="779292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Объект 11"/>
          <p:cNvGraphicFramePr/>
          <p:nvPr/>
        </p:nvGraphicFramePr>
        <p:xfrm>
          <a:off x="396720" y="4508640"/>
          <a:ext cx="4950000" cy="87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6" name="Объект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4508640"/>
                    <a:ext cx="495000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Прямоугольник 12"/>
          <p:cNvSpPr/>
          <p:nvPr/>
        </p:nvSpPr>
        <p:spPr>
          <a:xfrm>
            <a:off x="3206880" y="551664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Объект 13"/>
          <p:cNvGraphicFramePr/>
          <p:nvPr/>
        </p:nvGraphicFramePr>
        <p:xfrm>
          <a:off x="4789440" y="5300640"/>
          <a:ext cx="3111480" cy="87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9" name="Объект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9440" y="5300640"/>
                    <a:ext cx="31114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85280" y="404280"/>
            <a:ext cx="7975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</a:t>
            </a:r>
            <a:r>
              <a:rPr b="1" lang="en-US" sz="2600" spc="-1" strike="noStrike">
                <a:solidFill>
                  <a:srgbClr val="a50021"/>
                </a:solidFill>
                <a:latin typeface="Trebuchet MS"/>
              </a:rPr>
              <a:t>3</a:t>
            </a: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Подынтегральная функция–правильная рациональная дробь. Представим ее в виде суммы простейших дробей, учитывая, что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ведем к общему знаменателю сумму дробей, стоящих в правой части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51" name="Рисунок 9" descr=""/>
          <p:cNvPicPr/>
          <p:nvPr/>
        </p:nvPicPr>
        <p:blipFill>
          <a:blip r:embed="rId1"/>
          <a:stretch/>
        </p:blipFill>
        <p:spPr>
          <a:xfrm>
            <a:off x="5148360" y="404640"/>
            <a:ext cx="2520720" cy="863640"/>
          </a:xfrm>
          <a:prstGeom prst="rect">
            <a:avLst/>
          </a:prstGeom>
          <a:ln w="0">
            <a:noFill/>
          </a:ln>
        </p:spPr>
      </p:pic>
      <p:pic>
        <p:nvPicPr>
          <p:cNvPr id="552" name="Рисунок 10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3168720" cy="72072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1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6337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0" dur="indefinite" restart="never" nodeType="tmRoot">
          <p:childTnLst>
            <p:seq>
              <p:cTn id="1021" dur="indefinite" nodeType="mainSeq">
                <p:childTnLst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5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4" name="Object 10"/>
              <p:cNvSpPr txBox="1"/>
              <p:nvPr/>
            </p:nvSpPr>
            <p:spPr>
              <a:xfrm>
                <a:off x="252360" y="404640"/>
                <a:ext cx="8310600" cy="18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x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12280" y="2111040"/>
            <a:ext cx="4348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иравняем числители дробей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-42840" y="2997360"/>
                <a:ext cx="87202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x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7"/>
              <p:cNvSpPr txBox="1"/>
              <p:nvPr/>
            </p:nvSpPr>
            <p:spPr>
              <a:xfrm>
                <a:off x="585720" y="3645000"/>
                <a:ext cx="382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8"/>
              <p:cNvSpPr txBox="1"/>
              <p:nvPr/>
            </p:nvSpPr>
            <p:spPr>
              <a:xfrm>
                <a:off x="4640400" y="3645000"/>
                <a:ext cx="3195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9"/>
              <p:cNvSpPr txBox="1"/>
              <p:nvPr/>
            </p:nvSpPr>
            <p:spPr>
              <a:xfrm>
                <a:off x="468360" y="4653000"/>
                <a:ext cx="477684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0" name="Object 11"/>
          <p:cNvGraphicFramePr/>
          <p:nvPr/>
        </p:nvGraphicFramePr>
        <p:xfrm>
          <a:off x="5041800" y="5064120"/>
          <a:ext cx="1474920" cy="89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1800" y="5064120"/>
                    <a:ext cx="147492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10"/>
          <p:cNvGraphicFramePr/>
          <p:nvPr/>
        </p:nvGraphicFramePr>
        <p:xfrm>
          <a:off x="982800" y="-108000"/>
          <a:ext cx="5879880" cy="33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-108000"/>
                    <a:ext cx="587988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4" name="Рисунок 11" descr=""/>
          <p:cNvPicPr/>
          <p:nvPr/>
        </p:nvPicPr>
        <p:blipFill>
          <a:blip r:embed="rId3"/>
          <a:stretch/>
        </p:blipFill>
        <p:spPr>
          <a:xfrm>
            <a:off x="5005440" y="3114720"/>
            <a:ext cx="1584360" cy="43344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2" descr=""/>
          <p:cNvPicPr/>
          <p:nvPr/>
        </p:nvPicPr>
        <p:blipFill>
          <a:blip r:embed="rId4"/>
          <a:stretch/>
        </p:blipFill>
        <p:spPr>
          <a:xfrm>
            <a:off x="6950160" y="3033720"/>
            <a:ext cx="1152360" cy="38736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3" descr=""/>
          <p:cNvPicPr/>
          <p:nvPr/>
        </p:nvPicPr>
        <p:blipFill>
          <a:blip r:embed="rId5"/>
          <a:stretch/>
        </p:blipFill>
        <p:spPr>
          <a:xfrm>
            <a:off x="6950160" y="3513240"/>
            <a:ext cx="1079280" cy="4698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4" descr=""/>
          <p:cNvPicPr/>
          <p:nvPr/>
        </p:nvPicPr>
        <p:blipFill>
          <a:blip r:embed="rId6"/>
          <a:stretch/>
        </p:blipFill>
        <p:spPr>
          <a:xfrm>
            <a:off x="757080" y="4508640"/>
            <a:ext cx="7199640" cy="1728720"/>
          </a:xfrm>
          <a:prstGeom prst="rect">
            <a:avLst/>
          </a:prstGeom>
          <a:ln w="0">
            <a:noFill/>
          </a:ln>
        </p:spPr>
      </p:pic>
      <p:sp>
        <p:nvSpPr>
          <p:cNvPr id="568" name="Стрелка вниз 7"/>
          <p:cNvSpPr/>
          <p:nvPr/>
        </p:nvSpPr>
        <p:spPr>
          <a:xfrm flipH="1" rot="14649600">
            <a:off x="3773880" y="2706480"/>
            <a:ext cx="34920" cy="2087640"/>
          </a:xfrm>
          <a:prstGeom prst="downArrow">
            <a:avLst>
              <a:gd name="adj1" fmla="val 50000"/>
              <a:gd name="adj2" fmla="val 50096"/>
            </a:avLst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8"/>
          <p:cNvSpPr/>
          <p:nvPr/>
        </p:nvSpPr>
        <p:spPr>
          <a:xfrm>
            <a:off x="900000" y="47628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9"/>
          <p:cNvSpPr/>
          <p:nvPr/>
        </p:nvSpPr>
        <p:spPr>
          <a:xfrm>
            <a:off x="684360" y="4581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Object 10"/>
              <p:cNvSpPr txBox="1"/>
              <p:nvPr/>
            </p:nvSpPr>
            <p:spPr>
              <a:xfrm>
                <a:off x="1941480" y="4122720"/>
                <a:ext cx="558324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Object 4"/>
              <p:cNvSpPr txBox="1"/>
              <p:nvPr/>
            </p:nvSpPr>
            <p:spPr>
              <a:xfrm>
                <a:off x="425520" y="1459080"/>
                <a:ext cx="6823080" cy="21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Прямоугольник 6" descr=""/>
          <p:cNvPicPr/>
          <p:nvPr/>
        </p:nvPicPr>
        <p:blipFill>
          <a:blip r:embed="rId1"/>
          <a:stretch/>
        </p:blipFill>
        <p:spPr>
          <a:xfrm>
            <a:off x="743040" y="1427040"/>
            <a:ext cx="70657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98240" y="691920"/>
            <a:ext cx="817884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Метод интегрирования по частям применяет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в следующих случаях: Подынтегральное выражени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имеет вид:  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Trebuchet MS"/>
              </a:rPr>
              <a:t>1.  Интеграл</a:t>
            </a:r>
            <a:r>
              <a:rPr b="0" lang="ru-RU" sz="2600" spc="-1" strike="noStrike">
                <a:solidFill>
                  <a:srgbClr val="002060"/>
                </a:solidFill>
                <a:latin typeface="Trebuchet MS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15"/>
              <p:cNvSpPr txBox="1"/>
              <p:nvPr/>
            </p:nvSpPr>
            <p:spPr>
              <a:xfrm>
                <a:off x="7023240" y="2630520"/>
                <a:ext cx="1267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250920" y="2708280"/>
          <a:ext cx="8281800" cy="3529080"/>
        </p:xfrm>
        <a:graphic>
          <a:graphicData uri="http://schemas.openxmlformats.org/drawingml/2006/table">
            <a:tbl>
              <a:tblPr/>
              <a:tblGrid>
                <a:gridCol w="2603520"/>
                <a:gridCol w="1735200"/>
                <a:gridCol w="2214360"/>
                <a:gridCol w="1728720"/>
              </a:tblGrid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4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Object 7"/>
              <p:cNvSpPr txBox="1"/>
              <p:nvPr/>
            </p:nvSpPr>
            <p:spPr>
              <a:xfrm>
                <a:off x="468360" y="3429000"/>
                <a:ext cx="2189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Object 8"/>
              <p:cNvSpPr txBox="1"/>
              <p:nvPr/>
            </p:nvSpPr>
            <p:spPr>
              <a:xfrm>
                <a:off x="396720" y="4149720"/>
                <a:ext cx="2121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9"/>
              <p:cNvSpPr txBox="1"/>
              <p:nvPr/>
            </p:nvSpPr>
            <p:spPr>
              <a:xfrm>
                <a:off x="468360" y="4869000"/>
                <a:ext cx="20034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10"/>
              <p:cNvSpPr txBox="1"/>
              <p:nvPr/>
            </p:nvSpPr>
            <p:spPr>
              <a:xfrm>
                <a:off x="468360" y="5516640"/>
                <a:ext cx="2062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11"/>
              <p:cNvSpPr txBox="1"/>
              <p:nvPr/>
            </p:nvSpPr>
            <p:spPr>
              <a:xfrm>
                <a:off x="3205080" y="2708280"/>
                <a:ext cx="86544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2"/>
              <p:cNvSpPr txBox="1"/>
              <p:nvPr/>
            </p:nvSpPr>
            <p:spPr>
              <a:xfrm>
                <a:off x="5148360" y="2781360"/>
                <a:ext cx="936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13"/>
              <p:cNvSpPr txBox="1"/>
              <p:nvPr/>
            </p:nvSpPr>
            <p:spPr>
              <a:xfrm>
                <a:off x="3348000" y="3429000"/>
                <a:ext cx="609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4"/>
              <p:cNvSpPr txBox="1"/>
              <p:nvPr/>
            </p:nvSpPr>
            <p:spPr>
              <a:xfrm>
                <a:off x="5221440" y="3500280"/>
                <a:ext cx="91116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8" name="Object 12"/>
          <p:cNvGraphicFramePr/>
          <p:nvPr/>
        </p:nvGraphicFramePr>
        <p:xfrm>
          <a:off x="5221440" y="4149720"/>
          <a:ext cx="10792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1440" y="4149720"/>
                    <a:ext cx="10792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0" name="Object 16"/>
              <p:cNvSpPr txBox="1"/>
              <p:nvPr/>
            </p:nvSpPr>
            <p:spPr>
              <a:xfrm>
                <a:off x="5234040" y="4905360"/>
                <a:ext cx="12110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7"/>
              <p:cNvSpPr txBox="1"/>
              <p:nvPr/>
            </p:nvSpPr>
            <p:spPr>
              <a:xfrm>
                <a:off x="5148360" y="5589720"/>
                <a:ext cx="12589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Объект 1"/>
              <p:cNvSpPr txBox="1"/>
              <p:nvPr/>
            </p:nvSpPr>
            <p:spPr>
              <a:xfrm>
                <a:off x="3348000" y="4149720"/>
                <a:ext cx="6094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Объект 2"/>
              <p:cNvSpPr txBox="1"/>
              <p:nvPr/>
            </p:nvSpPr>
            <p:spPr>
              <a:xfrm>
                <a:off x="3348000" y="4869000"/>
                <a:ext cx="6094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Объект 3"/>
              <p:cNvSpPr txBox="1"/>
              <p:nvPr/>
            </p:nvSpPr>
            <p:spPr>
              <a:xfrm>
                <a:off x="3384720" y="5516640"/>
                <a:ext cx="61272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02920" y="475920"/>
            <a:ext cx="889164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2. Интегра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3334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a50021"/>
                </a:solidFill>
                <a:latin typeface="Trebuchet MS"/>
              </a:rPr>
              <a:t>3</a:t>
            </a:r>
            <a:r>
              <a:rPr b="0" lang="ru-RU" sz="2800" spc="-1" strike="noStrike">
                <a:solidFill>
                  <a:srgbClr val="a50021"/>
                </a:solidFill>
                <a:latin typeface="Trebuchet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1" lang="ru-RU" sz="2800" spc="-1" strike="noStrike">
                <a:solidFill>
                  <a:srgbClr val="d490c5"/>
                </a:solidFill>
                <a:latin typeface="Trebuchet MS"/>
              </a:rPr>
              <a:t>- </a:t>
            </a:r>
            <a:r>
              <a:rPr b="1" lang="ru-RU" sz="2800" spc="-1" strike="noStrike" u="sng">
                <a:solidFill>
                  <a:srgbClr val="002060"/>
                </a:solidFill>
                <a:uFillTx/>
                <a:latin typeface="Trebuchet MS"/>
              </a:rPr>
              <a:t>циклическое интегрирова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15"/>
              <p:cNvSpPr txBox="1"/>
              <p:nvPr/>
            </p:nvSpPr>
            <p:spPr>
              <a:xfrm>
                <a:off x="7023240" y="2630520"/>
                <a:ext cx="126720" cy="1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7" name=""/>
          <p:cNvGraphicFramePr/>
          <p:nvPr/>
        </p:nvGraphicFramePr>
        <p:xfrm>
          <a:off x="252360" y="1125360"/>
          <a:ext cx="8209080" cy="2953080"/>
        </p:xfrm>
        <a:graphic>
          <a:graphicData uri="http://schemas.openxmlformats.org/drawingml/2006/table">
            <a:tbl>
              <a:tblPr/>
              <a:tblGrid>
                <a:gridCol w="3205080"/>
                <a:gridCol w="2060640"/>
                <a:gridCol w="1908360"/>
                <a:gridCol w="103500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Object 5"/>
              <p:cNvSpPr txBox="1"/>
              <p:nvPr/>
            </p:nvSpPr>
            <p:spPr>
              <a:xfrm>
                <a:off x="396720" y="1555920"/>
                <a:ext cx="220212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269" name="Object 6"/>
          <p:cNvGraphicFramePr/>
          <p:nvPr/>
        </p:nvGraphicFramePr>
        <p:xfrm>
          <a:off x="324000" y="2205000"/>
          <a:ext cx="27097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05000"/>
                    <a:ext cx="2709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4213080" y="549360"/>
                <a:ext cx="8524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"/>
              <p:cNvSpPr txBox="1"/>
              <p:nvPr/>
            </p:nvSpPr>
            <p:spPr>
              <a:xfrm>
                <a:off x="6373800" y="549360"/>
                <a:ext cx="9288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16"/>
              <p:cNvSpPr txBox="1"/>
              <p:nvPr/>
            </p:nvSpPr>
            <p:spPr>
              <a:xfrm>
                <a:off x="252360" y="2852640"/>
                <a:ext cx="29224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cos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17"/>
              <p:cNvSpPr txBox="1"/>
              <p:nvPr/>
            </p:nvSpPr>
            <p:spPr>
              <a:xfrm>
                <a:off x="181080" y="3502080"/>
                <a:ext cx="2881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18"/>
              <p:cNvSpPr txBox="1"/>
              <p:nvPr/>
            </p:nvSpPr>
            <p:spPr>
              <a:xfrm>
                <a:off x="6013440" y="2276640"/>
                <a:ext cx="1152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9"/>
              <p:cNvSpPr txBox="1"/>
              <p:nvPr/>
            </p:nvSpPr>
            <p:spPr>
              <a:xfrm>
                <a:off x="3924360" y="1623960"/>
                <a:ext cx="12556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1"/>
              <p:cNvSpPr txBox="1"/>
              <p:nvPr/>
            </p:nvSpPr>
            <p:spPr>
              <a:xfrm>
                <a:off x="3852720" y="2282760"/>
                <a:ext cx="16862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22"/>
              <p:cNvSpPr txBox="1"/>
              <p:nvPr/>
            </p:nvSpPr>
            <p:spPr>
              <a:xfrm>
                <a:off x="3852720" y="2997360"/>
                <a:ext cx="16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cos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24"/>
              <p:cNvSpPr txBox="1"/>
              <p:nvPr/>
            </p:nvSpPr>
            <p:spPr>
              <a:xfrm>
                <a:off x="3852720" y="3573360"/>
                <a:ext cx="14004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25"/>
              <p:cNvSpPr txBox="1"/>
              <p:nvPr/>
            </p:nvSpPr>
            <p:spPr>
              <a:xfrm>
                <a:off x="3368520" y="4941720"/>
                <a:ext cx="26989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β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6"/>
              <p:cNvSpPr txBox="1"/>
              <p:nvPr/>
            </p:nvSpPr>
            <p:spPr>
              <a:xfrm>
                <a:off x="411120" y="4941720"/>
                <a:ext cx="28526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β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7"/>
              <p:cNvSpPr txBox="1"/>
              <p:nvPr/>
            </p:nvSpPr>
            <p:spPr>
              <a:xfrm>
                <a:off x="6338880" y="4780080"/>
                <a:ext cx="2374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341280" y="182520"/>
            <a:ext cx="7693200" cy="8780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85280" y="2060640"/>
            <a:ext cx="754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rebuchet MS"/>
              </a:rPr>
              <a:t>Пример 1. </a:t>
            </a: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14"/>
              <p:cNvSpPr txBox="1"/>
              <p:nvPr/>
            </p:nvSpPr>
            <p:spPr>
              <a:xfrm>
                <a:off x="2413080" y="342900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13"/>
              <p:cNvSpPr txBox="1"/>
              <p:nvPr/>
            </p:nvSpPr>
            <p:spPr>
              <a:xfrm>
                <a:off x="1836720" y="4076640"/>
                <a:ext cx="3400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971640" y="4748040"/>
                <a:ext cx="5587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</m:nary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4716360" y="1916280"/>
                <a:ext cx="2157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7"/>
              <p:cNvSpPr txBox="1"/>
              <p:nvPr/>
            </p:nvSpPr>
            <p:spPr>
              <a:xfrm>
                <a:off x="3205080" y="1197000"/>
                <a:ext cx="2664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85640" y="1268280"/>
            <a:ext cx="8839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1797120" y="3284640"/>
          <a:ext cx="5172120" cy="21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7120" y="3284640"/>
                    <a:ext cx="5172120" cy="21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Box 7"/>
          <p:cNvSpPr/>
          <p:nvPr/>
        </p:nvSpPr>
        <p:spPr>
          <a:xfrm>
            <a:off x="1135800" y="577548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3060720" y="5576760"/>
                <a:ext cx="41320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5" name="Объект 1"/>
          <p:cNvGraphicFramePr/>
          <p:nvPr/>
        </p:nvGraphicFramePr>
        <p:xfrm>
          <a:off x="1900080" y="541440"/>
          <a:ext cx="5378760" cy="25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0080" y="541440"/>
                    <a:ext cx="537876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85640" y="1628280"/>
            <a:ext cx="79041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2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4"/>
              <p:cNvSpPr txBox="1"/>
              <p:nvPr/>
            </p:nvSpPr>
            <p:spPr>
              <a:xfrm>
                <a:off x="2268360" y="314172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9" name="Object 13"/>
          <p:cNvGraphicFramePr/>
          <p:nvPr/>
        </p:nvGraphicFramePr>
        <p:xfrm>
          <a:off x="757080" y="4869000"/>
          <a:ext cx="4951440" cy="91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869000"/>
                    <a:ext cx="495144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6"/>
              <p:cNvSpPr txBox="1"/>
              <p:nvPr/>
            </p:nvSpPr>
            <p:spPr>
              <a:xfrm>
                <a:off x="5308560" y="1844640"/>
                <a:ext cx="1144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TextBox 7"/>
          <p:cNvSpPr/>
          <p:nvPr/>
        </p:nvSpPr>
        <p:spPr>
          <a:xfrm>
            <a:off x="3862440" y="606276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ТВЕТ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6156360" y="6037200"/>
                <a:ext cx="16495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2989440" y="692280"/>
                <a:ext cx="25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05" name="Объект 1"/>
          <p:cNvGraphicFramePr/>
          <p:nvPr/>
        </p:nvGraphicFramePr>
        <p:xfrm>
          <a:off x="1685880" y="3933720"/>
          <a:ext cx="575172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6" name="Объект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85880" y="3933720"/>
                    <a:ext cx="575172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85640" y="19987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a50021"/>
                </a:solidFill>
                <a:latin typeface="Trebuchet MS"/>
              </a:rPr>
              <a:t>Пример 3.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Найти интеграл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Используем формулу интегрирования по частям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lnSpc>
                <a:spcPct val="90000"/>
              </a:lnSpc>
              <a:spcBef>
                <a:spcPts val="601"/>
              </a:spcBef>
              <a:buClr>
                <a:srgbClr val="de6c36"/>
              </a:buClr>
              <a:buSzPct val="73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Пусть</a:t>
            </a: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Тогд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b13f9a"/>
                </a:solidFill>
                <a:latin typeface="Trebuchet MS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Следовательно, 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Object 14"/>
              <p:cNvSpPr txBox="1"/>
              <p:nvPr/>
            </p:nvSpPr>
            <p:spPr>
              <a:xfrm>
                <a:off x="2417760" y="3141720"/>
                <a:ext cx="3951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2170080" y="3967200"/>
                <a:ext cx="2998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x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4"/>
              <p:cNvSpPr txBox="1"/>
              <p:nvPr/>
            </p:nvSpPr>
            <p:spPr>
              <a:xfrm>
                <a:off x="1177920" y="4416480"/>
                <a:ext cx="51735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311" name="Object 6"/>
          <p:cNvGraphicFramePr/>
          <p:nvPr/>
        </p:nvGraphicFramePr>
        <p:xfrm>
          <a:off x="5940360" y="1844640"/>
          <a:ext cx="16639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844640"/>
                    <a:ext cx="16639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Object 8"/>
              <p:cNvSpPr txBox="1"/>
              <p:nvPr/>
            </p:nvSpPr>
            <p:spPr>
              <a:xfrm>
                <a:off x="2413080" y="692280"/>
                <a:ext cx="3313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sin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4:21:53Z</dcterms:created>
  <dc:creator>user</dc:creator>
  <dc:description/>
  <dc:language>en-US</dc:language>
  <cp:lastModifiedBy>MANYA</cp:lastModifiedBy>
  <dcterms:modified xsi:type="dcterms:W3CDTF">2014-12-05T04:01:09Z</dcterms:modified>
  <cp:revision>229</cp:revision>
  <dc:subject/>
  <dc:title>НЕПРЕРЫВНАЯ СЛУЧАЙНАЯ ВЕЛИЧИНА.</dc:title>
</cp:coreProperties>
</file>