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jpeg" ContentType="image/jpeg"/>
  <Override PartName="/ppt/media/image20.wmf" ContentType="image/x-wmf"/>
  <Override PartName="/ppt/media/image56.wmf" ContentType="image/x-wmf"/>
  <Override PartName="/ppt/media/image55.wmf" ContentType="image/x-wmf"/>
  <Override PartName="/ppt/media/image54.jpeg" ContentType="image/jpeg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87.png" ContentType="image/png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78.jpeg" ContentType="image/jpeg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71.wmf" ContentType="image/x-wmf"/>
  <Override PartName="/ppt/media/image1.png" ContentType="image/png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65.wmf" ContentType="image/x-wmf"/>
  <Override PartName="/ppt/media/image82.png" ContentType="image/png"/>
  <Override PartName="/ppt/media/image106.wmf" ContentType="image/x-wmf"/>
  <Override PartName="/ppt/media/image99.wmf" ContentType="image/x-wmf"/>
  <Override PartName="/ppt/media/image62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89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29.wmf" ContentType="image/x-wmf"/>
  <Override PartName="/ppt/media/image94.wmf" ContentType="image/x-wmf"/>
  <Override PartName="/ppt/media/image64.wmf" ContentType="image/x-wmf"/>
  <Override PartName="/ppt/media/image63.wmf" ContentType="image/x-wmf"/>
  <Override PartName="/ppt/media/image90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B40-8204-404D-8841-F4068233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5FD8-E5F0-4BE9-A53C-942DE0B4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72B-A201-49B7-8C6F-A06C098C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C717-5C62-4134-9929-633F2C280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B748-0604-40C0-82E4-C5A177BE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16B6-35AF-4FA8-B1DD-9122FE0B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74C0-6CF7-4313-92DD-7A5DB3AD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AA4A-8C54-4B3E-BC45-7C636CF0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6651-FFBC-40ED-918A-D16531B0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762E-07A5-4A1C-B226-C0668599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3C62-282C-4146-AE81-311C4EBA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9ED6-07B8-4118-B10D-439271FD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3C8D-10A6-4F36-A955-2D3E6784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1A25-1998-48C4-BD12-3E98EDAD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A676-BEDA-4285-86E3-2D8EFC38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79CD-325B-4556-85D0-A253F3AE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C8DC-652E-4D92-8690-8409275C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F5C-B908-48EE-AB90-23FE51CF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3B2-880F-4DA1-9610-FFA4B9E2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9B81-970B-4BD2-BACC-9AE3DBA9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294-A22B-4387-9D59-FE971249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2715-13ED-4446-95AA-46ACBBE6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891F-1E1E-4011-B9E6-BC45AC62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F12-3F03-4531-87BA-4EA0C258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D8C2-7DC0-4242-8255-41AAEF8BDA8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AA1E-BF41-4461-9B3D-8E6A976EA4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3.wmf"/><Relationship Id="rId1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1.wmf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0.wmf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image" Target="../media/image54.jpe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0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7.wmf"/><Relationship Id="rId1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image" Target="../media/image87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4.wmf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1.wmf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08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Различные виды уравнения прямой на плоскости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042920" y="3789360"/>
            <a:ext cx="2376720" cy="1293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2374920" cy="12938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24000" y="981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3"/>
          <a:stretch/>
        </p:blipFill>
        <p:spPr>
          <a:xfrm>
            <a:off x="6588000" y="6093000"/>
            <a:ext cx="2233800" cy="518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4"/>
          <a:stretch/>
        </p:blipFill>
        <p:spPr>
          <a:xfrm>
            <a:off x="755640" y="2492280"/>
            <a:ext cx="237636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3.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Точка пересечения прямых,</a:t>
            </a:r>
            <a:br>
              <a:rPr sz="3200"/>
            </a:b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заданных общими  уравнениям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+C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0 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+C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=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находится как решение систем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482436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4.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оординаты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330033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,y</a:t>
            </a:r>
            <a:r>
              <a:rPr b="1" i="1" lang="en-US" sz="2800" spc="-1" strike="noStrike" baseline="-25000">
                <a:solidFill>
                  <a:srgbClr val="330033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середины  отрезка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M</a:t>
            </a:r>
            <a:r>
              <a:rPr b="1" i="1" lang="en-US" sz="2800" spc="-1" strike="noStrike" baseline="-25000">
                <a:solidFill>
                  <a:srgbClr val="330033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, M</a:t>
            </a:r>
            <a:r>
              <a:rPr b="1" i="1" lang="en-US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между  точками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66596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5.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Расстояние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|M</a:t>
            </a:r>
            <a:r>
              <a:rPr b="1" i="1" lang="en-US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M</a:t>
            </a:r>
            <a:r>
              <a:rPr b="1" i="1" lang="en-US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|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между  точками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1258920" y="2997360"/>
            <a:ext cx="70120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6.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Необходимое и достаточное</a:t>
            </a:r>
            <a:br>
              <a:rPr sz="3200"/>
            </a:b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условие параллельности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двух прямых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Необходимое и достаточное условие параллельности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двух прямых, имеющих угловые коэффициенты 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=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7.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Необходимое и достаточное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условие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перпендикулярности</a:t>
            </a: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двух прямых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Необходимое и достаточное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условие перпендикулярности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двух прямых,  имеющих  угловые коэффициенты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66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3203640" y="3201840"/>
            <a:ext cx="273672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Приме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 р и м е р 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о общее уравнение прямо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угловой коэффициент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 е ш е н и 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ешим уравнение относительно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учим уравнение прямой с угловым коэффициент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заключаем: 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k = 2/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овой коэффициент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 т в е 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2987640" y="2060640"/>
          <a:ext cx="3208320" cy="65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060640"/>
                    <a:ext cx="32083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2"/>
          <p:cNvGraphicFramePr/>
          <p:nvPr/>
        </p:nvGraphicFramePr>
        <p:xfrm>
          <a:off x="5651640" y="3789360"/>
          <a:ext cx="2305080" cy="12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3789360"/>
                    <a:ext cx="230508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4"/>
          <p:cNvGraphicFramePr/>
          <p:nvPr/>
        </p:nvGraphicFramePr>
        <p:xfrm>
          <a:off x="1547640" y="4240080"/>
          <a:ext cx="2517840" cy="65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4240080"/>
                    <a:ext cx="251784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5"/>
          <p:cNvGraphicFramePr/>
          <p:nvPr/>
        </p:nvGraphicFramePr>
        <p:xfrm>
          <a:off x="4427640" y="4221000"/>
          <a:ext cx="79200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7640" y="4221000"/>
                    <a:ext cx="7920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Пример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 р и м е р  2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ть уравнение прямой, проходящей через точку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А(-1;3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и составляющей с осью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Ох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гол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135</a:t>
            </a:r>
            <a:r>
              <a:rPr b="0" i="1" lang="ru-RU" sz="2000" spc="-1" strike="noStrike" baseline="30000">
                <a:solidFill>
                  <a:srgbClr val="663300"/>
                </a:solidFill>
                <a:latin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 е ш е н и 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Так как в данном случа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k=tg135</a:t>
            </a:r>
            <a:r>
              <a:rPr b="0" i="1" lang="en-US" sz="2800" spc="-1" strike="noStrike" baseline="30000">
                <a:solidFill>
                  <a:srgbClr val="663300"/>
                </a:solidFill>
                <a:latin typeface="Arial"/>
              </a:rPr>
              <a:t>o</a:t>
            </a:r>
            <a:r>
              <a:rPr b="0" i="1" lang="en-US" sz="2800" spc="-1" strike="noStrike">
                <a:solidFill>
                  <a:srgbClr val="663300"/>
                </a:solidFill>
                <a:latin typeface="Arial"/>
              </a:rPr>
              <a:t>=-1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=-1, y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=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уравнение прямой будет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ть вид:  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y-3=-1(x+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получаем: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у = -х+2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 искомое уравнение прям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 т в е 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у = -х+2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0033"/>
                </a:solidFill>
                <a:uFillTx/>
                <a:latin typeface="Times New Roman"/>
              </a:rPr>
              <a:t>Примеры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34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 р и м е р  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Составить уравнение прямой, проходящей через точку пересечения прям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раллельно прямой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 е ш е н и 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а)  Найдем точку пересечения двух прямых, для этого, решим систему уравн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овательно, искомая точка пересечения 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М</a:t>
            </a:r>
            <a:r>
              <a:rPr b="0" i="1" lang="ru-RU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(7;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Составим уравнение прямой, проходящей через данную точку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М</a:t>
            </a:r>
            <a:r>
              <a:rPr b="0" i="1" lang="ru-RU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(7;-6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араллельно прямо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4"/>
          <p:cNvGraphicFramePr/>
          <p:nvPr/>
        </p:nvGraphicFramePr>
        <p:xfrm>
          <a:off x="1692360" y="2060640"/>
          <a:ext cx="230328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060640"/>
                    <a:ext cx="230328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6"/>
          <p:cNvGraphicFramePr/>
          <p:nvPr/>
        </p:nvGraphicFramePr>
        <p:xfrm>
          <a:off x="4643280" y="1989000"/>
          <a:ext cx="2880000" cy="62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989000"/>
                    <a:ext cx="288000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8"/>
          <p:cNvGraphicFramePr/>
          <p:nvPr/>
        </p:nvGraphicFramePr>
        <p:xfrm>
          <a:off x="2843280" y="2708280"/>
          <a:ext cx="2448000" cy="584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2708280"/>
                    <a:ext cx="244800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9"/>
          <p:cNvGraphicFramePr/>
          <p:nvPr/>
        </p:nvGraphicFramePr>
        <p:xfrm>
          <a:off x="1332000" y="3645000"/>
          <a:ext cx="3168720" cy="137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3645000"/>
                    <a:ext cx="316872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0"/>
          <p:cNvGraphicFramePr/>
          <p:nvPr/>
        </p:nvGraphicFramePr>
        <p:xfrm>
          <a:off x="4572000" y="4005360"/>
          <a:ext cx="64764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005360"/>
                    <a:ext cx="64764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1"/>
          <p:cNvGraphicFramePr/>
          <p:nvPr/>
        </p:nvGraphicFramePr>
        <p:xfrm>
          <a:off x="5580000" y="3645000"/>
          <a:ext cx="1295640" cy="125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80000" y="3645000"/>
                    <a:ext cx="12956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12"/>
          <p:cNvGraphicFramePr/>
          <p:nvPr/>
        </p:nvGraphicFramePr>
        <p:xfrm>
          <a:off x="3924360" y="5589720"/>
          <a:ext cx="2448000" cy="57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2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4360" y="5589720"/>
                    <a:ext cx="244800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330033"/>
                </a:solidFill>
                <a:uFillTx/>
                <a:latin typeface="Times New Roman"/>
              </a:rPr>
              <a:t>Примеры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йдем угловой коэффициент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ямо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условия параллельности двух прямых находим угловой коэффициент искомой прямой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=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=3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уясь формул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ходим уравнение прямой, проходящей через точку 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М</a:t>
            </a:r>
            <a:r>
              <a:rPr b="0" i="1" lang="ru-RU" sz="2000" spc="-1" strike="noStrike" baseline="-25000">
                <a:solidFill>
                  <a:srgbClr val="6633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663300"/>
                </a:solidFill>
                <a:latin typeface="Arial"/>
              </a:rPr>
              <a:t>(7;-6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угловым коэффициен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k</a:t>
            </a:r>
            <a:r>
              <a:rPr b="0" i="1" lang="en-US" sz="2400" spc="-1" strike="noStrike" baseline="-25000">
                <a:solidFill>
                  <a:srgbClr val="6633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663300"/>
                </a:solidFill>
                <a:latin typeface="Arial"/>
              </a:rPr>
              <a:t>=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 т в е 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4"/>
          <p:cNvGraphicFramePr/>
          <p:nvPr/>
        </p:nvGraphicFramePr>
        <p:xfrm>
          <a:off x="5724360" y="1601640"/>
          <a:ext cx="2160720" cy="51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1601640"/>
                    <a:ext cx="2160720" cy="5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0"/>
          <p:cNvGraphicFramePr/>
          <p:nvPr/>
        </p:nvGraphicFramePr>
        <p:xfrm>
          <a:off x="1425600" y="1955880"/>
          <a:ext cx="320040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5600" y="1955880"/>
                    <a:ext cx="320040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9" name="Picture 12" descr=""/>
          <p:cNvPicPr/>
          <p:nvPr/>
        </p:nvPicPr>
        <p:blipFill>
          <a:blip r:embed="rId5"/>
          <a:stretch/>
        </p:blipFill>
        <p:spPr>
          <a:xfrm>
            <a:off x="3924360" y="3357720"/>
            <a:ext cx="2160360" cy="50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Object 13"/>
          <p:cNvGraphicFramePr/>
          <p:nvPr/>
        </p:nvGraphicFramePr>
        <p:xfrm>
          <a:off x="1403280" y="4508640"/>
          <a:ext cx="2737080" cy="701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1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3280" y="4508640"/>
                    <a:ext cx="27370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5"/>
          <p:cNvGraphicFramePr/>
          <p:nvPr/>
        </p:nvGraphicFramePr>
        <p:xfrm>
          <a:off x="4427640" y="4653000"/>
          <a:ext cx="504720" cy="403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3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27640" y="4653000"/>
                    <a:ext cx="50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1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Object 16"/>
          <p:cNvGraphicFramePr/>
          <p:nvPr/>
        </p:nvGraphicFramePr>
        <p:xfrm>
          <a:off x="5219640" y="4508640"/>
          <a:ext cx="2879640" cy="582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6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4508640"/>
                    <a:ext cx="28796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Object 18"/>
          <p:cNvGraphicFramePr/>
          <p:nvPr/>
        </p:nvGraphicFramePr>
        <p:xfrm>
          <a:off x="3203640" y="5300640"/>
          <a:ext cx="2879640" cy="582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88" name="Object 1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03640" y="5300640"/>
                    <a:ext cx="287964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8"/>
          <p:cNvGraphicFramePr/>
          <p:nvPr/>
        </p:nvGraphicFramePr>
        <p:xfrm>
          <a:off x="5715000" y="1643040"/>
          <a:ext cx="2160720" cy="515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90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15000" y="1643040"/>
                    <a:ext cx="216072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Нормальный вектор прям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876920" y="1599840"/>
            <a:ext cx="412416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ектор  перпендикулярен направляющему вектору прямой       , то он называется </a:t>
            </a:r>
            <a:r>
              <a:rPr b="1" i="1" lang="ru-RU" sz="2200" spc="-1" strike="noStrike">
                <a:solidFill>
                  <a:srgbClr val="800000"/>
                </a:solidFill>
                <a:latin typeface="Arial"/>
              </a:rPr>
              <a:t>нормальным вектором  прямой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    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786200" y="3941280"/>
            <a:ext cx="4214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ая задана  общ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 век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 нормальным вект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й пря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1071720" y="2357280"/>
            <a:ext cx="3571560" cy="2571840"/>
          </a:xfrm>
          <a:prstGeom prst="rect">
            <a:avLst/>
          </a:prstGeom>
          <a:ln w="0">
            <a:noFill/>
          </a:ln>
        </p:spPr>
      </p:pic>
      <p:cxnSp>
        <p:nvCxnSpPr>
          <p:cNvPr id="296" name="Прямая со стрелкой 7"/>
          <p:cNvCxnSpPr/>
          <p:nvPr/>
        </p:nvCxnSpPr>
        <p:spPr>
          <a:xfrm flipH="1" flipV="1">
            <a:off x="3214080" y="2214360"/>
            <a:ext cx="500760" cy="71496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med" type="arrow" w="med"/>
          </a:ln>
        </p:spPr>
      </p:cxnSp>
      <p:graphicFrame>
        <p:nvGraphicFramePr>
          <p:cNvPr id="297" name="Object 4"/>
          <p:cNvGraphicFramePr/>
          <p:nvPr/>
        </p:nvGraphicFramePr>
        <p:xfrm>
          <a:off x="3571920" y="1951200"/>
          <a:ext cx="322200" cy="54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920" y="1951200"/>
                    <a:ext cx="3222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99" name="Прямая со стрелкой 14"/>
          <p:cNvCxnSpPr/>
          <p:nvPr/>
        </p:nvCxnSpPr>
        <p:spPr>
          <a:xfrm flipV="1">
            <a:off x="3357360" y="3561840"/>
            <a:ext cx="633960" cy="510480"/>
          </a:xfrm>
          <a:prstGeom prst="straightConnector1">
            <a:avLst/>
          </a:prstGeom>
          <a:ln w="38160">
            <a:solidFill>
              <a:srgbClr val="800000"/>
            </a:solidFill>
            <a:miter/>
            <a:tailEnd len="med" type="arrow" w="med"/>
          </a:ln>
        </p:spPr>
      </p:cxnSp>
      <p:graphicFrame>
        <p:nvGraphicFramePr>
          <p:cNvPr id="300" name="Object 3"/>
          <p:cNvGraphicFramePr/>
          <p:nvPr/>
        </p:nvGraphicFramePr>
        <p:xfrm>
          <a:off x="4071960" y="3214800"/>
          <a:ext cx="322200" cy="549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71960" y="3214800"/>
                    <a:ext cx="3222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7250040" y="1428840"/>
          <a:ext cx="322200" cy="549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50040" y="1428840"/>
                    <a:ext cx="322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5"/>
          <p:cNvGraphicFramePr/>
          <p:nvPr/>
        </p:nvGraphicFramePr>
        <p:xfrm>
          <a:off x="8643960" y="2143080"/>
          <a:ext cx="322200" cy="549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5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643960" y="2143080"/>
                    <a:ext cx="322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6"/>
          <p:cNvGraphicFramePr/>
          <p:nvPr/>
        </p:nvGraphicFramePr>
        <p:xfrm>
          <a:off x="6429240" y="2571840"/>
          <a:ext cx="225720" cy="45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29240" y="2571840"/>
                    <a:ext cx="2257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7"/>
          <p:cNvGraphicFramePr/>
          <p:nvPr/>
        </p:nvGraphicFramePr>
        <p:xfrm>
          <a:off x="4071960" y="2286000"/>
          <a:ext cx="225360" cy="452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071960" y="2286000"/>
                    <a:ext cx="2253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8"/>
          <p:cNvGraphicFramePr/>
          <p:nvPr/>
        </p:nvGraphicFramePr>
        <p:xfrm>
          <a:off x="8061480" y="3214800"/>
          <a:ext cx="225360" cy="452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11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061480" y="3214800"/>
                    <a:ext cx="22536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9"/>
          <p:cNvGraphicFramePr/>
          <p:nvPr/>
        </p:nvGraphicFramePr>
        <p:xfrm>
          <a:off x="5648400" y="4653000"/>
          <a:ext cx="2138400" cy="4190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13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648400" y="4653000"/>
                    <a:ext cx="2138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1"/>
          <p:cNvGraphicFramePr/>
          <p:nvPr/>
        </p:nvGraphicFramePr>
        <p:xfrm>
          <a:off x="6715080" y="5006880"/>
          <a:ext cx="1225440" cy="49392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15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715080" y="5006880"/>
                    <a:ext cx="122544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330033"/>
                </a:solidFill>
                <a:uFillTx/>
                <a:latin typeface="Times New Roman"/>
              </a:rPr>
              <a:t>1.Уравнение прямой с угловым коэффициентом: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009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=kx+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-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6600"/>
                </a:solidFill>
                <a:latin typeface="Arial"/>
              </a:rPr>
              <a:t>угловой коэффициент 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2771640" y="386064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457200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 flipH="1">
            <a:off x="3347640" y="2276640"/>
            <a:ext cx="280836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9"/>
          <p:cNvSpPr/>
          <p:nvPr/>
        </p:nvSpPr>
        <p:spPr>
          <a:xfrm>
            <a:off x="4092480" y="3598920"/>
            <a:ext cx="150840" cy="24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212720" y="34290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516720" y="3881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4644720" y="206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573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428652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4716360" y="4508640"/>
            <a:ext cx="41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α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- </a:t>
            </a: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угол наклона прямой к оси Ох, гд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3"/>
          <p:cNvGraphicFramePr/>
          <p:nvPr/>
        </p:nvGraphicFramePr>
        <p:xfrm>
          <a:off x="5940360" y="4149720"/>
          <a:ext cx="1338480" cy="5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4149720"/>
                    <a:ext cx="133848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Picture 35" descr=""/>
          <p:cNvPicPr/>
          <p:nvPr/>
        </p:nvPicPr>
        <p:blipFill>
          <a:blip r:embed="rId3"/>
          <a:stretch/>
        </p:blipFill>
        <p:spPr>
          <a:xfrm>
            <a:off x="4859280" y="5013360"/>
            <a:ext cx="990720" cy="279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1" descr=""/>
          <p:cNvPicPr/>
          <p:nvPr/>
        </p:nvPicPr>
        <p:blipFill>
          <a:blip r:embed="rId4"/>
          <a:stretch/>
        </p:blipFill>
        <p:spPr>
          <a:xfrm>
            <a:off x="6012000" y="5013360"/>
            <a:ext cx="863640" cy="34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42"/>
          <p:cNvSpPr/>
          <p:nvPr/>
        </p:nvSpPr>
        <p:spPr>
          <a:xfrm>
            <a:off x="4788000" y="5373720"/>
            <a:ext cx="417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b - </a:t>
            </a:r>
            <a:r>
              <a:rPr b="0" i="1" lang="ru-RU" sz="1600" spc="-1" strike="noStrike">
                <a:solidFill>
                  <a:srgbClr val="0033cc"/>
                </a:solidFill>
                <a:latin typeface="Arial"/>
              </a:rPr>
              <a:t>ордината точки пересечения прямой с осью О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Нормальный вектор прям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42600" y="1599840"/>
            <a:ext cx="47149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     , которая про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точ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имеет  нормальный ве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14240" y="4071960"/>
            <a:ext cx="797256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.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пендикулярны,  их скалярное произведение ра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л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и есть искомое урав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5"/>
          <p:cNvSpPr/>
          <p:nvPr/>
        </p:nvSpPr>
        <p:spPr>
          <a:xfrm>
            <a:off x="101520" y="0"/>
            <a:ext cx="470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Object 2"/>
          <p:cNvGraphicFramePr/>
          <p:nvPr/>
        </p:nvGraphicFramePr>
        <p:xfrm>
          <a:off x="2000160" y="2000160"/>
          <a:ext cx="2253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2000160"/>
                    <a:ext cx="2253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3"/>
          <p:cNvGraphicFramePr/>
          <p:nvPr/>
        </p:nvGraphicFramePr>
        <p:xfrm>
          <a:off x="2643120" y="2428920"/>
          <a:ext cx="1471680" cy="49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2428920"/>
                    <a:ext cx="14716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4"/>
          <p:cNvGraphicFramePr/>
          <p:nvPr/>
        </p:nvGraphicFramePr>
        <p:xfrm>
          <a:off x="857160" y="3357720"/>
          <a:ext cx="145440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7160" y="3357720"/>
                    <a:ext cx="14544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6" name="Picture 5" descr="C:\Users\MANYA\Desktop\фото.JPG"/>
          <p:cNvPicPr/>
          <p:nvPr/>
        </p:nvPicPr>
        <p:blipFill>
          <a:blip r:embed="rId7"/>
          <a:stretch/>
        </p:blipFill>
        <p:spPr>
          <a:xfrm>
            <a:off x="5286240" y="1500120"/>
            <a:ext cx="3500640" cy="2428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7" name="Object 7"/>
          <p:cNvGraphicFramePr/>
          <p:nvPr/>
        </p:nvGraphicFramePr>
        <p:xfrm>
          <a:off x="3714840" y="4000680"/>
          <a:ext cx="3516120" cy="549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8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14840" y="4000680"/>
                    <a:ext cx="351612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8"/>
          <p:cNvGraphicFramePr/>
          <p:nvPr/>
        </p:nvGraphicFramePr>
        <p:xfrm>
          <a:off x="1928880" y="4857840"/>
          <a:ext cx="5313240" cy="658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0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28880" y="4857840"/>
                    <a:ext cx="531324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Расстояние от точки до прям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42600" y="1428480"/>
            <a:ext cx="828684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орем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ссто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 т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прямой, зада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м урав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ся формул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C:\Users\MANYA\Desktop\фото.JPG"/>
          <p:cNvPicPr/>
          <p:nvPr/>
        </p:nvPicPr>
        <p:blipFill>
          <a:blip r:embed="rId1"/>
          <a:stretch/>
        </p:blipFill>
        <p:spPr>
          <a:xfrm>
            <a:off x="4786200" y="1500120"/>
            <a:ext cx="4071960" cy="250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4"/>
          <p:cNvGraphicFramePr/>
          <p:nvPr/>
        </p:nvGraphicFramePr>
        <p:xfrm>
          <a:off x="2428920" y="2143080"/>
          <a:ext cx="1471680" cy="49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2143080"/>
                    <a:ext cx="14716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5"/>
          <p:cNvGraphicFramePr/>
          <p:nvPr/>
        </p:nvGraphicFramePr>
        <p:xfrm>
          <a:off x="1290600" y="3571920"/>
          <a:ext cx="213840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0600" y="3571920"/>
                    <a:ext cx="2138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6"/>
          <p:cNvGraphicFramePr/>
          <p:nvPr/>
        </p:nvGraphicFramePr>
        <p:xfrm>
          <a:off x="2928960" y="4714920"/>
          <a:ext cx="2556000" cy="942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28960" y="4714920"/>
                    <a:ext cx="25560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Расстояние от точки до прямой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2960" y="1599840"/>
            <a:ext cx="81439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расстояние от точки                        до  прям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ной  общим уравн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71320" y="2714760"/>
            <a:ext cx="79722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   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101520" y="0"/>
            <a:ext cx="470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3"/>
          <p:cNvGraphicFramePr/>
          <p:nvPr/>
        </p:nvGraphicFramePr>
        <p:xfrm>
          <a:off x="5000760" y="1571760"/>
          <a:ext cx="114444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1571760"/>
                    <a:ext cx="1144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7"/>
          <p:cNvGraphicFramePr/>
          <p:nvPr/>
        </p:nvGraphicFramePr>
        <p:xfrm>
          <a:off x="5429160" y="2071800"/>
          <a:ext cx="1989360" cy="43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2071800"/>
                    <a:ext cx="198936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Object 9"/>
          <p:cNvGraphicFramePr/>
          <p:nvPr/>
        </p:nvGraphicFramePr>
        <p:xfrm>
          <a:off x="3000240" y="2714760"/>
          <a:ext cx="2556000" cy="94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0240" y="2714760"/>
                    <a:ext cx="2556000" cy="9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Object 11"/>
          <p:cNvGraphicFramePr/>
          <p:nvPr/>
        </p:nvGraphicFramePr>
        <p:xfrm>
          <a:off x="3071880" y="3786120"/>
          <a:ext cx="2816280" cy="943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71880" y="3786120"/>
                    <a:ext cx="2816280" cy="9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Прямоугольник 11"/>
          <p:cNvSpPr/>
          <p:nvPr/>
        </p:nvSpPr>
        <p:spPr>
          <a:xfrm>
            <a:off x="3287880" y="1643040"/>
            <a:ext cx="23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ОКРУ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4"/>
          <p:cNvSpPr/>
          <p:nvPr/>
        </p:nvSpPr>
        <p:spPr>
          <a:xfrm>
            <a:off x="785880" y="2000160"/>
            <a:ext cx="835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ение 1.  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–  геометрическое место точек на плоскости,  равноудаленных от некоторой точки, называемой цент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16"/>
          <p:cNvSpPr/>
          <p:nvPr/>
        </p:nvSpPr>
        <p:spPr>
          <a:xfrm>
            <a:off x="142920" y="500040"/>
            <a:ext cx="39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17"/>
          <p:cNvSpPr/>
          <p:nvPr/>
        </p:nvSpPr>
        <p:spPr>
          <a:xfrm>
            <a:off x="712800" y="324468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оническое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2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4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16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Object 17"/>
          <p:cNvGraphicFramePr/>
          <p:nvPr/>
        </p:nvGraphicFramePr>
        <p:xfrm>
          <a:off x="5143680" y="3214800"/>
          <a:ext cx="231444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3680" y="3214800"/>
                    <a:ext cx="231444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Прямоугольник 10"/>
          <p:cNvSpPr/>
          <p:nvPr/>
        </p:nvSpPr>
        <p:spPr>
          <a:xfrm>
            <a:off x="714240" y="401148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Точка О(0;0) – центр окруж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r - ради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Ox, Oy - оси симмет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График изображен на рис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Блок-схема: узел 12"/>
          <p:cNvSpPr/>
          <p:nvPr/>
        </p:nvSpPr>
        <p:spPr>
          <a:xfrm>
            <a:off x="6500880" y="3857760"/>
            <a:ext cx="2143080" cy="2071440"/>
          </a:xfrm>
          <a:prstGeom prst="flowChartConnector">
            <a:avLst/>
          </a:prstGeom>
          <a:solidFill>
            <a:srgbClr val="ffffe1"/>
          </a:solidFill>
          <a:ln w="34920">
            <a:solidFill>
              <a:srgbClr val="a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Прямая со стрелкой 17"/>
          <p:cNvCxnSpPr/>
          <p:nvPr/>
        </p:nvCxnSpPr>
        <p:spPr>
          <a:xfrm flipH="1" flipV="1">
            <a:off x="7571520" y="3357000"/>
            <a:ext cx="72360" cy="285804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365" name="Прямая со стрелкой 25"/>
          <p:cNvCxnSpPr/>
          <p:nvPr/>
        </p:nvCxnSpPr>
        <p:spPr>
          <a:xfrm>
            <a:off x="6214680" y="4857840"/>
            <a:ext cx="2848680" cy="21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graphicFrame>
        <p:nvGraphicFramePr>
          <p:cNvPr id="366" name="Object 11"/>
          <p:cNvGraphicFramePr/>
          <p:nvPr/>
        </p:nvGraphicFramePr>
        <p:xfrm>
          <a:off x="7786800" y="3357720"/>
          <a:ext cx="298440" cy="35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86800" y="3357720"/>
                    <a:ext cx="29844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2"/>
          <p:cNvGraphicFramePr/>
          <p:nvPr/>
        </p:nvGraphicFramePr>
        <p:xfrm>
          <a:off x="8643960" y="4929120"/>
          <a:ext cx="272880" cy="3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43960" y="4929120"/>
                    <a:ext cx="272880" cy="3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3"/>
          <p:cNvGraphicFramePr/>
          <p:nvPr/>
        </p:nvGraphicFramePr>
        <p:xfrm>
          <a:off x="7358040" y="4500720"/>
          <a:ext cx="271440" cy="38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8040" y="4500720"/>
                    <a:ext cx="27144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72" name="Прямая со стрелкой 32"/>
          <p:cNvCxnSpPr/>
          <p:nvPr/>
        </p:nvCxnSpPr>
        <p:spPr>
          <a:xfrm flipV="1">
            <a:off x="7643520" y="4214880"/>
            <a:ext cx="786600" cy="643320"/>
          </a:xfrm>
          <a:prstGeom prst="straightConnector1">
            <a:avLst/>
          </a:prstGeom>
          <a:ln w="22320">
            <a:solidFill>
              <a:srgbClr val="ad0000"/>
            </a:solidFill>
            <a:miter/>
            <a:tailEnd len="med" type="arrow" w="med"/>
          </a:ln>
        </p:spPr>
      </p:cxnSp>
      <p:sp>
        <p:nvSpPr>
          <p:cNvPr id="373" name="Прямоугольник 35"/>
          <p:cNvSpPr/>
          <p:nvPr/>
        </p:nvSpPr>
        <p:spPr>
          <a:xfrm>
            <a:off x="7121160" y="613080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TextBox 16"/>
          <p:cNvSpPr/>
          <p:nvPr/>
        </p:nvSpPr>
        <p:spPr>
          <a:xfrm>
            <a:off x="142920" y="500040"/>
            <a:ext cx="39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7"/>
          <p:cNvSpPr/>
          <p:nvPr/>
        </p:nvSpPr>
        <p:spPr>
          <a:xfrm>
            <a:off x="714600" y="285768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ет свойст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2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4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6"/>
          <p:cNvSpPr/>
          <p:nvPr/>
        </p:nvSpPr>
        <p:spPr>
          <a:xfrm>
            <a:off x="155520" y="-136440"/>
            <a:ext cx="80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17"/>
          <p:cNvGraphicFramePr/>
          <p:nvPr/>
        </p:nvGraphicFramePr>
        <p:xfrm>
          <a:off x="2503440" y="2071800"/>
          <a:ext cx="4060800" cy="60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3440" y="2071800"/>
                    <a:ext cx="40608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Блок-схема: узел 12"/>
          <p:cNvSpPr/>
          <p:nvPr/>
        </p:nvSpPr>
        <p:spPr>
          <a:xfrm>
            <a:off x="6500880" y="3857760"/>
            <a:ext cx="2143080" cy="2071440"/>
          </a:xfrm>
          <a:prstGeom prst="flowChartConnector">
            <a:avLst/>
          </a:prstGeom>
          <a:solidFill>
            <a:srgbClr val="ffffe1"/>
          </a:solidFill>
          <a:ln w="34920">
            <a:solidFill>
              <a:srgbClr val="a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Прямая со стрелкой 17"/>
          <p:cNvCxnSpPr/>
          <p:nvPr/>
        </p:nvCxnSpPr>
        <p:spPr>
          <a:xfrm flipH="1" flipV="1">
            <a:off x="7571520" y="2356920"/>
            <a:ext cx="72360" cy="385848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384" name="Прямая со стрелкой 25"/>
          <p:cNvCxnSpPr/>
          <p:nvPr/>
        </p:nvCxnSpPr>
        <p:spPr>
          <a:xfrm>
            <a:off x="6295680" y="4857840"/>
            <a:ext cx="2848680" cy="21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graphicFrame>
        <p:nvGraphicFramePr>
          <p:cNvPr id="385" name="Object 3"/>
          <p:cNvGraphicFramePr/>
          <p:nvPr/>
        </p:nvGraphicFramePr>
        <p:xfrm>
          <a:off x="7072200" y="2857680"/>
          <a:ext cx="379440" cy="49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72200" y="2857680"/>
                    <a:ext cx="3794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4"/>
          <p:cNvGraphicFramePr/>
          <p:nvPr/>
        </p:nvGraphicFramePr>
        <p:xfrm>
          <a:off x="8604360" y="4905360"/>
          <a:ext cx="353880" cy="49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04360" y="4905360"/>
                    <a:ext cx="35388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5"/>
          <p:cNvGraphicFramePr/>
          <p:nvPr/>
        </p:nvGraphicFramePr>
        <p:xfrm>
          <a:off x="7358040" y="4714920"/>
          <a:ext cx="271440" cy="382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58040" y="4714920"/>
                    <a:ext cx="27144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91" name="Прямая со стрелкой 32"/>
          <p:cNvCxnSpPr/>
          <p:nvPr/>
        </p:nvCxnSpPr>
        <p:spPr>
          <a:xfrm flipV="1">
            <a:off x="7642800" y="2999880"/>
            <a:ext cx="1143720" cy="1858320"/>
          </a:xfrm>
          <a:prstGeom prst="straightConnector1">
            <a:avLst/>
          </a:prstGeom>
          <a:ln w="22320">
            <a:solidFill>
              <a:srgbClr val="ad0000"/>
            </a:solidFill>
            <a:miter/>
            <a:tailEnd len="med" type="arrow" w="med"/>
          </a:ln>
        </p:spPr>
      </p:cxnSp>
      <p:sp>
        <p:nvSpPr>
          <p:cNvPr id="392" name="Прямоугольник 18"/>
          <p:cNvSpPr/>
          <p:nvPr/>
        </p:nvSpPr>
        <p:spPr>
          <a:xfrm>
            <a:off x="928800" y="150012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ность, задаваемая уравн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600120" y="3444120"/>
            <a:ext cx="618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Точка 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нтр окруж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ди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ямые               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и симметр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График окружности (2) изображ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ис.2  и  получается из окружности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авнением (1) параллельным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ектор  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5"/>
          <p:cNvSpPr/>
          <p:nvPr/>
        </p:nvSpPr>
        <p:spPr>
          <a:xfrm>
            <a:off x="514440" y="31680"/>
            <a:ext cx="647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16"/>
          <p:cNvGraphicFramePr/>
          <p:nvPr/>
        </p:nvGraphicFramePr>
        <p:xfrm>
          <a:off x="1857240" y="3433680"/>
          <a:ext cx="1282680" cy="49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57240" y="3433680"/>
                    <a:ext cx="12826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19"/>
          <p:cNvGraphicFramePr/>
          <p:nvPr/>
        </p:nvGraphicFramePr>
        <p:xfrm>
          <a:off x="2413080" y="4148280"/>
          <a:ext cx="1801800" cy="495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8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13080" y="4148280"/>
                    <a:ext cx="180180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0"/>
          <p:cNvGraphicFramePr/>
          <p:nvPr/>
        </p:nvGraphicFramePr>
        <p:xfrm>
          <a:off x="2357280" y="6000840"/>
          <a:ext cx="654120" cy="550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0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57280" y="6000840"/>
                    <a:ext cx="6541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Прямоугольник 34"/>
          <p:cNvSpPr/>
          <p:nvPr/>
        </p:nvSpPr>
        <p:spPr>
          <a:xfrm>
            <a:off x="6978240" y="60008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2" name="Object 21"/>
          <p:cNvGraphicFramePr/>
          <p:nvPr/>
        </p:nvGraphicFramePr>
        <p:xfrm>
          <a:off x="8545680" y="2517840"/>
          <a:ext cx="325440" cy="492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3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545680" y="2517840"/>
                    <a:ext cx="32544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Прямая соединительная линия 40"/>
          <p:cNvSpPr/>
          <p:nvPr/>
        </p:nvSpPr>
        <p:spPr>
          <a:xfrm>
            <a:off x="7500960" y="3071880"/>
            <a:ext cx="1214280" cy="144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ая соединительная линия 43"/>
          <p:cNvSpPr/>
          <p:nvPr/>
        </p:nvSpPr>
        <p:spPr>
          <a:xfrm>
            <a:off x="8714520" y="3143160"/>
            <a:ext cx="71640" cy="1714680"/>
          </a:xfrm>
          <a:prstGeom prst="line">
            <a:avLst/>
          </a:prstGeom>
          <a:ln w="9360">
            <a:solidFill>
              <a:srgbClr val="c9c9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Object 22"/>
          <p:cNvGraphicFramePr/>
          <p:nvPr/>
        </p:nvGraphicFramePr>
        <p:xfrm>
          <a:off x="7143840" y="2286000"/>
          <a:ext cx="298440" cy="355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7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143840" y="2286000"/>
                    <a:ext cx="29844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993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пределение. Эллип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геометрическое место точек на плоскости, для каждой из которых сумма расстояний до двух данных точек, называемых фокусами, есть величина постоянн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Эллип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 геометрическое место точек на плоскости, координаты которых в некоторой прямоугольной системе координат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x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удовлетворяет уравн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             уравнение (1) является уравнением окружности радиуса          с центром в начале координат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6"/>
          <p:cNvSpPr/>
          <p:nvPr/>
        </p:nvSpPr>
        <p:spPr>
          <a:xfrm>
            <a:off x="142920" y="500040"/>
            <a:ext cx="3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ли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Объект 2"/>
              <p:cNvSpPr txBox="1"/>
              <p:nvPr/>
            </p:nvSpPr>
            <p:spPr>
              <a:xfrm>
                <a:off x="1522440" y="3959280"/>
                <a:ext cx="29782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Объект 4"/>
              <p:cNvSpPr txBox="1"/>
              <p:nvPr/>
            </p:nvSpPr>
            <p:spPr>
              <a:xfrm>
                <a:off x="1409760" y="5340240"/>
                <a:ext cx="6411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Объект 7"/>
              <p:cNvSpPr txBox="1"/>
              <p:nvPr/>
            </p:nvSpPr>
            <p:spPr>
              <a:xfrm>
                <a:off x="1893960" y="5769000"/>
                <a:ext cx="2300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5" name="Picture 2" descr="C:\Users\MANYA\Desktop\фото (3).JPG"/>
          <p:cNvPicPr/>
          <p:nvPr/>
        </p:nvPicPr>
        <p:blipFill>
          <a:blip r:embed="rId1"/>
          <a:stretch/>
        </p:blipFill>
        <p:spPr>
          <a:xfrm>
            <a:off x="5214960" y="3500280"/>
            <a:ext cx="32148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610920" y="1557360"/>
            <a:ext cx="7993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Центр эллипса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чка О(0;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ершины эллипса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си эллип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         -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уоси эллип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си симметрии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y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ы эллипса – точки,                             где                    если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                      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6"/>
          <p:cNvSpPr/>
          <p:nvPr/>
        </p:nvSpPr>
        <p:spPr>
          <a:xfrm>
            <a:off x="142920" y="1890720"/>
            <a:ext cx="3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ли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Объект 8"/>
              <p:cNvSpPr txBox="1"/>
              <p:nvPr/>
            </p:nvSpPr>
            <p:spPr>
              <a:xfrm>
                <a:off x="4792680" y="2313000"/>
                <a:ext cx="34513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Объект 10"/>
              <p:cNvSpPr txBox="1"/>
              <p:nvPr/>
            </p:nvSpPr>
            <p:spPr>
              <a:xfrm>
                <a:off x="1407960" y="2708280"/>
                <a:ext cx="1795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Объект 12"/>
              <p:cNvSpPr txBox="1"/>
              <p:nvPr/>
            </p:nvSpPr>
            <p:spPr>
              <a:xfrm>
                <a:off x="1403280" y="3068640"/>
                <a:ext cx="370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Объект 14"/>
              <p:cNvSpPr txBox="1"/>
              <p:nvPr/>
            </p:nvSpPr>
            <p:spPr>
              <a:xfrm>
                <a:off x="4284720" y="3789360"/>
                <a:ext cx="1468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Объект 16"/>
              <p:cNvSpPr txBox="1"/>
              <p:nvPr/>
            </p:nvSpPr>
            <p:spPr>
              <a:xfrm>
                <a:off x="6300720" y="3789360"/>
                <a:ext cx="10638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Объект 18"/>
              <p:cNvSpPr txBox="1"/>
              <p:nvPr/>
            </p:nvSpPr>
            <p:spPr>
              <a:xfrm>
                <a:off x="8101080" y="3789360"/>
                <a:ext cx="5475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b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Объект 20"/>
              <p:cNvSpPr txBox="1"/>
              <p:nvPr/>
            </p:nvSpPr>
            <p:spPr>
              <a:xfrm>
                <a:off x="971640" y="4149720"/>
                <a:ext cx="14698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Объект 22"/>
              <p:cNvSpPr txBox="1"/>
              <p:nvPr/>
            </p:nvSpPr>
            <p:spPr>
              <a:xfrm>
                <a:off x="3059280" y="4149720"/>
                <a:ext cx="10648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Объект 23"/>
              <p:cNvSpPr txBox="1"/>
              <p:nvPr/>
            </p:nvSpPr>
            <p:spPr>
              <a:xfrm>
                <a:off x="4994280" y="4221000"/>
                <a:ext cx="56844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b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37" name="Picture 84" descr=""/>
          <p:cNvPicPr/>
          <p:nvPr/>
        </p:nvPicPr>
        <p:blipFill>
          <a:blip r:embed="rId1"/>
          <a:stretch/>
        </p:blipFill>
        <p:spPr>
          <a:xfrm>
            <a:off x="2771640" y="4554360"/>
            <a:ext cx="35830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93280" y="1628640"/>
            <a:ext cx="777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ллипс, задаваемый уравнени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ладает свойст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6"/>
          <p:cNvSpPr/>
          <p:nvPr/>
        </p:nvSpPr>
        <p:spPr>
          <a:xfrm>
            <a:off x="142920" y="1962000"/>
            <a:ext cx="39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лип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Объект 7"/>
              <p:cNvSpPr txBox="1"/>
              <p:nvPr/>
            </p:nvSpPr>
            <p:spPr>
              <a:xfrm>
                <a:off x="5219640" y="1700280"/>
                <a:ext cx="3067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43" name="Picture 4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6051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050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пределение.</a:t>
            </a: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Гипербол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геометрическое место точек на плоскости, для каждой из которых модуль разности расстояний до двух данных точек, называемых фокусами, есть величина постоян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Каноническое уравнение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а)    или                           (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6"/>
          <p:cNvSpPr/>
          <p:nvPr/>
        </p:nvSpPr>
        <p:spPr>
          <a:xfrm>
            <a:off x="142920" y="1962000"/>
            <a:ext cx="39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Объект 7"/>
              <p:cNvSpPr txBox="1"/>
              <p:nvPr/>
            </p:nvSpPr>
            <p:spPr>
              <a:xfrm>
                <a:off x="1763640" y="4548240"/>
                <a:ext cx="1309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Объект 9"/>
              <p:cNvSpPr txBox="1"/>
              <p:nvPr/>
            </p:nvSpPr>
            <p:spPr>
              <a:xfrm>
                <a:off x="5003640" y="4581360"/>
                <a:ext cx="1368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6988320" cy="42832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3" descr=""/>
          <p:cNvPicPr/>
          <p:nvPr/>
        </p:nvPicPr>
        <p:blipFill>
          <a:blip r:embed="rId2"/>
          <a:stretch/>
        </p:blipFill>
        <p:spPr>
          <a:xfrm>
            <a:off x="34920" y="1844640"/>
            <a:ext cx="463680" cy="2689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93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Уравнение прямой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проходящей через точку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 с заданным угловым коэффициентом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i="1" lang="en-US" sz="3800" spc="-1" strike="noStrike">
                <a:solidFill>
                  <a:srgbClr val="330033"/>
                </a:solidFill>
                <a:latin typeface="Times New Roman"/>
              </a:rPr>
              <a:t>k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330033"/>
                </a:solidFill>
                <a:latin typeface="Times New Roman"/>
              </a:rPr>
              <a:t>при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7093080" y="981000"/>
            <a:ext cx="1295280" cy="523800"/>
          </a:xfrm>
          <a:prstGeom prst="rect">
            <a:avLst/>
          </a:prstGeom>
          <a:ln w="0">
            <a:noFill/>
          </a:ln>
        </p:spPr>
      </p:pic>
      <p:sp>
        <p:nvSpPr>
          <p:cNvPr id="124" name="Line 8"/>
          <p:cNvSpPr/>
          <p:nvPr/>
        </p:nvSpPr>
        <p:spPr>
          <a:xfrm>
            <a:off x="2771640" y="3860640"/>
            <a:ext cx="40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 flipV="1">
            <a:off x="457200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 flipH="1">
            <a:off x="3347640" y="2276640"/>
            <a:ext cx="280836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1"/>
          <p:cNvSpPr/>
          <p:nvPr/>
        </p:nvSpPr>
        <p:spPr>
          <a:xfrm>
            <a:off x="4092480" y="3598920"/>
            <a:ext cx="150840" cy="247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4212720" y="3429000"/>
            <a:ext cx="37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6516720" y="3881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644720" y="206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4573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4572000" y="28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529272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AutoShape 20"/>
          <p:cNvCxnSpPr>
            <a:stCxn id="132" idx="0"/>
          </p:cNvCxnSpPr>
          <p:nvPr/>
        </p:nvCxnSpPr>
        <p:spPr>
          <a:xfrm>
            <a:off x="5292720" y="285228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" name="Text Box 21"/>
          <p:cNvSpPr/>
          <p:nvPr/>
        </p:nvSpPr>
        <p:spPr>
          <a:xfrm>
            <a:off x="5292720" y="270828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(х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;у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5148360" y="38606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4284720" y="2637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4" descr=""/>
          <p:cNvPicPr/>
          <p:nvPr/>
        </p:nvPicPr>
        <p:blipFill>
          <a:blip r:embed="rId2"/>
          <a:stretch/>
        </p:blipFill>
        <p:spPr>
          <a:xfrm>
            <a:off x="2627280" y="4581360"/>
            <a:ext cx="4033800" cy="938520"/>
          </a:xfrm>
          <a:prstGeom prst="rect">
            <a:avLst/>
          </a:prstGeom>
          <a:ln w="0">
            <a:noFill/>
          </a:ln>
        </p:spPr>
      </p:pic>
      <p:sp>
        <p:nvSpPr>
          <p:cNvPr id="139" name="Oval 26"/>
          <p:cNvSpPr/>
          <p:nvPr/>
        </p:nvSpPr>
        <p:spPr>
          <a:xfrm>
            <a:off x="5219640" y="2781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914040" y="1600200"/>
            <a:ext cx="77612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Свойств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3" descr=""/>
          <p:cNvPicPr/>
          <p:nvPr/>
        </p:nvPicPr>
        <p:blipFill>
          <a:blip r:embed="rId1"/>
          <a:stretch/>
        </p:blipFill>
        <p:spPr>
          <a:xfrm>
            <a:off x="34920" y="1844640"/>
            <a:ext cx="463680" cy="26892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58" name="Picture 3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64278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610920" y="1413000"/>
            <a:ext cx="79786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Гиперболы, задаваемые уравнениями: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3" descr=""/>
          <p:cNvPicPr/>
          <p:nvPr/>
        </p:nvPicPr>
        <p:blipFill>
          <a:blip r:embed="rId1"/>
          <a:stretch/>
        </p:blipFill>
        <p:spPr>
          <a:xfrm>
            <a:off x="34920" y="1844640"/>
            <a:ext cx="463680" cy="26892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Объект 3"/>
              <p:cNvSpPr txBox="1"/>
              <p:nvPr/>
            </p:nvSpPr>
            <p:spPr>
              <a:xfrm>
                <a:off x="1795320" y="1989000"/>
                <a:ext cx="22161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Объект 5"/>
              <p:cNvSpPr txBox="1"/>
              <p:nvPr/>
            </p:nvSpPr>
            <p:spPr>
              <a:xfrm>
                <a:off x="5219640" y="1989000"/>
                <a:ext cx="20908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Прямоугольник 17"/>
          <p:cNvSpPr/>
          <p:nvPr/>
        </p:nvSpPr>
        <p:spPr>
          <a:xfrm>
            <a:off x="757800" y="27813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ршин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3" descr=""/>
          <p:cNvPicPr/>
          <p:nvPr/>
        </p:nvPicPr>
        <p:blipFill>
          <a:blip r:embed="rId2"/>
          <a:stretch/>
        </p:blipFill>
        <p:spPr>
          <a:xfrm>
            <a:off x="2131920" y="2565360"/>
            <a:ext cx="6112080" cy="8272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26" descr=""/>
          <p:cNvPicPr/>
          <p:nvPr/>
        </p:nvPicPr>
        <p:blipFill>
          <a:blip r:embed="rId3"/>
          <a:stretch/>
        </p:blipFill>
        <p:spPr>
          <a:xfrm>
            <a:off x="2340000" y="3500280"/>
            <a:ext cx="47260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TextBox 8"/>
          <p:cNvSpPr/>
          <p:nvPr/>
        </p:nvSpPr>
        <p:spPr>
          <a:xfrm>
            <a:off x="182520" y="1484280"/>
            <a:ext cx="4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Объект 10"/>
              <p:cNvSpPr txBox="1"/>
              <p:nvPr/>
            </p:nvSpPr>
            <p:spPr>
              <a:xfrm>
                <a:off x="1071720" y="3214800"/>
                <a:ext cx="960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Объект 12"/>
              <p:cNvSpPr txBox="1"/>
              <p:nvPr/>
            </p:nvSpPr>
            <p:spPr>
              <a:xfrm>
                <a:off x="3286080" y="3214800"/>
                <a:ext cx="8636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p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Прямоугольник 19"/>
          <p:cNvSpPr/>
          <p:nvPr/>
        </p:nvSpPr>
        <p:spPr>
          <a:xfrm>
            <a:off x="571680" y="3629160"/>
            <a:ext cx="3786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          некоторое число,  называемое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аметром  парабо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ь абсцисс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x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вляется осью симметрии параболы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Объект 20"/>
          <p:cNvGraphicFramePr/>
          <p:nvPr/>
        </p:nvGraphicFramePr>
        <p:xfrm>
          <a:off x="1282680" y="3684600"/>
          <a:ext cx="574560" cy="3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7" name="Объект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3684600"/>
                    <a:ext cx="57456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TextBox 10"/>
          <p:cNvSpPr/>
          <p:nvPr/>
        </p:nvSpPr>
        <p:spPr>
          <a:xfrm>
            <a:off x="714240" y="164304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арабол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геометрическое место точек на плоскости, равноудаленных от данной точки, называемой фокусом,  и данной прямой,  называемой директрисой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3"/>
          <a:stretch/>
        </p:blipFill>
        <p:spPr>
          <a:xfrm>
            <a:off x="4286160" y="2857680"/>
            <a:ext cx="4714920" cy="228600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3"/>
          <p:cNvSpPr/>
          <p:nvPr/>
        </p:nvSpPr>
        <p:spPr>
          <a:xfrm>
            <a:off x="3506760" y="90360"/>
            <a:ext cx="21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ноническое у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4"/>
          <p:cNvSpPr/>
          <p:nvPr/>
        </p:nvSpPr>
        <p:spPr>
          <a:xfrm>
            <a:off x="3506760" y="90360"/>
            <a:ext cx="21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Каноническое уравн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7"/>
          <p:cNvSpPr/>
          <p:nvPr/>
        </p:nvSpPr>
        <p:spPr>
          <a:xfrm>
            <a:off x="1071720" y="2773440"/>
            <a:ext cx="31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ноническое урав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8"/>
          <p:cNvSpPr/>
          <p:nvPr/>
        </p:nvSpPr>
        <p:spPr>
          <a:xfrm>
            <a:off x="2431440" y="321480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TextBox 8"/>
          <p:cNvSpPr/>
          <p:nvPr/>
        </p:nvSpPr>
        <p:spPr>
          <a:xfrm>
            <a:off x="182520" y="1484280"/>
            <a:ext cx="4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1143000" y="1501200"/>
            <a:ext cx="56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44"/>
          <p:cNvSpPr/>
          <p:nvPr/>
        </p:nvSpPr>
        <p:spPr>
          <a:xfrm>
            <a:off x="928800" y="2000160"/>
            <a:ext cx="7929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ршина: О(0;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кусы параболы:             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риса:                     и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болы, задаваемые уравнен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                                    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        некоторое число, называемое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араметром парабол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ладают свойств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Object 33"/>
          <p:cNvGraphicFramePr/>
          <p:nvPr/>
        </p:nvGraphicFramePr>
        <p:xfrm>
          <a:off x="3857760" y="2529000"/>
          <a:ext cx="804600" cy="6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2529000"/>
                    <a:ext cx="80460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7"/>
          <p:cNvGraphicFramePr/>
          <p:nvPr/>
        </p:nvGraphicFramePr>
        <p:xfrm>
          <a:off x="5429160" y="2500200"/>
          <a:ext cx="84132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6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9160" y="2500200"/>
                    <a:ext cx="84132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39"/>
          <p:cNvGraphicFramePr/>
          <p:nvPr/>
        </p:nvGraphicFramePr>
        <p:xfrm>
          <a:off x="3438360" y="3143160"/>
          <a:ext cx="776520" cy="57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9" name="Object 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38360" y="3143160"/>
                    <a:ext cx="77652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Rectangle 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Object 41"/>
          <p:cNvGraphicFramePr/>
          <p:nvPr/>
        </p:nvGraphicFramePr>
        <p:xfrm>
          <a:off x="5295960" y="3137040"/>
          <a:ext cx="77616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2" name="Object 4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5960" y="3137040"/>
                    <a:ext cx="77616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7"/>
          <p:cNvSpPr/>
          <p:nvPr/>
        </p:nvSpPr>
        <p:spPr>
          <a:xfrm>
            <a:off x="4449600" y="134280"/>
            <a:ext cx="24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Объект 10"/>
          <p:cNvGraphicFramePr/>
          <p:nvPr/>
        </p:nvGraphicFramePr>
        <p:xfrm>
          <a:off x="5715000" y="3786120"/>
          <a:ext cx="2220840" cy="439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4" name="Объект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5000" y="3786120"/>
                    <a:ext cx="222084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Объект 12"/>
          <p:cNvGraphicFramePr/>
          <p:nvPr/>
        </p:nvGraphicFramePr>
        <p:xfrm>
          <a:off x="1643040" y="4373640"/>
          <a:ext cx="244944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16" name="Объект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43040" y="4373640"/>
                    <a:ext cx="24494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65"/>
          <p:cNvGraphicFramePr/>
          <p:nvPr/>
        </p:nvGraphicFramePr>
        <p:xfrm>
          <a:off x="1571760" y="5072040"/>
          <a:ext cx="347400" cy="378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18" name="Object 6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71760" y="5072040"/>
                    <a:ext cx="347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0" name="TextBox 8"/>
          <p:cNvSpPr/>
          <p:nvPr/>
        </p:nvSpPr>
        <p:spPr>
          <a:xfrm>
            <a:off x="182520" y="1484280"/>
            <a:ext cx="4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3"/>
          <p:cNvGraphicFramePr/>
          <p:nvPr/>
        </p:nvGraphicFramePr>
        <p:xfrm>
          <a:off x="2963880" y="1662120"/>
          <a:ext cx="1179360" cy="4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63880" y="1662120"/>
                    <a:ext cx="117936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5"/>
          <p:cNvSpPr/>
          <p:nvPr/>
        </p:nvSpPr>
        <p:spPr>
          <a:xfrm>
            <a:off x="4464000" y="563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11"/>
          <p:cNvSpPr/>
          <p:nvPr/>
        </p:nvSpPr>
        <p:spPr>
          <a:xfrm>
            <a:off x="642960" y="1643040"/>
            <a:ext cx="8286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шин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кусы параболы:                            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ректриса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и симметрии: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                     .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Object 8"/>
          <p:cNvGraphicFramePr/>
          <p:nvPr/>
        </p:nvGraphicFramePr>
        <p:xfrm>
          <a:off x="3500280" y="2071800"/>
          <a:ext cx="1362240" cy="61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2071800"/>
                    <a:ext cx="136224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Object 10"/>
          <p:cNvGraphicFramePr/>
          <p:nvPr/>
        </p:nvGraphicFramePr>
        <p:xfrm>
          <a:off x="5756400" y="2071800"/>
          <a:ext cx="1315800" cy="61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56400" y="2071800"/>
                    <a:ext cx="131580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Object 12"/>
          <p:cNvGraphicFramePr/>
          <p:nvPr/>
        </p:nvGraphicFramePr>
        <p:xfrm>
          <a:off x="3571920" y="2714760"/>
          <a:ext cx="1023840" cy="57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71920" y="2714760"/>
                    <a:ext cx="10238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Object 14"/>
          <p:cNvGraphicFramePr/>
          <p:nvPr/>
        </p:nvGraphicFramePr>
        <p:xfrm>
          <a:off x="5857920" y="2786040"/>
          <a:ext cx="895320" cy="48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7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7920" y="2786040"/>
                    <a:ext cx="89532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Object 16"/>
          <p:cNvGraphicFramePr/>
          <p:nvPr/>
        </p:nvGraphicFramePr>
        <p:xfrm>
          <a:off x="3143160" y="3214800"/>
          <a:ext cx="941400" cy="503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0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43160" y="3214800"/>
                    <a:ext cx="9414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1" name="Object 18"/>
          <p:cNvGraphicFramePr/>
          <p:nvPr/>
        </p:nvGraphicFramePr>
        <p:xfrm>
          <a:off x="5111640" y="3211560"/>
          <a:ext cx="858960" cy="50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2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11640" y="3211560"/>
                    <a:ext cx="85896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Кривые второго порядка 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4" name="TextBox 8"/>
          <p:cNvSpPr/>
          <p:nvPr/>
        </p:nvSpPr>
        <p:spPr>
          <a:xfrm>
            <a:off x="182520" y="1484280"/>
            <a:ext cx="40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4464000" y="563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19"/>
          <p:cNvSpPr/>
          <p:nvPr/>
        </p:nvSpPr>
        <p:spPr>
          <a:xfrm>
            <a:off x="941760" y="164304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авнение второй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12"/>
          <p:cNvGraphicFramePr/>
          <p:nvPr/>
        </p:nvGraphicFramePr>
        <p:xfrm>
          <a:off x="4284720" y="1589040"/>
          <a:ext cx="4073400" cy="4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589040"/>
                    <a:ext cx="4073400" cy="4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Прямоугольник 25"/>
          <p:cNvSpPr/>
          <p:nvPr/>
        </p:nvSpPr>
        <p:spPr>
          <a:xfrm>
            <a:off x="857160" y="2219400"/>
            <a:ext cx="792972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числа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не равны одновременно нулю, преобразуется к каноническому виду методом выделения полных квадратов и последующим параллельным перенос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6"/>
          <p:cNvSpPr/>
          <p:nvPr/>
        </p:nvSpPr>
        <p:spPr>
          <a:xfrm>
            <a:off x="646560" y="3646800"/>
            <a:ext cx="567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кривой   определяется числами   А  и  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714240" y="4091760"/>
            <a:ext cx="6572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             , то              – окружн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                и                  то             – эллип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                , то        – гипербо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одно из чисел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равно нулю, то –  параб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Object 27"/>
          <p:cNvGraphicFramePr/>
          <p:nvPr/>
        </p:nvGraphicFramePr>
        <p:xfrm>
          <a:off x="2071800" y="4786200"/>
          <a:ext cx="868320" cy="2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71800" y="4786200"/>
                    <a:ext cx="86832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29"/>
          <p:cNvGraphicFramePr/>
          <p:nvPr/>
        </p:nvGraphicFramePr>
        <p:xfrm>
          <a:off x="2071800" y="4429080"/>
          <a:ext cx="617400" cy="27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5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71800" y="4429080"/>
                    <a:ext cx="61740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30"/>
          <p:cNvGraphicFramePr/>
          <p:nvPr/>
        </p:nvGraphicFramePr>
        <p:xfrm>
          <a:off x="3357720" y="4429080"/>
          <a:ext cx="850680" cy="27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7" name="Object 3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4429080"/>
                    <a:ext cx="8506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8" name="Object 32"/>
          <p:cNvGraphicFramePr/>
          <p:nvPr/>
        </p:nvGraphicFramePr>
        <p:xfrm>
          <a:off x="2143080" y="4154400"/>
          <a:ext cx="617760" cy="274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9" name="Object 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43080" y="4154400"/>
                    <a:ext cx="617760" cy="2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0" name="Object 33"/>
          <p:cNvGraphicFramePr/>
          <p:nvPr/>
        </p:nvGraphicFramePr>
        <p:xfrm>
          <a:off x="3500280" y="4071960"/>
          <a:ext cx="387360" cy="365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1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0280" y="4071960"/>
                    <a:ext cx="387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2" name="Object 35"/>
          <p:cNvGraphicFramePr/>
          <p:nvPr/>
        </p:nvGraphicFramePr>
        <p:xfrm>
          <a:off x="5000760" y="4429080"/>
          <a:ext cx="387360" cy="365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3" name="Object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00760" y="4429080"/>
                    <a:ext cx="387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Object 36"/>
          <p:cNvGraphicFramePr/>
          <p:nvPr/>
        </p:nvGraphicFramePr>
        <p:xfrm>
          <a:off x="3571920" y="4714920"/>
          <a:ext cx="387360" cy="365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75" name="Object 3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71920" y="4714920"/>
                    <a:ext cx="387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Object 37"/>
          <p:cNvGraphicFramePr/>
          <p:nvPr/>
        </p:nvGraphicFramePr>
        <p:xfrm>
          <a:off x="6786720" y="5000760"/>
          <a:ext cx="387360" cy="365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77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86720" y="5000760"/>
                    <a:ext cx="38736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08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Уравнение прямой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проходящей через точку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, но не имеющей углового коэффициента, при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Х=Х</a:t>
            </a:r>
            <a:r>
              <a:rPr b="0" lang="ru-RU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5292720" y="907920"/>
            <a:ext cx="1366920" cy="552600"/>
          </a:xfrm>
          <a:prstGeom prst="rect">
            <a:avLst/>
          </a:prstGeom>
          <a:ln w="0">
            <a:noFill/>
          </a:ln>
        </p:spPr>
      </p:pic>
      <p:sp>
        <p:nvSpPr>
          <p:cNvPr id="143" name="Line 5"/>
          <p:cNvSpPr/>
          <p:nvPr/>
        </p:nvSpPr>
        <p:spPr>
          <a:xfrm>
            <a:off x="399564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 flipV="1">
            <a:off x="457200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5292720" y="1989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6516720" y="3881520"/>
            <a:ext cx="3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4644720" y="206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4573800" y="378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4572000" y="28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>
            <a:off x="5292720" y="2852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AutoShape 16"/>
          <p:cNvCxnSpPr>
            <a:stCxn id="149" idx="0"/>
          </p:cNvCxnSpPr>
          <p:nvPr/>
        </p:nvCxnSpPr>
        <p:spPr>
          <a:xfrm>
            <a:off x="5292720" y="285228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" name="Text Box 17"/>
          <p:cNvSpPr/>
          <p:nvPr/>
        </p:nvSpPr>
        <p:spPr>
          <a:xfrm>
            <a:off x="5292720" y="270828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5364000" y="39337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4284720" y="2637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0"/>
          <p:cNvSpPr/>
          <p:nvPr/>
        </p:nvSpPr>
        <p:spPr>
          <a:xfrm>
            <a:off x="5219640" y="278136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Уравнение прямой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проходящей через две заданные точки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5003640" y="328464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 flipV="1">
            <a:off x="5508720" y="169992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6"/>
          <p:cNvSpPr/>
          <p:nvPr/>
        </p:nvSpPr>
        <p:spPr>
          <a:xfrm flipH="1">
            <a:off x="5076720" y="2205000"/>
            <a:ext cx="194472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7236000" y="3213000"/>
            <a:ext cx="3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5219640" y="155736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437440" y="32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5219640" y="206064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3"/>
          <p:cNvSpPr/>
          <p:nvPr/>
        </p:nvSpPr>
        <p:spPr>
          <a:xfrm>
            <a:off x="5508720" y="227664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>
            <a:off x="694836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AutoShape 15"/>
          <p:cNvCxnSpPr>
            <a:stCxn id="164" idx="0"/>
          </p:cNvCxnSpPr>
          <p:nvPr/>
        </p:nvCxnSpPr>
        <p:spPr>
          <a:xfrm>
            <a:off x="6948000" y="2276640"/>
            <a:ext cx="2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7" name="Text Box 16"/>
          <p:cNvSpPr/>
          <p:nvPr/>
        </p:nvSpPr>
        <p:spPr>
          <a:xfrm>
            <a:off x="5940360" y="285264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796000" y="3213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5219640" y="278136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>
            <a:off x="5508720" y="292428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>
            <a:off x="594036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21"/>
          <p:cNvSpPr/>
          <p:nvPr/>
        </p:nvSpPr>
        <p:spPr>
          <a:xfrm>
            <a:off x="5867280" y="29242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2"/>
          <p:cNvSpPr/>
          <p:nvPr/>
        </p:nvSpPr>
        <p:spPr>
          <a:xfrm>
            <a:off x="6877080" y="227664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6948360" y="2205000"/>
            <a:ext cx="884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en-US" sz="1400" spc="-1" strike="noStrike" baseline="-25000">
                <a:solidFill>
                  <a:srgbClr val="330033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5"/>
          <p:cNvSpPr/>
          <p:nvPr/>
        </p:nvSpPr>
        <p:spPr>
          <a:xfrm>
            <a:off x="6732720" y="321300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6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13096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1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9217080" cy="617400"/>
          </a:xfrm>
          <a:prstGeom prst="rect">
            <a:avLst/>
          </a:prstGeom>
          <a:ln w="0">
            <a:noFill/>
          </a:ln>
        </p:spPr>
      </p:pic>
      <p:sp>
        <p:nvSpPr>
          <p:cNvPr id="178" name="Line 32"/>
          <p:cNvSpPr/>
          <p:nvPr/>
        </p:nvSpPr>
        <p:spPr>
          <a:xfrm>
            <a:off x="684360" y="3860640"/>
            <a:ext cx="806436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9" descr=""/>
          <p:cNvPicPr/>
          <p:nvPr/>
        </p:nvPicPr>
        <p:blipFill>
          <a:blip r:embed="rId3"/>
          <a:stretch/>
        </p:blipFill>
        <p:spPr>
          <a:xfrm>
            <a:off x="684360" y="4797360"/>
            <a:ext cx="9791640" cy="647640"/>
          </a:xfrm>
          <a:prstGeom prst="rect">
            <a:avLst/>
          </a:prstGeom>
          <a:ln w="0">
            <a:noFill/>
          </a:ln>
        </p:spPr>
      </p:pic>
      <p:sp>
        <p:nvSpPr>
          <p:cNvPr id="180" name="Line 57"/>
          <p:cNvSpPr/>
          <p:nvPr/>
        </p:nvSpPr>
        <p:spPr>
          <a:xfrm flipV="1">
            <a:off x="6300720" y="4076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8"/>
          <p:cNvSpPr/>
          <p:nvPr/>
        </p:nvSpPr>
        <p:spPr>
          <a:xfrm>
            <a:off x="6012000" y="59500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59"/>
          <p:cNvSpPr/>
          <p:nvPr/>
        </p:nvSpPr>
        <p:spPr>
          <a:xfrm>
            <a:off x="6300720" y="450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60"/>
          <p:cNvSpPr/>
          <p:nvPr/>
        </p:nvSpPr>
        <p:spPr>
          <a:xfrm>
            <a:off x="6300720" y="5300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61"/>
          <p:cNvSpPr/>
          <p:nvPr/>
        </p:nvSpPr>
        <p:spPr>
          <a:xfrm>
            <a:off x="7740720" y="4149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2"/>
          <p:cNvSpPr/>
          <p:nvPr/>
        </p:nvSpPr>
        <p:spPr>
          <a:xfrm>
            <a:off x="5940360" y="436572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3"/>
          <p:cNvSpPr/>
          <p:nvPr/>
        </p:nvSpPr>
        <p:spPr>
          <a:xfrm>
            <a:off x="5940360" y="51577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4"/>
          <p:cNvSpPr/>
          <p:nvPr/>
        </p:nvSpPr>
        <p:spPr>
          <a:xfrm>
            <a:off x="7667640" y="44370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5"/>
          <p:cNvSpPr/>
          <p:nvPr/>
        </p:nvSpPr>
        <p:spPr>
          <a:xfrm>
            <a:off x="7667640" y="52293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6"/>
          <p:cNvSpPr/>
          <p:nvPr/>
        </p:nvSpPr>
        <p:spPr>
          <a:xfrm>
            <a:off x="7740720" y="436572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en-US" sz="1400" spc="-1" strike="noStrike" baseline="-25000">
                <a:solidFill>
                  <a:srgbClr val="330033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7"/>
          <p:cNvSpPr/>
          <p:nvPr/>
        </p:nvSpPr>
        <p:spPr>
          <a:xfrm>
            <a:off x="7740720" y="5157720"/>
            <a:ext cx="884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ru-RU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8"/>
          <p:cNvSpPr/>
          <p:nvPr/>
        </p:nvSpPr>
        <p:spPr>
          <a:xfrm>
            <a:off x="5940360" y="400536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0"/>
          <p:cNvSpPr/>
          <p:nvPr/>
        </p:nvSpPr>
        <p:spPr>
          <a:xfrm>
            <a:off x="8172360" y="5877000"/>
            <a:ext cx="3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1"/>
          <p:cNvSpPr/>
          <p:nvPr/>
        </p:nvSpPr>
        <p:spPr>
          <a:xfrm>
            <a:off x="6302520" y="587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6"/>
          <p:cNvSpPr/>
          <p:nvPr/>
        </p:nvSpPr>
        <p:spPr>
          <a:xfrm>
            <a:off x="7740720" y="595008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Уравнение прямой</a:t>
            </a:r>
            <a:r>
              <a:rPr b="1" lang="ru-RU" sz="32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проходящей через две заданные точки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32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Line 4"/>
          <p:cNvSpPr/>
          <p:nvPr/>
        </p:nvSpPr>
        <p:spPr>
          <a:xfrm flipV="1">
            <a:off x="6300720" y="2349360"/>
            <a:ext cx="0" cy="208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5867280" y="40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8"/>
          <p:cNvSpPr/>
          <p:nvPr/>
        </p:nvSpPr>
        <p:spPr>
          <a:xfrm>
            <a:off x="5796000" y="3357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7667640" y="3933720"/>
            <a:ext cx="35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6588000" y="393372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1"/>
          <p:cNvSpPr/>
          <p:nvPr/>
        </p:nvSpPr>
        <p:spPr>
          <a:xfrm>
            <a:off x="6732720" y="335772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7812000" y="33577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5867280" y="2276640"/>
            <a:ext cx="3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6229800" y="39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781200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680400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0" descr=""/>
          <p:cNvPicPr/>
          <p:nvPr/>
        </p:nvPicPr>
        <p:blipFill>
          <a:blip r:embed="rId1"/>
          <a:stretch/>
        </p:blipFill>
        <p:spPr>
          <a:xfrm>
            <a:off x="684360" y="3357720"/>
            <a:ext cx="10007280" cy="657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1"/>
          <p:cNvSpPr/>
          <p:nvPr/>
        </p:nvSpPr>
        <p:spPr>
          <a:xfrm>
            <a:off x="7740720" y="3068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en-US" sz="1400" spc="-1" strike="noStrike" baseline="-25000">
                <a:solidFill>
                  <a:srgbClr val="330033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6732720" y="3068640"/>
            <a:ext cx="503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0033"/>
                </a:solidFill>
                <a:latin typeface="Arial"/>
              </a:rPr>
              <a:t>М</a:t>
            </a:r>
            <a:r>
              <a:rPr b="0" lang="en-US" sz="1400" spc="-1" strike="noStrike" baseline="-25000">
                <a:solidFill>
                  <a:srgbClr val="330033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6012000" y="3068640"/>
            <a:ext cx="360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Общее уравнение прямой на плоскости: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9790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x+By+C=0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где</a:t>
            </a: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 А,В,С –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чис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Если А=0 В=0 уравнение прямой принимает вид: у=у</a:t>
            </a:r>
            <a:r>
              <a:rPr b="0" lang="ru-RU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, прямая параллельна оси  </a:t>
            </a:r>
            <a:r>
              <a:rPr b="0" i="1" lang="ru-RU" sz="2000" spc="-1" strike="noStrike">
                <a:solidFill>
                  <a:srgbClr val="006600"/>
                </a:solidFill>
                <a:latin typeface="Arial"/>
              </a:rPr>
              <a:t>Ох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,   угловой коэффициент равен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Если А=0 В=0 уравнение прямой принимает вид: х=х</a:t>
            </a:r>
            <a:r>
              <a:rPr b="0" lang="ru-RU" sz="2000" spc="-1" strike="noStrike" baseline="-25000">
                <a:solidFill>
                  <a:srgbClr val="0066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,  прямая параллельна оси  </a:t>
            </a:r>
            <a:r>
              <a:rPr b="0" i="1" lang="en-US" sz="2000" spc="-1" strike="noStrike">
                <a:solidFill>
                  <a:srgbClr val="006600"/>
                </a:solidFill>
                <a:latin typeface="Arial"/>
              </a:rPr>
              <a:t>Oy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,  углового коэффициента не имеет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Если А=0 В=0, то уравнение прямой принимает ви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=kx+b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где: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k=A /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"/>
          <p:cNvSpPr/>
          <p:nvPr/>
        </p:nvSpPr>
        <p:spPr>
          <a:xfrm flipH="1">
            <a:off x="2700000" y="2708280"/>
            <a:ext cx="142920" cy="2160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"/>
          <p:cNvPicPr/>
          <p:nvPr/>
        </p:nvPicPr>
        <p:blipFill>
          <a:blip r:embed="rId1"/>
          <a:stretch/>
        </p:blipFill>
        <p:spPr>
          <a:xfrm>
            <a:off x="6659640" y="1628640"/>
            <a:ext cx="1942920" cy="516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2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195280" y="3716280"/>
            <a:ext cx="144360" cy="21600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H="1">
            <a:off x="2195280" y="4869000"/>
            <a:ext cx="142920" cy="2156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2700000" y="4869000"/>
            <a:ext cx="142920" cy="2156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5280" y="2775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1.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Угловой коэффициент прямой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 проходящей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через</a:t>
            </a:r>
            <a:r>
              <a:rPr b="1" i="1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две точки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1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 и М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(х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;у</a:t>
            </a:r>
            <a:r>
              <a:rPr b="1" i="1" lang="ru-RU" sz="2800" spc="-1" strike="noStrike" baseline="-25000">
                <a:solidFill>
                  <a:srgbClr val="330033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4032000" cy="1881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6227640" y="3141720"/>
            <a:ext cx="208944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0033"/>
                </a:solidFill>
                <a:latin typeface="Times New Roman"/>
              </a:rPr>
              <a:t>2. 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Острый угол </a:t>
            </a:r>
            <a:r>
              <a:rPr b="1" i="1" lang="el-GR" sz="3200" spc="-1" strike="noStrike">
                <a:solidFill>
                  <a:srgbClr val="330033"/>
                </a:solidFill>
                <a:latin typeface="Times New Roman"/>
              </a:rPr>
              <a:t>φ</a:t>
            </a: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 между прямыми, </a:t>
            </a:r>
            <a:br>
              <a:rPr sz="3200"/>
            </a:br>
            <a:r>
              <a:rPr b="1" i="1" lang="ru-RU" sz="3200" spc="-1" strike="noStrike">
                <a:solidFill>
                  <a:srgbClr val="330033"/>
                </a:solidFill>
                <a:latin typeface="Times New Roman"/>
              </a:rPr>
              <a:t>заданными  уравнениями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=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y=k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x+b</a:t>
            </a:r>
            <a:r>
              <a:rPr b="0" lang="en-US" sz="40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яется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404640"/>
            <a:ext cx="50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60836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08:36:26Z</dcterms:created>
  <dc:creator>к.502</dc:creator>
  <dc:description/>
  <dc:language>en-US</dc:language>
  <cp:lastModifiedBy>MANYA</cp:lastModifiedBy>
  <dcterms:modified xsi:type="dcterms:W3CDTF">2014-09-18T19:46:27Z</dcterms:modified>
  <cp:revision>65</cp:revision>
  <dc:subject/>
  <dc:title>Уравнение прямой на плоскости</dc:title>
</cp:coreProperties>
</file>