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30.png" ContentType="image/png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31.png" ContentType="image/png"/>
  <Override PartName="/ppt/media/image25.wmf" ContentType="image/x-wmf"/>
  <Override PartName="/ppt/media/image3.png" ContentType="image/png"/>
  <Override PartName="/ppt/media/image33.png" ContentType="image/png"/>
  <Override PartName="/ppt/media/image29.png" ContentType="image/png"/>
  <Override PartName="/ppt/media/image14.wmf" ContentType="image/x-wmf"/>
  <Override PartName="/ppt/media/image39.png" ContentType="image/png"/>
  <Override PartName="/ppt/media/image34.png" ContentType="image/png"/>
  <Override PartName="/ppt/media/image3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wmf" ContentType="image/x-wmf"/>
  <Override PartName="/ppt/media/image37.png" ContentType="image/png"/>
  <Override PartName="/ppt/media/image48.wmf" ContentType="image/x-wmf"/>
  <Override PartName="/ppt/media/image50.wmf" ContentType="image/x-wmf"/>
  <Override PartName="/ppt/media/image41.png" ContentType="image/png"/>
  <Override PartName="/ppt/media/image9.wmf" ContentType="image/x-wmf"/>
  <Override PartName="/ppt/media/image13.wmf" ContentType="image/x-wmf"/>
  <Override PartName="/ppt/media/image52.png" ContentType="image/png"/>
  <Override PartName="/ppt/media/image5.png" ContentType="image/png"/>
  <Override PartName="/ppt/media/image35.png" ContentType="image/png"/>
  <Override PartName="/ppt/media/image49.wmf" ContentType="image/x-wmf"/>
  <Override PartName="/ppt/media/image12.wmf" ContentType="image/x-wmf"/>
  <Override PartName="/ppt/media/image7.wmf" ContentType="image/x-wmf"/>
  <Override PartName="/ppt/media/image51.wmf" ContentType="image/x-wmf"/>
  <Override PartName="/ppt/media/image11.png" ContentType="image/png"/>
  <Override PartName="/ppt/media/image47.wmf" ContentType="image/x-wmf"/>
  <Override PartName="/ppt/media/image10.wmf" ContentType="image/x-wmf"/>
  <Override PartName="/ppt/media/image40.png" ContentType="image/png"/>
  <Override PartName="/ppt/media/image4.jpeg" ContentType="image/jpeg"/>
  <Override PartName="/ppt/media/image8.wmf" ContentType="image/x-wmf"/>
  <Override PartName="/ppt/media/image6.png" ContentType="image/png"/>
  <Override PartName="/ppt/media/image3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72343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998640" y="685440"/>
            <a:ext cx="486072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01B5-7815-4225-906B-BFC7B9EA40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98640" y="685800"/>
            <a:ext cx="486072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48BB-6FA1-4916-A9C4-E30444FC70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8640" y="685800"/>
            <a:ext cx="486072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A411-2828-478C-A18E-9940A39243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8FBE-8150-4869-B16A-E80CB2219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DD60-D86B-49C3-B477-369C46A5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CC2E-1C9E-4C77-A520-EC4B3982C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8736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8944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528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8736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8944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6682-B306-4BDB-B21F-50506F1D5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49A8C-8A3D-4AB2-8288-5ABBB4C0F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F72B-E061-4A34-A503-D5B52276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0266-7A5A-464A-AAD6-5D6433CA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154B-CAB3-4E83-A554-A4B074D6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D255-1FF6-41FC-BBA4-C1C2A838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85280" y="320400"/>
            <a:ext cx="769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39EE-0D7A-46AE-BE23-8A4E746A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CED8-AE49-4F82-815A-BB134259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1075-58EF-45E6-9910-54B6EF59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009F-97EE-4F58-8625-21F79F52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9494-D74C-4E15-A21A-0ED1467E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9ABF-7A91-4A04-B80F-B2BFFD09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6EEB-6F74-4B96-A08A-05ABB2F4E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8736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8944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528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8736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8944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865F-2AEB-461A-B3DC-1A2248592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20E31-9760-4B06-9891-44617AF1C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26045-99A5-47CE-986F-F4AFB552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3D5A4-AC9F-43A5-87A8-B6AB0D77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C2269-24CC-489B-9784-29AA682A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F7E45-A807-41C2-9FC4-A9C8DE99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72EA-71ED-4511-8290-338A6A54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85280" y="320400"/>
            <a:ext cx="769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AB19C-F0E7-446E-BC9E-36903619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E917A-BEF6-409D-A194-59D23C7D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FE398-82E5-4161-A72F-BD11A34F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D17C9-E567-4E32-8DF2-4D296293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0EB98-AC4B-4A86-8CB9-4B5B1D73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0FED9-EE0A-42D2-822F-09D466044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08736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68944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528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08736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68944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2004A-5A8A-4638-89EA-252C4DFD5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BB7E7-3A79-4894-A0E1-E87E7DC53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6D469-B6D1-4937-858E-830E37E2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AC6FF-1E87-4FEE-B007-3DF4F9E0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4F01-487D-48D6-8B2D-548C8F40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5BF26-FA2A-42A5-9544-CD2698D1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02644-51C4-4E8D-A912-3433FE7B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85280" y="320400"/>
            <a:ext cx="769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3078F-A254-45FF-A0C1-2220EB7E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53028-72A2-4045-A6E0-23E1002C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0E5E4-1604-4D73-BF5E-7E03E6EC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CAA35-E379-4F40-894F-6E879A47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349BD-7702-4BDC-8055-0C582B62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B9EDB-ED9B-4E97-AA8D-BC77486A6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08736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68944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8528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08736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68944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42E36-3965-466D-9E0C-FD1185CD6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D64D6-1FF2-4040-891C-715E557CB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6242-2085-43A4-A964-32FFB8DF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E78FF-9986-46CB-91DF-F3BA167F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115A1-35D6-4098-99F5-70C21032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7E58E-0F81-4304-9D34-2D88717D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9BBE2-8480-4D3E-B9EB-310D2D50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85280" y="320400"/>
            <a:ext cx="769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AADE1-56A4-4EC9-B774-D342F2838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AB5E7-B562-4CEC-8F9B-4D7A6443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7C178-DAE4-4795-BE06-ED2CD8DA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62C0D-9123-4CCB-B8B0-ED88E41D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1373C-B428-4F0E-AC90-3C385502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44065-D68D-40FB-AD80-94CBFAE61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85280" y="320400"/>
            <a:ext cx="769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2AF0-A3B7-4980-BFCF-A6AF2FE9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08736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68944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8528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08736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68944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8E96C-60BD-4289-8E77-C071AC808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B619-F236-4D3F-B339-405B3585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8EC4-7AB8-48E6-89EC-2828884A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838A-B173-46E0-8AEC-2E4C8206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663040" y="-6480"/>
            <a:ext cx="1066680" cy="6870960"/>
            <a:chOff x="8663040" y="-6480"/>
            <a:chExt cx="10666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663040" y="-6480"/>
              <a:ext cx="10666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669160" y="0"/>
              <a:ext cx="10526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14760" y="6558120"/>
            <a:ext cx="212904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85640" y="6557760"/>
            <a:ext cx="3889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46680" y="6555960"/>
            <a:ext cx="625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43B4-BFE7-4C60-9E78-B235622CD49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828880" y="-6480"/>
            <a:ext cx="6900840" cy="6870960"/>
            <a:chOff x="2828880" y="-6480"/>
            <a:chExt cx="690084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828880" y="-6480"/>
              <a:ext cx="690084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835360" y="0"/>
              <a:ext cx="68864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83536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241680" y="6558120"/>
            <a:ext cx="212868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997000" y="6557760"/>
            <a:ext cx="3112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78640" y="6555960"/>
            <a:ext cx="625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315A-6B21-417C-A7F6-CB5EDD785ED1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663040" y="-6480"/>
            <a:ext cx="1066680" cy="6870960"/>
            <a:chOff x="8663040" y="-6480"/>
            <a:chExt cx="10666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663040" y="-6480"/>
              <a:ext cx="10666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669160" y="0"/>
              <a:ext cx="10526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022720" y="6555960"/>
            <a:ext cx="212904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844280" y="6555960"/>
            <a:ext cx="3078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159320" y="6554520"/>
            <a:ext cx="625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C1D8-E91B-4849-9056-EB7387C58E9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635040" y="1004400"/>
            <a:ext cx="459252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634680" y="998280"/>
            <a:ext cx="459252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14760" y="6558120"/>
            <a:ext cx="212904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85640" y="6557760"/>
            <a:ext cx="3889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646680" y="6555960"/>
            <a:ext cx="625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7F46-80C9-4E1F-804C-01E71D9BD6E3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663040" y="-6480"/>
            <a:ext cx="1066680" cy="6870960"/>
            <a:chOff x="8663040" y="-6480"/>
            <a:chExt cx="10666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663040" y="-6480"/>
              <a:ext cx="10666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669160" y="0"/>
              <a:ext cx="10526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11520" y="6558120"/>
            <a:ext cx="212904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85640" y="6555960"/>
            <a:ext cx="3889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649920" y="6552720"/>
            <a:ext cx="6256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7318-AA62-4B5A-9806-AC6680785ADF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.wmf"/><Relationship Id="rId1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3.wmf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2792520" y="353880"/>
            <a:ext cx="7173720" cy="43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252000" y="1325520"/>
            <a:ext cx="82090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2600" spc="-1" strike="noStrike">
                <a:solidFill>
                  <a:srgbClr val="a50021"/>
                </a:solidFill>
                <a:latin typeface="Trebuchet MS"/>
              </a:rPr>
              <a:t>Определение 1.</a:t>
            </a: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2600" spc="-1" strike="noStrike">
                <a:solidFill>
                  <a:srgbClr val="002060"/>
                </a:solidFill>
                <a:latin typeface="Trebuchet MS"/>
              </a:rPr>
              <a:t>Рациональной дробью </a:t>
            </a: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называется дробь вида </a:t>
            </a: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              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rebuchet MS"/>
              </a:rPr>
              <a:t>                                         </a:t>
            </a:r>
            <a:r>
              <a:rPr b="1" lang="ru-RU" sz="2600" spc="-1" strike="noStrike">
                <a:solidFill>
                  <a:srgbClr val="002060"/>
                </a:solidFill>
                <a:latin typeface="Trebuchet MS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где                           - многочлены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rebuchet MS"/>
              </a:rPr>
              <a:t>   </a:t>
            </a:r>
            <a:r>
              <a:rPr b="1" i="1" lang="ru-RU" sz="2600" spc="-1" strike="noStrike">
                <a:solidFill>
                  <a:srgbClr val="a50021"/>
                </a:solidFill>
                <a:latin typeface="Trebuchet MS"/>
              </a:rPr>
              <a:t>Определение 2. </a:t>
            </a:r>
            <a:r>
              <a:rPr b="0" i="1" lang="ru-RU" sz="2600" spc="-1" strike="noStrike">
                <a:solidFill>
                  <a:srgbClr val="002060"/>
                </a:solidFill>
                <a:latin typeface="Trebuchet MS"/>
              </a:rPr>
              <a:t>Рациональная дробь </a:t>
            </a: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называется правильной, если степень многочлена        ниже степени многочлена           , в противном случае дробь называется неправильно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10"/>
              <p:cNvSpPr txBox="1"/>
              <p:nvPr/>
            </p:nvSpPr>
            <p:spPr>
              <a:xfrm>
                <a:off x="2838600" y="2139840"/>
                <a:ext cx="137448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7"/>
              <p:cNvSpPr txBox="1"/>
              <p:nvPr/>
            </p:nvSpPr>
            <p:spPr>
              <a:xfrm>
                <a:off x="1260360" y="3262320"/>
                <a:ext cx="21430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8"/>
              <p:cNvSpPr txBox="1"/>
              <p:nvPr/>
            </p:nvSpPr>
            <p:spPr>
              <a:xfrm>
                <a:off x="6661080" y="4487760"/>
                <a:ext cx="9288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9"/>
              <p:cNvSpPr txBox="1"/>
              <p:nvPr/>
            </p:nvSpPr>
            <p:spPr>
              <a:xfrm>
                <a:off x="4068720" y="4919760"/>
                <a:ext cx="10098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-42840" y="-103320"/>
            <a:ext cx="876600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Rectangle 2" descr=""/>
          <p:cNvPicPr/>
          <p:nvPr/>
        </p:nvPicPr>
        <p:blipFill>
          <a:blip r:embed="rId1"/>
          <a:stretch/>
        </p:blipFill>
        <p:spPr>
          <a:xfrm>
            <a:off x="665280" y="480960"/>
            <a:ext cx="7729560" cy="43344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-360" y="714240"/>
            <a:ext cx="8389800" cy="53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b142a"/>
                </a:solidFill>
                <a:latin typeface="Trebuchet MS"/>
              </a:rPr>
              <a:t>Во всех четырех случаях   </a:t>
            </a:r>
            <a:r>
              <a:rPr b="0" i="1" lang="ru-RU" sz="2800" spc="-1" strike="noStrike">
                <a:solidFill>
                  <a:srgbClr val="3b142a"/>
                </a:solidFill>
                <a:latin typeface="Trebuchet MS"/>
              </a:rPr>
              <a:t>А,</a:t>
            </a:r>
            <a:r>
              <a:rPr b="0" i="1" lang="en-US" sz="2800" spc="-1" strike="noStrike">
                <a:solidFill>
                  <a:srgbClr val="3b142a"/>
                </a:solidFill>
                <a:latin typeface="Trebuchet MS"/>
              </a:rPr>
              <a:t> B, p, q, a  </a:t>
            </a:r>
            <a:r>
              <a:rPr b="0" lang="en-US" sz="2800" spc="-1" strike="noStrike">
                <a:solidFill>
                  <a:srgbClr val="3b142a"/>
                </a:solidFill>
                <a:latin typeface="Trebuchet MS"/>
              </a:rPr>
              <a:t>-</a:t>
            </a:r>
            <a:r>
              <a:rPr b="0" lang="ru-RU" sz="2800" spc="-1" strike="noStrike">
                <a:solidFill>
                  <a:srgbClr val="3b142a"/>
                </a:solidFill>
                <a:latin typeface="Trebuchet MS"/>
              </a:rPr>
              <a:t>действительные числа.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10"/>
              <p:cNvSpPr txBox="1"/>
              <p:nvPr/>
            </p:nvSpPr>
            <p:spPr>
              <a:xfrm>
                <a:off x="612720" y="981000"/>
                <a:ext cx="147816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6"/>
              <p:cNvSpPr txBox="1"/>
              <p:nvPr/>
            </p:nvSpPr>
            <p:spPr>
              <a:xfrm>
                <a:off x="612720" y="1766880"/>
                <a:ext cx="7791480" cy="28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цело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число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больше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единицы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x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q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539280" y="189000"/>
            <a:ext cx="79930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Теорема. 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Всякая неправильная рациональная дробь представима в виде суммы многочлена (ее целой части) и правильной рациональной дроб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Замечание.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Такого представления можно достичь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 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например, с помощью деления многочленов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на             «в столбик»,  прекращая процедуру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деления как только степень многочлена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сформировавшегося в остатке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станет меньше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степени многочлена              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 </a:t>
            </a:r>
            <a:r>
              <a:rPr b="1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Теорема.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Всякую правильную рациональную дробь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можно представить в виде суммы конечного числ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простейших  рациональных дробе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51" name="Объект 4"/>
          <p:cNvGraphicFramePr/>
          <p:nvPr/>
        </p:nvGraphicFramePr>
        <p:xfrm>
          <a:off x="7381800" y="1916280"/>
          <a:ext cx="846360" cy="53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1800" y="1916280"/>
                    <a:ext cx="84636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53" name="Объект 5"/>
              <p:cNvSpPr txBox="1"/>
              <p:nvPr/>
            </p:nvSpPr>
            <p:spPr>
              <a:xfrm>
                <a:off x="1189080" y="2421000"/>
                <a:ext cx="836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Объект 6"/>
              <p:cNvSpPr txBox="1"/>
              <p:nvPr/>
            </p:nvSpPr>
            <p:spPr>
              <a:xfrm>
                <a:off x="3808440" y="3789360"/>
                <a:ext cx="836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Rectangle 2" descr=""/>
          <p:cNvPicPr/>
          <p:nvPr/>
        </p:nvPicPr>
        <p:blipFill>
          <a:blip r:embed="rId1"/>
          <a:stretch/>
        </p:blipFill>
        <p:spPr>
          <a:xfrm>
            <a:off x="646200" y="255600"/>
            <a:ext cx="7748640" cy="7318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323640" y="1052280"/>
            <a:ext cx="80658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6c6c"/>
                </a:solidFill>
                <a:latin typeface="Trebuchet MS"/>
              </a:rPr>
              <a:t>                                              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357" name="Прямоугольник 5"/>
          <p:cNvSpPr/>
          <p:nvPr/>
        </p:nvSpPr>
        <p:spPr>
          <a:xfrm>
            <a:off x="252360" y="1268280"/>
            <a:ext cx="8353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Для разложения рациональ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дроби    надо сделать следующие алгебраические преобразования  и  вычис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>
              <a:lnSpc>
                <a:spcPct val="15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Если дана неправильная рациональная дробь, то выделить из нее целую часть,  т.е представить в ви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                                      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многочлен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авильная рациональная дроб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Object 10"/>
              <p:cNvSpPr txBox="1"/>
              <p:nvPr/>
            </p:nvSpPr>
            <p:spPr>
              <a:xfrm>
                <a:off x="2124000" y="1844640"/>
                <a:ext cx="12240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7"/>
              <p:cNvSpPr txBox="1"/>
              <p:nvPr/>
            </p:nvSpPr>
            <p:spPr>
              <a:xfrm>
                <a:off x="1116000" y="4508640"/>
                <a:ext cx="5040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М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где</m:t>
                    </m:r>
                    <m:r>
                      <m:t xml:space="preserve"> </m:t>
                    </m:r>
                    <m:r>
                      <m:t xml:space="preserve">М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6"/>
              <p:cNvSpPr txBox="1"/>
              <p:nvPr/>
            </p:nvSpPr>
            <p:spPr>
              <a:xfrm>
                <a:off x="1217520" y="5589720"/>
                <a:ext cx="12668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06580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6c6c"/>
                </a:solidFill>
                <a:latin typeface="Trebuchet MS"/>
              </a:rPr>
              <a:t>                                              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362" name="Прямоугольник 8"/>
          <p:cNvSpPr/>
          <p:nvPr/>
        </p:nvSpPr>
        <p:spPr>
          <a:xfrm>
            <a:off x="324000" y="527040"/>
            <a:ext cx="8208720" cy="67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57160" indent="-342720">
              <a:lnSpc>
                <a:spcPct val="15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азложить знаменатель дроби на линейные и квадратичные множи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15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авильную рациональную дробь разложить на простейшие дроб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а практике осуществить разложение правильной рациональной дроби    на сумму простейших рациональных дробей можно по следующей  схе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100000"/>
              </a:lnSpc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йти корни многочле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100000"/>
              </a:lnSpc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100000"/>
              </a:lnSpc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100000"/>
              </a:lnSpc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едставить его в виде разложения на множит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100000"/>
              </a:lnSpc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42720">
              <a:lnSpc>
                <a:spcPct val="80000"/>
              </a:lnSpc>
              <a:buClr>
                <a:srgbClr val="00206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Объект 2"/>
              <p:cNvSpPr txBox="1"/>
              <p:nvPr/>
            </p:nvSpPr>
            <p:spPr>
              <a:xfrm>
                <a:off x="1620720" y="4292640"/>
                <a:ext cx="50403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5" name="Rectangle 7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Объект 4"/>
              <p:cNvSpPr txBox="1"/>
              <p:nvPr/>
            </p:nvSpPr>
            <p:spPr>
              <a:xfrm>
                <a:off x="684360" y="5877000"/>
                <a:ext cx="77533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e>
                      <m: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sup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e>
                      <m:sup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8245440" cy="62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3.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аписать разложение с неопределенными коэффициентам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и: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Rectangle 2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Объект 5"/>
              <p:cNvSpPr txBox="1"/>
              <p:nvPr/>
            </p:nvSpPr>
            <p:spPr>
              <a:xfrm>
                <a:off x="1332000" y="1341360"/>
                <a:ext cx="681336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k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0" name="Rectangle 4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Объект 7"/>
              <p:cNvSpPr txBox="1"/>
              <p:nvPr/>
            </p:nvSpPr>
            <p:spPr>
              <a:xfrm>
                <a:off x="1332000" y="2133720"/>
                <a:ext cx="43653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2" name="Rectangle 6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Объект 9"/>
              <p:cNvSpPr txBox="1"/>
              <p:nvPr/>
            </p:nvSpPr>
            <p:spPr>
              <a:xfrm>
                <a:off x="5653080" y="2133720"/>
                <a:ext cx="22287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sup>
                        </m:sSup>
                      </m:den>
                    </m:f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Rectangle 8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Объект 11"/>
              <p:cNvSpPr txBox="1"/>
              <p:nvPr/>
            </p:nvSpPr>
            <p:spPr>
              <a:xfrm>
                <a:off x="1332000" y="2924280"/>
                <a:ext cx="180972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l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l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6" name="Прямоугольник 12"/>
          <p:cNvSpPr/>
          <p:nvPr/>
        </p:nvSpPr>
        <p:spPr>
          <a:xfrm>
            <a:off x="991440" y="3645000"/>
            <a:ext cx="48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4. Определить коэффици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Объект 14"/>
              <p:cNvSpPr txBox="1"/>
              <p:nvPr/>
            </p:nvSpPr>
            <p:spPr>
              <a:xfrm>
                <a:off x="1405080" y="4149720"/>
                <a:ext cx="29192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k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9" name="Rectangle 12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Объект 16"/>
              <p:cNvSpPr txBox="1"/>
              <p:nvPr/>
            </p:nvSpPr>
            <p:spPr>
              <a:xfrm>
                <a:off x="4284720" y="4149720"/>
                <a:ext cx="12175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Объект 18"/>
              <p:cNvSpPr txBox="1"/>
              <p:nvPr/>
            </p:nvSpPr>
            <p:spPr>
              <a:xfrm>
                <a:off x="6805440" y="4753080"/>
                <a:ext cx="28764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2" name="Rectangle 15"/>
          <p:cNvSpPr/>
          <p:nvPr/>
        </p:nvSpPr>
        <p:spPr>
          <a:xfrm>
            <a:off x="4934160" y="47736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7"/>
          <p:cNvSpPr/>
          <p:nvPr/>
        </p:nvSpPr>
        <p:spPr>
          <a:xfrm>
            <a:off x="1376280" y="4660560"/>
            <a:ext cx="672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уммарное число  которых равно      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Объект 21"/>
              <p:cNvSpPr txBox="1"/>
              <p:nvPr/>
            </p:nvSpPr>
            <p:spPr>
              <a:xfrm>
                <a:off x="152280" y="609480"/>
                <a:ext cx="12384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5" name="Rectangle 18"/>
          <p:cNvSpPr/>
          <p:nvPr/>
        </p:nvSpPr>
        <p:spPr>
          <a:xfrm>
            <a:off x="5086440" y="62964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Заголовок 1" descr=""/>
          <p:cNvPicPr/>
          <p:nvPr/>
        </p:nvPicPr>
        <p:blipFill>
          <a:blip r:embed="rId1"/>
          <a:stretch/>
        </p:blipFill>
        <p:spPr>
          <a:xfrm>
            <a:off x="480960" y="268200"/>
            <a:ext cx="7840800" cy="7192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485280" y="1125000"/>
            <a:ext cx="7975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20560" indent="-228600">
              <a:lnSpc>
                <a:spcPct val="100000"/>
              </a:lnSpc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 р и м е р.  Определить, какие из указанных рациональных дробей являются правильными: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а)   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б)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)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Объект 5"/>
              <p:cNvSpPr txBox="1"/>
              <p:nvPr/>
            </p:nvSpPr>
            <p:spPr>
              <a:xfrm>
                <a:off x="1620720" y="2205000"/>
                <a:ext cx="224784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0" name="Rectangle 4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Объект 7"/>
              <p:cNvSpPr txBox="1"/>
              <p:nvPr/>
            </p:nvSpPr>
            <p:spPr>
              <a:xfrm>
                <a:off x="1620720" y="3141720"/>
                <a:ext cx="2221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2" name="Rectangle 6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Объект 9"/>
              <p:cNvSpPr txBox="1"/>
              <p:nvPr/>
            </p:nvSpPr>
            <p:spPr>
              <a:xfrm>
                <a:off x="2052720" y="4076640"/>
                <a:ext cx="16938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84200" y="333000"/>
            <a:ext cx="79754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135640" cy="25956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4" descr=""/>
          <p:cNvPicPr/>
          <p:nvPr/>
        </p:nvPicPr>
        <p:blipFill>
          <a:blip r:embed="rId2"/>
          <a:stretch/>
        </p:blipFill>
        <p:spPr>
          <a:xfrm>
            <a:off x="324000" y="2924280"/>
            <a:ext cx="8135640" cy="20890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6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Объект 2"/>
              <p:cNvSpPr txBox="1"/>
              <p:nvPr/>
            </p:nvSpPr>
            <p:spPr>
              <a:xfrm>
                <a:off x="2548080" y="5084640"/>
                <a:ext cx="368748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485280" y="333000"/>
            <a:ext cx="7975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3d68"/>
                </a:solidFill>
                <a:latin typeface="Arial"/>
              </a:rPr>
              <a:t>Пример.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азложить  дробь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на сумму простейших рациональных дробей  и  найти  коэффициенты разложения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. 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3d68"/>
                </a:solidFill>
                <a:latin typeface="Arial"/>
              </a:rPr>
              <a:t>Решение.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редставим ее в виде суммы простейших дробей, учитыва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00" name="Рисунок 10" descr=""/>
          <p:cNvPicPr/>
          <p:nvPr/>
        </p:nvPicPr>
        <p:blipFill>
          <a:blip r:embed="rId1"/>
          <a:stretch/>
        </p:blipFill>
        <p:spPr>
          <a:xfrm>
            <a:off x="2197080" y="4869000"/>
            <a:ext cx="4175280" cy="75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1" name="Объект 1"/>
          <p:cNvGraphicFramePr/>
          <p:nvPr/>
        </p:nvGraphicFramePr>
        <p:xfrm>
          <a:off x="2343240" y="836640"/>
          <a:ext cx="3225600" cy="13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2" name="Объект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3240" y="836640"/>
                    <a:ext cx="32256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Рисунок 11" descr=""/>
          <p:cNvPicPr/>
          <p:nvPr/>
        </p:nvPicPr>
        <p:blipFill>
          <a:blip r:embed="rId1"/>
          <a:stretch/>
        </p:blipFill>
        <p:spPr>
          <a:xfrm>
            <a:off x="325440" y="333360"/>
            <a:ext cx="7128000" cy="1133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4" name="Объект 6"/>
              <p:cNvSpPr txBox="1"/>
              <p:nvPr/>
            </p:nvSpPr>
            <p:spPr>
              <a:xfrm>
                <a:off x="252360" y="1700280"/>
                <a:ext cx="8310600" cy="18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x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323640" y="3500280"/>
            <a:ext cx="5459400" cy="52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риравняем числители дробей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Объект 9"/>
              <p:cNvSpPr txBox="1"/>
              <p:nvPr/>
            </p:nvSpPr>
            <p:spPr>
              <a:xfrm>
                <a:off x="252360" y="4365720"/>
                <a:ext cx="7726320" cy="15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t xml:space="preserve">B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217080" y="1609200"/>
            <a:ext cx="83581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Определение. 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Многочленом от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степен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ли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целой рациональной функцией от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зывается функция вид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где                                 действительные числа,     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независимая комплексная переменна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Определение.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Значения       при которых многочлен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вен нулю, называются корнями многочлена.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Rectangle 8" descr=""/>
          <p:cNvPicPr/>
          <p:nvPr/>
        </p:nvPicPr>
        <p:blipFill>
          <a:blip r:embed="rId1"/>
          <a:stretch/>
        </p:blipFill>
        <p:spPr>
          <a:xfrm>
            <a:off x="480960" y="317520"/>
            <a:ext cx="7705800" cy="115092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2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1"/>
          <p:cNvGraphicFramePr/>
          <p:nvPr/>
        </p:nvGraphicFramePr>
        <p:xfrm>
          <a:off x="5932440" y="1643040"/>
          <a:ext cx="365040" cy="42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32440" y="1643040"/>
                    <a:ext cx="36504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3"/>
          <p:cNvGraphicFramePr/>
          <p:nvPr/>
        </p:nvGraphicFramePr>
        <p:xfrm>
          <a:off x="360360" y="2143080"/>
          <a:ext cx="365040" cy="420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4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0360" y="2143080"/>
                    <a:ext cx="36504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5"/>
          <p:cNvGraphicFramePr/>
          <p:nvPr/>
        </p:nvGraphicFramePr>
        <p:xfrm>
          <a:off x="7147080" y="2214720"/>
          <a:ext cx="365040" cy="420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6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147080" y="2214720"/>
                    <a:ext cx="36504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Rectangle 7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Object 6"/>
          <p:cNvGraphicFramePr/>
          <p:nvPr/>
        </p:nvGraphicFramePr>
        <p:xfrm>
          <a:off x="2003400" y="3071880"/>
          <a:ext cx="4943520" cy="539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9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03400" y="3071880"/>
                    <a:ext cx="494352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9"/>
          <p:cNvGraphicFramePr/>
          <p:nvPr/>
        </p:nvGraphicFramePr>
        <p:xfrm>
          <a:off x="1217520" y="3571920"/>
          <a:ext cx="2895840" cy="485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41" name="Object 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17520" y="3571920"/>
                    <a:ext cx="289584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10"/>
          <p:cNvGraphicFramePr/>
          <p:nvPr/>
        </p:nvGraphicFramePr>
        <p:xfrm>
          <a:off x="217440" y="3929040"/>
          <a:ext cx="365040" cy="4208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43" name="Object 1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17440" y="3929040"/>
                    <a:ext cx="36504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12"/>
          <p:cNvGraphicFramePr/>
          <p:nvPr/>
        </p:nvGraphicFramePr>
        <p:xfrm>
          <a:off x="4289400" y="4429080"/>
          <a:ext cx="365040" cy="4208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45" name="Object 12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289400" y="4429080"/>
                    <a:ext cx="36504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07" name="Object 7"/>
              <p:cNvSpPr txBox="1"/>
              <p:nvPr/>
            </p:nvSpPr>
            <p:spPr>
              <a:xfrm>
                <a:off x="684360" y="333360"/>
                <a:ext cx="38289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8"/>
              <p:cNvSpPr txBox="1"/>
              <p:nvPr/>
            </p:nvSpPr>
            <p:spPr>
              <a:xfrm>
                <a:off x="5005440" y="333360"/>
                <a:ext cx="31957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9"/>
              <p:cNvSpPr txBox="1"/>
              <p:nvPr/>
            </p:nvSpPr>
            <p:spPr>
              <a:xfrm>
                <a:off x="539640" y="1628640"/>
                <a:ext cx="477684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6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</m:den>
                        </m:f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410" name="Object 11"/>
          <p:cNvGraphicFramePr/>
          <p:nvPr/>
        </p:nvGraphicFramePr>
        <p:xfrm>
          <a:off x="5869080" y="1916280"/>
          <a:ext cx="1474560" cy="8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9080" y="1916280"/>
                    <a:ext cx="147456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12" name="Объект 2"/>
              <p:cNvSpPr txBox="1"/>
              <p:nvPr/>
            </p:nvSpPr>
            <p:spPr>
              <a:xfrm>
                <a:off x="1863720" y="3068640"/>
                <a:ext cx="5835600" cy="34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=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65</m:t>
                                </m:r>
                              </m:den>
                            </m:f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6</m:t>
                                </m:r>
                              </m:den>
                            </m:f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0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рямоугольник 2"/>
          <p:cNvSpPr/>
          <p:nvPr/>
        </p:nvSpPr>
        <p:spPr>
          <a:xfrm>
            <a:off x="108000" y="404640"/>
            <a:ext cx="856944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3d68"/>
                </a:solidFill>
                <a:latin typeface="Arial"/>
              </a:rPr>
              <a:t>Пример .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Разложить  дробь  на сумму простейших рациональных дробей  и  найти  коэффициенты раз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3d68"/>
                </a:solidFill>
                <a:latin typeface="Arial"/>
              </a:rPr>
              <a:t>Решение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обь 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правильная. Ее знаменатель имеет вид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чем у квадратного трехчлена                         дискриминант меньше нуля,  и он не разлагается на линейные множители с действительными  коэффициент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83d68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2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Объект 4"/>
              <p:cNvSpPr txBox="1"/>
              <p:nvPr/>
            </p:nvSpPr>
            <p:spPr>
              <a:xfrm>
                <a:off x="2413080" y="1484280"/>
                <a:ext cx="36716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6" name="Rectangle 14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Объект 6"/>
              <p:cNvSpPr txBox="1"/>
              <p:nvPr/>
            </p:nvSpPr>
            <p:spPr>
              <a:xfrm>
                <a:off x="1368360" y="3500280"/>
                <a:ext cx="59403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Объект 8"/>
              <p:cNvSpPr txBox="1"/>
              <p:nvPr/>
            </p:nvSpPr>
            <p:spPr>
              <a:xfrm>
                <a:off x="5076720" y="4221000"/>
                <a:ext cx="22320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9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1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Объект 4"/>
              <p:cNvSpPr txBox="1"/>
              <p:nvPr/>
            </p:nvSpPr>
            <p:spPr>
              <a:xfrm>
                <a:off x="36360" y="260280"/>
                <a:ext cx="86472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2" name="Rectangle 14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Объект 6"/>
              <p:cNvSpPr txBox="1"/>
              <p:nvPr/>
            </p:nvSpPr>
            <p:spPr>
              <a:xfrm>
                <a:off x="1332000" y="1457280"/>
                <a:ext cx="26859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/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4" name="TextBox 7"/>
          <p:cNvSpPr/>
          <p:nvPr/>
        </p:nvSpPr>
        <p:spPr>
          <a:xfrm>
            <a:off x="328680" y="14842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6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Объект 9"/>
              <p:cNvSpPr txBox="1"/>
              <p:nvPr/>
            </p:nvSpPr>
            <p:spPr>
              <a:xfrm>
                <a:off x="1604880" y="2852640"/>
                <a:ext cx="651204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x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</m:d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7" name="Прямоугольник 10"/>
          <p:cNvSpPr/>
          <p:nvPr/>
        </p:nvSpPr>
        <p:spPr>
          <a:xfrm>
            <a:off x="252360" y="198900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оиска коэффициентов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приведем   к общему знаменателю и приравняем числит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Объект 12"/>
              <p:cNvSpPr txBox="1"/>
              <p:nvPr/>
            </p:nvSpPr>
            <p:spPr>
              <a:xfrm>
                <a:off x="1668600" y="5445000"/>
                <a:ext cx="312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9" name="Прямоугольник 14"/>
          <p:cNvSpPr/>
          <p:nvPr/>
        </p:nvSpPr>
        <p:spPr>
          <a:xfrm>
            <a:off x="36360" y="4292640"/>
            <a:ext cx="48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м правило: многочлены равны, если равны коэффициенты при одинаковых степенях       .   Это приводит к систе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1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Объект 16"/>
              <p:cNvSpPr txBox="1"/>
              <p:nvPr/>
            </p:nvSpPr>
            <p:spPr>
              <a:xfrm>
                <a:off x="4861080" y="4149720"/>
                <a:ext cx="3516120" cy="24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 </m:t>
                            </m:r>
                            <m:r>
                              <m:t xml:space="preserve">4</m:t>
                            </m:r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:</m:t>
                            </m:r>
                            <m:r>
                              <m:t xml:space="preserve"> </m:t>
                            </m:r>
                            <m:r>
                              <m:t xml:space="preserve">5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B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Объект 17"/>
              <p:cNvSpPr txBox="1"/>
              <p:nvPr/>
            </p:nvSpPr>
            <p:spPr>
              <a:xfrm>
                <a:off x="152280" y="609480"/>
                <a:ext cx="12384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485280" y="333000"/>
            <a:ext cx="79758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дставив найденные числа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А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В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С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D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в разложение, приходим к равенству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Объект 6"/>
              <p:cNvSpPr txBox="1"/>
              <p:nvPr/>
            </p:nvSpPr>
            <p:spPr>
              <a:xfrm>
                <a:off x="868320" y="549360"/>
                <a:ext cx="183204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  <m:r>
                              <m:t xml:space="preserve">=</m:t>
                            </m:r>
                            <m:r>
                              <m:t xml:space="preserve">5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6" name="Rectangle 4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Объект 8"/>
              <p:cNvSpPr txBox="1"/>
              <p:nvPr/>
            </p:nvSpPr>
            <p:spPr>
              <a:xfrm>
                <a:off x="2989440" y="1341360"/>
                <a:ext cx="4651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8" name="Rectangle 6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Объект 10"/>
              <p:cNvSpPr txBox="1"/>
              <p:nvPr/>
            </p:nvSpPr>
            <p:spPr>
              <a:xfrm>
                <a:off x="3852720" y="620640"/>
                <a:ext cx="9874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0" name="Rectangle 11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Объект 12"/>
              <p:cNvSpPr txBox="1"/>
              <p:nvPr/>
            </p:nvSpPr>
            <p:spPr>
              <a:xfrm>
                <a:off x="900000" y="3860640"/>
                <a:ext cx="30704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Rectangle 13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Объект 14"/>
              <p:cNvSpPr txBox="1"/>
              <p:nvPr/>
            </p:nvSpPr>
            <p:spPr>
              <a:xfrm>
                <a:off x="3943440" y="3860640"/>
                <a:ext cx="34383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Прямоугольник 6" descr=""/>
          <p:cNvPicPr/>
          <p:nvPr/>
        </p:nvPicPr>
        <p:blipFill>
          <a:blip r:embed="rId1"/>
          <a:stretch/>
        </p:blipFill>
        <p:spPr>
          <a:xfrm>
            <a:off x="743040" y="1427040"/>
            <a:ext cx="70657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480960" y="133200"/>
            <a:ext cx="7705800" cy="11592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85280" y="1213920"/>
            <a:ext cx="79470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Теорема (основная теорема алгебры).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Любое уравнение вид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меет  ровно        корней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(действительных или комплексных, простых ил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ратных) и может быть представлен в вид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зложения на линейные множители: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48" name="Object 2"/>
          <p:cNvGraphicFramePr/>
          <p:nvPr/>
        </p:nvGraphicFramePr>
        <p:xfrm>
          <a:off x="3421080" y="1917720"/>
          <a:ext cx="4836960" cy="100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21080" y="1917720"/>
                    <a:ext cx="483696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3"/>
          <p:cNvGraphicFramePr/>
          <p:nvPr/>
        </p:nvGraphicFramePr>
        <p:xfrm>
          <a:off x="2844720" y="3068640"/>
          <a:ext cx="365040" cy="420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1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44720" y="3068640"/>
                    <a:ext cx="36504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Rectangle 5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Object 4"/>
          <p:cNvGraphicFramePr/>
          <p:nvPr/>
        </p:nvGraphicFramePr>
        <p:xfrm>
          <a:off x="4716360" y="2924280"/>
          <a:ext cx="1351080" cy="541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4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16360" y="2924280"/>
                    <a:ext cx="1351080" cy="54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6"/>
          <p:cNvGraphicFramePr/>
          <p:nvPr/>
        </p:nvGraphicFramePr>
        <p:xfrm>
          <a:off x="601560" y="5043600"/>
          <a:ext cx="7427880" cy="684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6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1560" y="5043600"/>
                    <a:ext cx="742788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85280" y="70920"/>
            <a:ext cx="8161560" cy="657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где                                корни уравнени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-231840" algn="just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Определение.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Говорят, что корень             имеет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кратность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 если множитель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ходит в разложение              раз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реди корней могут быть действительные разные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действительные кратные и комплексные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-23184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rebuchet MS"/>
              </a:rPr>
              <a:t>С в о й с т в о  1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.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Если многочлен             имеет комплексный корень                  (где               )  кратности        , то этот многочлен имеет также сопряженный корень                 ,  кратность которого равна             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-2318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-2318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-2318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3184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0" y="0"/>
            <a:ext cx="972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3"/>
          <p:cNvGraphicFramePr/>
          <p:nvPr/>
        </p:nvGraphicFramePr>
        <p:xfrm>
          <a:off x="1217520" y="0"/>
          <a:ext cx="259884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7520" y="0"/>
                    <a:ext cx="259884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Rectangle 5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Object 4"/>
          <p:cNvGraphicFramePr/>
          <p:nvPr/>
        </p:nvGraphicFramePr>
        <p:xfrm>
          <a:off x="6789600" y="642960"/>
          <a:ext cx="411480" cy="51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9600" y="642960"/>
                    <a:ext cx="41148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Rectangle 7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Object 6"/>
          <p:cNvGraphicFramePr/>
          <p:nvPr/>
        </p:nvGraphicFramePr>
        <p:xfrm>
          <a:off x="3646440" y="1285920"/>
          <a:ext cx="1746360" cy="51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46440" y="1285920"/>
                    <a:ext cx="174636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Rectangle 9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Object 8"/>
          <p:cNvGraphicFramePr/>
          <p:nvPr/>
        </p:nvGraphicFramePr>
        <p:xfrm>
          <a:off x="860400" y="1928880"/>
          <a:ext cx="1123920" cy="511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9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60400" y="1928880"/>
                    <a:ext cx="11239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Object 10"/>
          <p:cNvGraphicFramePr/>
          <p:nvPr/>
        </p:nvGraphicFramePr>
        <p:xfrm>
          <a:off x="5646600" y="1928880"/>
          <a:ext cx="1175040" cy="539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1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46600" y="1928880"/>
                    <a:ext cx="117504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11"/>
          <p:cNvGraphicFramePr/>
          <p:nvPr/>
        </p:nvGraphicFramePr>
        <p:xfrm>
          <a:off x="6361200" y="3929040"/>
          <a:ext cx="846000" cy="539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3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361200" y="3929040"/>
                    <a:ext cx="84600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Rectangle 13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12"/>
          <p:cNvGraphicFramePr/>
          <p:nvPr/>
        </p:nvGraphicFramePr>
        <p:xfrm>
          <a:off x="4361040" y="4500720"/>
          <a:ext cx="987120" cy="45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6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361040" y="4500720"/>
                    <a:ext cx="987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Rectangle 15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Object 14"/>
          <p:cNvGraphicFramePr/>
          <p:nvPr/>
        </p:nvGraphicFramePr>
        <p:xfrm>
          <a:off x="6805440" y="4581360"/>
          <a:ext cx="978120" cy="478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9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805440" y="4581360"/>
                    <a:ext cx="97812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17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Object 16"/>
          <p:cNvGraphicFramePr/>
          <p:nvPr/>
        </p:nvGraphicFramePr>
        <p:xfrm>
          <a:off x="2503440" y="5143680"/>
          <a:ext cx="457200" cy="502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82" name="Object 1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503440" y="5143680"/>
                    <a:ext cx="457200" cy="50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19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Object 18"/>
          <p:cNvGraphicFramePr/>
          <p:nvPr/>
        </p:nvGraphicFramePr>
        <p:xfrm>
          <a:off x="4361040" y="5715000"/>
          <a:ext cx="987120" cy="457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85" name="Object 1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361040" y="5715000"/>
                    <a:ext cx="987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Object 21"/>
          <p:cNvGraphicFramePr/>
          <p:nvPr/>
        </p:nvGraphicFramePr>
        <p:xfrm>
          <a:off x="3503520" y="6310440"/>
          <a:ext cx="457200" cy="503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87" name="Object 2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503520" y="6310440"/>
                    <a:ext cx="4572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85640" y="428760"/>
            <a:ext cx="80899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С в о й с т в о   2.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Если оставить в перечне корней многочлена          только различные корни и учесть их кратность, то  этот многочлен можно представить в виде произведе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исла                                                  ,   в данно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зложении  являются действительными,  причем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89" name="Object 2"/>
          <p:cNvGraphicFramePr/>
          <p:nvPr/>
        </p:nvGraphicFramePr>
        <p:xfrm>
          <a:off x="3860640" y="1143000"/>
          <a:ext cx="846360" cy="53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60640" y="1143000"/>
                    <a:ext cx="84636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Rectangle 4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Object 3"/>
          <p:cNvGraphicFramePr/>
          <p:nvPr/>
        </p:nvGraphicFramePr>
        <p:xfrm>
          <a:off x="289080" y="2876400"/>
          <a:ext cx="8162640" cy="112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080" y="2876400"/>
                    <a:ext cx="8162640" cy="11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Rectangle 6"/>
          <p:cNvSpPr/>
          <p:nvPr/>
        </p:nvSpPr>
        <p:spPr>
          <a:xfrm>
            <a:off x="0" y="0"/>
            <a:ext cx="972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5"/>
          <p:cNvGraphicFramePr/>
          <p:nvPr/>
        </p:nvGraphicFramePr>
        <p:xfrm>
          <a:off x="574560" y="4214880"/>
          <a:ext cx="4122720" cy="50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6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4560" y="4214880"/>
                    <a:ext cx="412272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8"/>
          <p:cNvGraphicFramePr/>
          <p:nvPr/>
        </p:nvGraphicFramePr>
        <p:xfrm>
          <a:off x="1789200" y="4844880"/>
          <a:ext cx="4471920" cy="51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8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89200" y="4844880"/>
                    <a:ext cx="447192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Object 9"/>
          <p:cNvGraphicFramePr/>
          <p:nvPr/>
        </p:nvGraphicFramePr>
        <p:xfrm>
          <a:off x="1336680" y="5961240"/>
          <a:ext cx="5808600" cy="539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0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36680" y="5961240"/>
                    <a:ext cx="580860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480960" y="231840"/>
            <a:ext cx="8759880" cy="5364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85640" y="981000"/>
            <a:ext cx="81201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Теорема.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статок          от деления многочлена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   функцию            равен          .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Доказательство.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делим многочлен          на   линейную функцию          , получим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где             многочлен степени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статок от делени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дставляя в формулу                 , получим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тсюда  имеем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Объект 8"/>
              <p:cNvSpPr txBox="1"/>
              <p:nvPr/>
            </p:nvSpPr>
            <p:spPr>
              <a:xfrm>
                <a:off x="6732720" y="1989000"/>
                <a:ext cx="6969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Объект 11"/>
              <p:cNvSpPr txBox="1"/>
              <p:nvPr/>
            </p:nvSpPr>
            <p:spPr>
              <a:xfrm>
                <a:off x="3927600" y="1484280"/>
                <a:ext cx="861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Объект 12"/>
              <p:cNvSpPr txBox="1"/>
              <p:nvPr/>
            </p:nvSpPr>
            <p:spPr>
              <a:xfrm>
                <a:off x="6072120" y="1519200"/>
                <a:ext cx="66060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Объект 15"/>
              <p:cNvSpPr txBox="1"/>
              <p:nvPr/>
            </p:nvSpPr>
            <p:spPr>
              <a:xfrm>
                <a:off x="757080" y="1557360"/>
                <a:ext cx="6955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Объект 16"/>
              <p:cNvSpPr txBox="1"/>
              <p:nvPr/>
            </p:nvSpPr>
            <p:spPr>
              <a:xfrm>
                <a:off x="3708360" y="2421000"/>
                <a:ext cx="862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Объект 17"/>
              <p:cNvSpPr txBox="1"/>
              <p:nvPr/>
            </p:nvSpPr>
            <p:spPr>
              <a:xfrm>
                <a:off x="1863720" y="2827440"/>
                <a:ext cx="4538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Объект 18"/>
              <p:cNvSpPr txBox="1"/>
              <p:nvPr/>
            </p:nvSpPr>
            <p:spPr>
              <a:xfrm>
                <a:off x="1260360" y="3284640"/>
                <a:ext cx="10652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Объект 19"/>
              <p:cNvSpPr txBox="1"/>
              <p:nvPr/>
            </p:nvSpPr>
            <p:spPr>
              <a:xfrm>
                <a:off x="5653080" y="3357720"/>
                <a:ext cx="134316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&lt;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Объект 21"/>
              <p:cNvSpPr txBox="1"/>
              <p:nvPr/>
            </p:nvSpPr>
            <p:spPr>
              <a:xfrm>
                <a:off x="3637080" y="1052640"/>
                <a:ext cx="6588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Объект 22"/>
              <p:cNvSpPr txBox="1"/>
              <p:nvPr/>
            </p:nvSpPr>
            <p:spPr>
              <a:xfrm>
                <a:off x="4286160" y="4292640"/>
                <a:ext cx="4302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Объект 23"/>
              <p:cNvSpPr txBox="1"/>
              <p:nvPr/>
            </p:nvSpPr>
            <p:spPr>
              <a:xfrm>
                <a:off x="4932360" y="4373640"/>
                <a:ext cx="709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Объект 24"/>
              <p:cNvSpPr txBox="1"/>
              <p:nvPr/>
            </p:nvSpPr>
            <p:spPr>
              <a:xfrm>
                <a:off x="2071800" y="4797360"/>
                <a:ext cx="4235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Объект 25"/>
              <p:cNvSpPr txBox="1"/>
              <p:nvPr/>
            </p:nvSpPr>
            <p:spPr>
              <a:xfrm>
                <a:off x="3060720" y="5708520"/>
                <a:ext cx="23083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Заголовок 1" descr=""/>
          <p:cNvPicPr/>
          <p:nvPr/>
        </p:nvPicPr>
        <p:blipFill>
          <a:blip r:embed="rId1"/>
          <a:stretch/>
        </p:blipFill>
        <p:spPr>
          <a:xfrm>
            <a:off x="480960" y="-49320"/>
            <a:ext cx="8759880" cy="6462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485280" y="1125000"/>
            <a:ext cx="8047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исло    является корнем многочлена       только и только тогда, когда          делится н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ез остатк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 algn="just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вободный член многочлена делится на любой целый корень многочлена с целыми коэффициентами равен 1, то все рациональные корни являются и целы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-250920" algn="just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усть    целый корень приведенного многочлен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 целыми коэффициентами. Тогда дл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любого целого    число          делится н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0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8" name="Picture 7" descr="P(x)"/>
          <p:cNvPicPr/>
          <p:nvPr/>
        </p:nvPicPr>
        <p:blipFill>
          <a:blip r:embed="rId2"/>
          <a:stretch/>
        </p:blipFill>
        <p:spPr>
          <a:xfrm>
            <a:off x="10131480" y="-196920"/>
            <a:ext cx="380880" cy="2001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P(x)=0"/>
          <p:cNvPicPr/>
          <p:nvPr/>
        </p:nvPicPr>
        <p:blipFill>
          <a:blip r:embed="rId3"/>
          <a:stretch/>
        </p:blipFill>
        <p:spPr>
          <a:xfrm>
            <a:off x="14009760" y="-196920"/>
            <a:ext cx="733320" cy="200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20" name="Объект 6"/>
              <p:cNvSpPr txBox="1"/>
              <p:nvPr/>
            </p:nvSpPr>
            <p:spPr>
              <a:xfrm>
                <a:off x="1908000" y="1268280"/>
                <a:ext cx="220680" cy="2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Объект 8"/>
              <p:cNvSpPr txBox="1"/>
              <p:nvPr/>
            </p:nvSpPr>
            <p:spPr>
              <a:xfrm>
                <a:off x="6732720" y="1197000"/>
                <a:ext cx="6951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Объект 9"/>
              <p:cNvSpPr txBox="1"/>
              <p:nvPr/>
            </p:nvSpPr>
            <p:spPr>
              <a:xfrm>
                <a:off x="4429080" y="1557360"/>
                <a:ext cx="6955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Объект 10"/>
              <p:cNvSpPr txBox="1"/>
              <p:nvPr/>
            </p:nvSpPr>
            <p:spPr>
              <a:xfrm>
                <a:off x="7164360" y="1557360"/>
                <a:ext cx="86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Объект 11"/>
              <p:cNvSpPr txBox="1"/>
              <p:nvPr/>
            </p:nvSpPr>
            <p:spPr>
              <a:xfrm>
                <a:off x="1692360" y="4302000"/>
                <a:ext cx="4824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Объект 12"/>
              <p:cNvSpPr txBox="1"/>
              <p:nvPr/>
            </p:nvSpPr>
            <p:spPr>
              <a:xfrm>
                <a:off x="900000" y="4653000"/>
                <a:ext cx="760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Объект 13"/>
              <p:cNvSpPr txBox="1"/>
              <p:nvPr/>
            </p:nvSpPr>
            <p:spPr>
              <a:xfrm>
                <a:off x="3205080" y="5084640"/>
                <a:ext cx="2541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Объект 14"/>
              <p:cNvSpPr txBox="1"/>
              <p:nvPr/>
            </p:nvSpPr>
            <p:spPr>
              <a:xfrm>
                <a:off x="1405080" y="5589720"/>
                <a:ext cx="861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Объект 15"/>
              <p:cNvSpPr txBox="1"/>
              <p:nvPr/>
            </p:nvSpPr>
            <p:spPr>
              <a:xfrm>
                <a:off x="4460760" y="5132520"/>
                <a:ext cx="760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Заголовок 1" descr=""/>
          <p:cNvPicPr/>
          <p:nvPr/>
        </p:nvPicPr>
        <p:blipFill>
          <a:blip r:embed="rId1"/>
          <a:stretch/>
        </p:blipFill>
        <p:spPr>
          <a:xfrm>
            <a:off x="480960" y="268200"/>
            <a:ext cx="8759880" cy="1006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108000" y="1600200"/>
            <a:ext cx="8424720" cy="1541520"/>
          </a:xfrm>
          <a:prstGeom prst="rect">
            <a:avLst/>
          </a:prstGeom>
          <a:gradFill rotWithShape="0">
            <a:gsLst>
              <a:gs pos="0">
                <a:srgbClr val="f4e7ed"/>
              </a:gs>
              <a:gs pos="100000">
                <a:srgbClr val="f5e0e5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34000"/>
          </a:bodyPr>
          <a:p>
            <a:pPr marL="92520" indent="-925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c1f34"/>
                </a:solidFill>
                <a:latin typeface="Trebuchet MS"/>
              </a:rPr>
              <a:t>Пример1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92520" indent="-9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зложить квадратный трехчлен  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92520" indent="-9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 множител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92520" indent="-925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c1f34"/>
                </a:solidFill>
                <a:latin typeface="Trebuchet MS"/>
              </a:rPr>
              <a:t>Решение.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йдем корни многочлена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92520" indent="-92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92520" indent="-92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92520" indent="-92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92520" indent="-92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92520" indent="-925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Пример 2. 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Разложить многочлен третьей степен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1" name="Рисунок 5" descr="формула"/>
          <p:cNvPicPr/>
          <p:nvPr/>
        </p:nvPicPr>
        <p:blipFill>
          <a:blip r:embed="rId2"/>
          <a:stretch/>
        </p:blipFill>
        <p:spPr>
          <a:xfrm>
            <a:off x="5724360" y="2060640"/>
            <a:ext cx="1764000" cy="468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"/>
          <p:cNvPicPr/>
          <p:nvPr/>
        </p:nvPicPr>
        <p:blipFill>
          <a:blip r:embed="rId3"/>
          <a:stretch/>
        </p:blipFill>
        <p:spPr>
          <a:xfrm>
            <a:off x="181080" y="3716280"/>
            <a:ext cx="3046320" cy="50472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9" descr="формула"/>
          <p:cNvPicPr/>
          <p:nvPr/>
        </p:nvPicPr>
        <p:blipFill>
          <a:blip r:embed="rId4"/>
          <a:stretch/>
        </p:blipFill>
        <p:spPr>
          <a:xfrm>
            <a:off x="3421080" y="3573360"/>
            <a:ext cx="1800360" cy="133200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10" descr="формула"/>
          <p:cNvPicPr/>
          <p:nvPr/>
        </p:nvPicPr>
        <p:blipFill>
          <a:blip r:embed="rId5"/>
          <a:stretch/>
        </p:blipFill>
        <p:spPr>
          <a:xfrm>
            <a:off x="5381640" y="3789360"/>
            <a:ext cx="2951280" cy="75564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11" descr="формула"/>
          <p:cNvPicPr/>
          <p:nvPr/>
        </p:nvPicPr>
        <p:blipFill>
          <a:blip r:embed="rId6"/>
          <a:stretch/>
        </p:blipFill>
        <p:spPr>
          <a:xfrm>
            <a:off x="3708360" y="6021360"/>
            <a:ext cx="176364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651960" y="260280"/>
            <a:ext cx="7947000" cy="584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Решение. </a:t>
            </a:r>
            <a:r>
              <a:rPr b="0" lang="ru-RU" sz="26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37" name="Рисунок 2" descr="формула"/>
          <p:cNvPicPr/>
          <p:nvPr/>
        </p:nvPicPr>
        <p:blipFill>
          <a:blip r:embed="rId1"/>
          <a:stretch/>
        </p:blipFill>
        <p:spPr>
          <a:xfrm>
            <a:off x="3205080" y="260280"/>
            <a:ext cx="3635280" cy="64764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3" descr="формула"/>
          <p:cNvPicPr/>
          <p:nvPr/>
        </p:nvPicPr>
        <p:blipFill>
          <a:blip r:embed="rId2"/>
          <a:stretch/>
        </p:blipFill>
        <p:spPr>
          <a:xfrm>
            <a:off x="252360" y="944640"/>
            <a:ext cx="3888000" cy="277164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4" descr="формула"/>
          <p:cNvPicPr/>
          <p:nvPr/>
        </p:nvPicPr>
        <p:blipFill>
          <a:blip r:embed="rId3"/>
          <a:stretch/>
        </p:blipFill>
        <p:spPr>
          <a:xfrm>
            <a:off x="4213080" y="3753000"/>
            <a:ext cx="442764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4:21:53Z</dcterms:created>
  <dc:creator>user</dc:creator>
  <dc:description/>
  <dc:language>en-US</dc:language>
  <cp:lastModifiedBy>MANYA</cp:lastModifiedBy>
  <dcterms:modified xsi:type="dcterms:W3CDTF">2014-09-25T18:55:09Z</dcterms:modified>
  <cp:revision>282</cp:revision>
  <dc:subject/>
  <dc:title>НЕПРЕРЫВНАЯ СЛУЧАЙНАЯ ВЕЛИЧИНА.</dc:title>
</cp:coreProperties>
</file>